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279-3E82-488F-B4C4-C6CD0364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8354-7A13-4D7F-A495-4F9A98D6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3D0-1AB5-43D1-A1E3-9D7976B3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A858-FA33-4BDC-8753-1AA86FC7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412-4B73-49E8-A0BE-42A8C7B1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DCE-72EF-4E50-BBB1-F2FC04A4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386-15B8-466B-95CD-AE78D24C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F0F-5508-49DA-97C7-787F86B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549-851A-4D03-97E6-DF37A951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340-8E86-451A-AAD6-9725EDB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0D7-A7A0-4C88-81E0-06F7AEE0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176-1639-482F-91DD-BCBE8D0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9325-7527-4943-B8AF-381F487706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 fattori protettivi del modello di consumo mediterraneo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5410080"/>
            <a:ext cx="5521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ma, 4 ottobre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ndazione S. Lucia IRC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67360" y="582480"/>
            <a:ext cx="82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Osservatorio Permanente sui Giovani e l’Al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93560" y="4238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f. Enrico Temp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variabili dell’alco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914400"/>
            <a:ext cx="8686800" cy="218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gni società il rapporto con le bevande alcoliche è segnato da un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nsieme di variabi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pendenti dalla sosta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1905120"/>
            <a:ext cx="6019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Individualita somato-psichica di ogni consumatore in una determinata collettività, che può carattérizzare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la sua differente sensibilità all’alc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variabili dell’alco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914400"/>
            <a:ext cx="8686800" cy="5986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gni società il rapporto con le bevande alcoliche è segnato da un 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insieme di variabi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pendenti dalla sostanz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riabili 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l’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905120"/>
            <a:ext cx="6019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Individualita somato-psichica di ogni consumatore in una determinata collettività, che può carattérizzare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3333cc"/>
                </a:solidFill>
                <a:latin typeface="Arial"/>
              </a:rPr>
              <a:t>la sua differente sensibilità all’alc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200400"/>
            <a:ext cx="58672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esto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oria e tra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delli di relazioni soci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orme e le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dizioni socio-econom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esto cultu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ermeabilità ai mutamenti cultur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desione ad altri mod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essione del mercato glob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appresentazioni simbol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fluenza dei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ue modalità di alcol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752480"/>
            <a:ext cx="2362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Alcolizzazione fisi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819520"/>
            <a:ext cx="38862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viluppo di un rapporto sano e responsabile con le bevande alcoliche che sono accettate come parte integrante della cultura sia nutrizionale (rito della nutrizione) sia della comunic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Due modalità di alcolizz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752480"/>
            <a:ext cx="236232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Alcolizzazione fisi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1676520"/>
            <a:ext cx="236196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lcolizzazione pat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2819520"/>
            <a:ext cx="3886200" cy="33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viluppo di un rapporto sano e responsabile con le bevande alcoliche che sono accettate come parte integrante della cultura sia nutrizionale (rito della nutrizione) sia della comunic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819520"/>
            <a:ext cx="380988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Rapporto qualitativo e quantitativo con le bevande alcoliche dove i  fattori individuali di vulnerabilita bio-psico-sociale che orientano i comportamenti verso una patologia giocano un ruolo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993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dalità di alcolizzazione rifletton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tipi di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371600"/>
            <a:ext cx="3048120" cy="760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tura “asciut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paesi nor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438280"/>
            <a:ext cx="3657600" cy="301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eno occasioni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inore quantità total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Concentrazion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el consumo </a:t>
            </a: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nei wee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Binge drinking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28600"/>
            <a:ext cx="7993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e modalità di alcolizzazione rifletton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tipi di cu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3048120" cy="760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ltura “asciut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paesi nor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1295280"/>
            <a:ext cx="2819520" cy="760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ultura “bagn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paesi sud europe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438280"/>
            <a:ext cx="3657600" cy="3010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eno occasioni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Minore quantità total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Concentrazione</a:t>
            </a:r>
            <a:r>
              <a:rPr b="0" lang="it-IT" sz="2200" spc="-1" strike="noStrike">
                <a:solidFill>
                  <a:srgbClr val="ffff00"/>
                </a:solidFill>
                <a:latin typeface="Arial"/>
              </a:rPr>
              <a:t> del consumo </a:t>
            </a: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nei week 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ff00"/>
                </a:solidFill>
                <a:uFillTx/>
                <a:latin typeface="Arial"/>
              </a:rPr>
              <a:t>Binge drinking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286000"/>
            <a:ext cx="4419720" cy="3634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Più occasioni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di consu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Maggiore quantita totale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d’alcool consum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L’alcool è un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aspetto della vita quotidiana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a partire dall’infanz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Il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consumo 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d’alcool fa parte di un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comportamento socialmente accettato 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se resta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nei</a:t>
            </a:r>
            <a:r>
              <a:rPr b="0" lang="it-IT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it-IT" sz="2200" spc="-1" strike="noStrike" u="sng">
                <a:solidFill>
                  <a:srgbClr val="3333cc"/>
                </a:solidFill>
                <a:uFillTx/>
                <a:latin typeface="Arial"/>
              </a:rPr>
              <a:t>limiti della modera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fattori dell’alcolizzazione fisiologica: il ruolo della fami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2492280"/>
            <a:ext cx="7842240" cy="265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contatto con le bevande alcoliche nel  passaggio dall’infanzia all’adolescenza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ediato dal collettivo famili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he, direttamente e/o indirettamente, stabilisc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r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on scrit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i comportame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ntroll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relazione al rapporto con l’al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fattori dell’alcolizzazione fisiologica: la famiglia e il contesto so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’autorizzazione famili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l’accesso 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’accettazione socia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 consumo di bevande alcoliche (anche se nel rispetto della legge) durante le tappe della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rescita adolescenzia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permettono al giovane d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eriment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l propri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mite di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di imparare cosi 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iorizzare un comportam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i consumo  responsab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7848360" cy="16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76520"/>
            <a:ext cx="7848360" cy="276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76520"/>
            <a:ext cx="7848360" cy="383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,6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ha riporta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episodio di ubriachez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Un esempio di alcolizzazione fisiologica: l’It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76520"/>
            <a:ext cx="7848360" cy="491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 giovani consumatori italiani fra 15 e 24 anni sono molti (76,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numero dei giovani consumator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risch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tatisticamente insign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8,6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ha riportat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episodio di ubriachez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olo 1,3%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i giovani consumatori si è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briaca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iù vol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3 m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attori protettivi delle culture “bagn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905120"/>
            <a:ext cx="243828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tor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600200"/>
            <a:ext cx="4952880" cy="131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e famili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alcool fa parte della di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mo ai p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ima alcolizzazione in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057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attori protettivi delle culture “bagna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2438280" cy="825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attori tradi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600200"/>
            <a:ext cx="4952880" cy="131364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stituzione famili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alcool fa parte della di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umo ai pa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ima alcolizzazione in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05740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267080"/>
            <a:ext cx="2232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ovi fat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49568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3733920"/>
            <a:ext cx="4952880" cy="25333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 e bar come luoghi di incontro dei giov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a tolleranza per l’ubriachezza da parte del gruppo dei p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ostamento dalla quantità alla qu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us sociale (glamou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e di vita s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514600"/>
            <a:ext cx="3047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DUZIONE d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b"/>
                </a:solidFill>
                <a:latin typeface="Times New Roman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419720"/>
            <a:ext cx="432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zione precoce della vulnerabilita individ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uzione del d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tione dei modelli imi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733920"/>
            <a:ext cx="9903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447920"/>
            <a:ext cx="8610480" cy="825480"/>
          </a:xfrm>
          <a:prstGeom prst="rect">
            <a:avLst/>
          </a:prstGeom>
          <a:solidFill>
            <a:srgbClr val="3399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ec12"/>
                </a:solidFill>
                <a:latin typeface="Times New Roman"/>
              </a:rPr>
              <a:t>PER PREVENIRE L’ABUSO SI DEVE LAVORARE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2514600"/>
            <a:ext cx="3047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DUZIONE d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b"/>
                </a:solidFill>
                <a:latin typeface="Times New Roman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2514600"/>
            <a:ext cx="358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NFORZO de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FATTORI PROT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4419720"/>
            <a:ext cx="432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cazione precoce della vulnerabilita individ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uzione del d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stione dei modelli imi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419720"/>
            <a:ext cx="3733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o moderato e respons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blicità orient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3733920"/>
            <a:ext cx="99036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33920"/>
            <a:ext cx="9907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828800"/>
            <a:ext cx="746784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diffusione crescente di bevande alcoliche fra i giovani, in particolare fra gli adolesc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828800"/>
            <a:ext cx="7467840" cy="391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diffusione crescente di bevande alcoliche fra i giovani, in particolare fra gli adoles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risultati di ricerche che mostrano come un consumo di alcool molto precoce favorisce lo sviluppo di comportamenti di abuso e dipendenza e l’insorgenza di problemi alcol-correlati nell’eta adu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’Europa e gli Stati Uniti sono in allarme pe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% in Danimarca, 38% nel Regno Unito, 33% in Finlandia, 24% in Sv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209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ESPAD 2000 dimostra che in Europa il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% dei giovani sotto i 13 anni ha già consumato alc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% in Danimarca, 38% nel Regno Unito, 33% in Finlandia, 24% in Sve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S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1911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% in Francia, 9% in Grecia, 7% in 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876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ando le percentuali di giovani sotto i 13 anni c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chiarano di essersi ubriaca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meno una volta negli ultimi 3 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209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uropa del N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 ci sono differenze sostanziali f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 dati sono indicativi di co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socio-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n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" y="2743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zionino tali differenze, che sono leg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71640" y="3716280"/>
            <a:ext cx="70038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E I GIOVANI IMPARANO A B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724280"/>
            <a:ext cx="83055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oè a come si sviluppa durante le fasi della crescita adolescenziale il rapporto con le bevande alcoliche (alcolizzazione) sia a livello individuale che coll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 dati sono indicativi di com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socio-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norm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0720" y="27432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zionino tali differenze, che sono lega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39:03Z</dcterms:created>
  <dc:creator>simona</dc:creator>
  <dc:description/>
  <dc:language>en-US</dc:language>
  <cp:lastModifiedBy> </cp:lastModifiedBy>
  <dcterms:modified xsi:type="dcterms:W3CDTF">2004-09-30T11:26:14Z</dcterms:modified>
  <cp:revision>38</cp:revision>
  <dc:subject/>
  <dc:title>Alcoolisation fisiologique, alcoolisation pathologique  </dc:title>
</cp:coreProperties>
</file>