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640" y="1079280"/>
            <a:ext cx="79185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507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9640" y="1079280"/>
            <a:ext cx="79185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07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emcdda.eu.int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40040" y="0"/>
            <a:ext cx="7203960" cy="6861240"/>
          </a:xfrm>
          <a:custGeom>
            <a:avLst/>
            <a:gdLst/>
            <a:ahLst/>
            <a:rect l="l" t="t" r="r" b="b"/>
            <a:pathLst>
              <a:path w="4538" h="4322">
                <a:moveTo>
                  <a:pt x="4538" y="0"/>
                </a:moveTo>
                <a:cubicBezTo>
                  <a:pt x="3902" y="0"/>
                  <a:pt x="2544" y="2"/>
                  <a:pt x="1632" y="2"/>
                </a:cubicBezTo>
                <a:cubicBezTo>
                  <a:pt x="1092" y="974"/>
                  <a:pt x="420" y="2582"/>
                  <a:pt x="0" y="4322"/>
                </a:cubicBezTo>
                <a:cubicBezTo>
                  <a:pt x="1284" y="4322"/>
                  <a:pt x="3938" y="4322"/>
                  <a:pt x="4538" y="4322"/>
                </a:cubicBezTo>
                <a:cubicBezTo>
                  <a:pt x="4538" y="3398"/>
                  <a:pt x="4538" y="1116"/>
                  <a:pt x="4538" y="0"/>
                </a:cubicBezTo>
                <a:close/>
              </a:path>
            </a:pathLst>
          </a:custGeom>
          <a:solidFill>
            <a:srgbClr val="5166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07928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38720"/>
            <a:ext cx="9144000" cy="719280"/>
          </a:xfrm>
          <a:prstGeom prst="rect">
            <a:avLst/>
          </a:prstGeom>
          <a:solidFill>
            <a:srgbClr val="375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logosmall" descr=""/>
          <p:cNvPicPr/>
          <p:nvPr/>
        </p:nvPicPr>
        <p:blipFill>
          <a:blip r:embed="rId2"/>
          <a:stretch/>
        </p:blipFill>
        <p:spPr>
          <a:xfrm>
            <a:off x="8348760" y="6261120"/>
            <a:ext cx="457200" cy="455760"/>
          </a:xfrm>
          <a:prstGeom prst="rect">
            <a:avLst/>
          </a:prstGeom>
          <a:ln w="0">
            <a:noFill/>
          </a:ln>
        </p:spPr>
      </p:pic>
      <p:pic>
        <p:nvPicPr>
          <p:cNvPr id="5" name="webaddres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6400800"/>
            <a:ext cx="1322280" cy="128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81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324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Gregor Burkhart - </a:t>
            </a:r>
            <a:fld id="{DA262E13-0058-45F2-9994-94BB1C3DB94B}" type="slidenum">
              <a:rPr b="0" lang="de-DE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24852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6a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19280" y="3047760"/>
            <a:ext cx="647856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pt_template_EN" descr=""/>
          <p:cNvPicPr/>
          <p:nvPr/>
        </p:nvPicPr>
        <p:blipFill>
          <a:blip r:embed="rId1"/>
          <a:stretch/>
        </p:blipFill>
        <p:spPr>
          <a:xfrm>
            <a:off x="-3240" y="-324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361960"/>
            <a:ext cx="72597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399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00"/>
                </a:solidFill>
                <a:latin typeface="Arial"/>
              </a:rPr>
              <a:t>Universal and selective prevention</a:t>
            </a: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European overview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19280" y="5865840"/>
            <a:ext cx="647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regor Burkhart,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álaga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30 October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98200" y="4749840"/>
            <a:ext cx="398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Verdana"/>
              </a:rPr>
              <a:t>www.emcdda.eu.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1880" y="86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3356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0" y="0"/>
          <a:ext cx="914400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57440" y="16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5744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0" y="-1440"/>
          <a:ext cx="9144000" cy="602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"/>
                    <a:ext cx="914400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0520" y="1066680"/>
            <a:ext cx="845820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cerned 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rug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blems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not drug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us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dresses groups which aren't reached by universal prevention (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ants)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or which don‘t resp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tter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tch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specific needs of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ulnerabl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centrat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sources where most neede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and connects better to other social inter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ulnerable youth are difficult to identify directly and ofte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‘t consider them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lves at r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es Risk-Protective-Factor models more specifically, e.g.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Hawkins-Catalano</a:t>
            </a: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 !!! – Cave: mostly retrospective !!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sk factors for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ug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are not necessarily the same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ab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aybe more expensive per person reached (more intensive, more time, more institutions involv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II.) 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Selective prevention</a:t>
            </a: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, what for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86800" y="42670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Social development model (Catalano-Hawkins)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57800" y="838080"/>
            <a:ext cx="3886200" cy="5257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Indic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Family cohes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arental / family problems percep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cial support percep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Health behaviour and social integratio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Adaptation (inadequate socialization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blem facing ski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Social ski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Motivation and school attend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Attachment to parents and fami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Attachment to conventional institu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838080"/>
            <a:ext cx="5105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Focus on high risk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ow bonding to conventional institutions (family, school, pe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ow psychosocial or academic competen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ow reinforcement for positive behaviour (by teachers or par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Integration into deviant groups and drug u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Not gender-specific, the sequence is questioned (Flay &amp; Petraiti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previousslide"/>
          </p:cNvPr>
          <p:cNvSpPr/>
          <p:nvPr/>
        </p:nvSpPr>
        <p:spPr>
          <a:xfrm>
            <a:off x="64008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ruants (academic failu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ng offe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thnic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perimenting y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e2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ce2a2"/>
                </a:solidFill>
                <a:latin typeface="Arial"/>
              </a:rPr>
              <a:t>Party goers </a:t>
            </a:r>
            <a:br>
              <a:rPr sz="3200"/>
            </a:br>
            <a:r>
              <a:rPr b="0" lang="en-GB" sz="3200" spc="-1" strike="noStrike">
                <a:solidFill>
                  <a:srgbClr val="fce2a2"/>
                </a:solidFill>
                <a:latin typeface="Arial"/>
              </a:rPr>
              <a:t>(ravers – Botelló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3429000"/>
            <a:ext cx="4114800" cy="3048120"/>
          </a:xfrm>
          <a:prstGeom prst="wedgeRoundRectCallout">
            <a:avLst>
              <a:gd name="adj1" fmla="val -59916"/>
              <a:gd name="adj2" fmla="val -26560"/>
              <a:gd name="adj3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993300"/>
                </a:solidFill>
                <a:latin typeface="Verdana"/>
              </a:rPr>
              <a:t>Often excluded from regular youth work or centr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Response in </a:t>
            </a:r>
            <a:r>
              <a:rPr b="0" lang="en-GB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N</a:t>
            </a:r>
            <a:r>
              <a:rPr b="0" lang="de-DE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O:</a:t>
            </a:r>
            <a:r>
              <a:rPr b="0" lang="en-GB" sz="2000" spc="-1" strike="noStrike">
                <a:solidFill>
                  <a:srgbClr val="993300"/>
                </a:solidFill>
                <a:latin typeface="Arial"/>
                <a:ea typeface="Times New Roman"/>
              </a:rPr>
              <a:t> Most municipalities have outreach services providing counselling, support and referral services for young people with drug problem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281952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Less" w="21600" h="25924">
                <a:moveTo>
                  <a:pt x="5273" y="6147"/>
                </a:moveTo>
                <a:lnTo>
                  <a:pt x="12271" y="6147"/>
                </a:lnTo>
                <a:lnTo>
                  <a:pt x="16327" y="9646"/>
                </a:lnTo>
                <a:lnTo>
                  <a:pt x="16327" y="19777"/>
                </a:lnTo>
                <a:lnTo>
                  <a:pt x="5273" y="19777"/>
                </a:lnTo>
                <a:close/>
              </a:path>
              <a:path fill="darken" w="21600" h="25924">
                <a:moveTo>
                  <a:pt x="12271" y="6147"/>
                </a:moveTo>
                <a:lnTo>
                  <a:pt x="16327" y="9646"/>
                </a:lnTo>
                <a:lnTo>
                  <a:pt x="12271" y="96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Selective prevention – main target groups in Europe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429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Less" w="21600" h="25924">
                <a:moveTo>
                  <a:pt x="5273" y="6147"/>
                </a:moveTo>
                <a:lnTo>
                  <a:pt x="12271" y="6147"/>
                </a:lnTo>
                <a:lnTo>
                  <a:pt x="16327" y="9646"/>
                </a:lnTo>
                <a:lnTo>
                  <a:pt x="16327" y="19777"/>
                </a:lnTo>
                <a:lnTo>
                  <a:pt x="5273" y="19777"/>
                </a:lnTo>
                <a:close/>
              </a:path>
              <a:path fill="darken" w="21600" h="25924">
                <a:moveTo>
                  <a:pt x="12271" y="6147"/>
                </a:moveTo>
                <a:lnTo>
                  <a:pt x="16327" y="9646"/>
                </a:lnTo>
                <a:lnTo>
                  <a:pt x="12271" y="96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22096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Less" w="21600" h="25924">
                <a:moveTo>
                  <a:pt x="5273" y="6147"/>
                </a:moveTo>
                <a:lnTo>
                  <a:pt x="12271" y="6147"/>
                </a:lnTo>
                <a:lnTo>
                  <a:pt x="16327" y="9646"/>
                </a:lnTo>
                <a:lnTo>
                  <a:pt x="16327" y="19777"/>
                </a:lnTo>
                <a:lnTo>
                  <a:pt x="5273" y="19777"/>
                </a:lnTo>
                <a:close/>
              </a:path>
              <a:path fill="darken" w="21600" h="25924">
                <a:moveTo>
                  <a:pt x="12271" y="6147"/>
                </a:moveTo>
                <a:lnTo>
                  <a:pt x="16327" y="9646"/>
                </a:lnTo>
                <a:lnTo>
                  <a:pt x="12271" y="964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e01496_" descr=""/>
          <p:cNvPicPr/>
          <p:nvPr/>
        </p:nvPicPr>
        <p:blipFill>
          <a:blip r:embed="rId1"/>
          <a:stretch/>
        </p:blipFill>
        <p:spPr>
          <a:xfrm>
            <a:off x="6781680" y="838080"/>
            <a:ext cx="2259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1 - Early school leaving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 and exclusion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5791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aly, Portugal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ai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 Norwa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alternative curricula and professional training programmes implem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eland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outhreach programme of second-chance education and training,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lternative to mainstream education programme. Based in local communities identified as having highest ne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K – project evaluation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rugs-education course; life-skills exercise; and diversionary activities.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per 15 a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ttp://www.drugs.gov.uk/ReportsandPublications/DPAS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19671_" descr=""/>
          <p:cNvPicPr/>
          <p:nvPr/>
        </p:nvPicPr>
        <p:blipFill>
          <a:blip r:embed="rId1"/>
          <a:stretch/>
        </p:blipFill>
        <p:spPr>
          <a:xfrm>
            <a:off x="5937120" y="1295280"/>
            <a:ext cx="32068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2 - Prevention of early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 school </a:t>
            </a:r>
            <a:r>
              <a:rPr b="0" lang="de-DE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leaving </a:t>
            </a:r>
            <a:r>
              <a:rPr b="1" i="1" lang="de-DE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in school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rmany and Austria: Step by Step - programmes to help teachers to identify at risk pupils. In Norway: a respective Hand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rance:  Reference Points – for prevention of risk behaviour in schools with targeted counselling taking place at break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eland and Italy: monitoring of attendance, contact to fami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e01605_" descr=""/>
          <p:cNvPicPr/>
          <p:nvPr/>
        </p:nvPicPr>
        <p:blipFill>
          <a:blip r:embed="rId1"/>
          <a:stretch/>
        </p:blipFill>
        <p:spPr>
          <a:xfrm>
            <a:off x="5334120" y="160020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Example truancy risk - EDDRA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Y (St. Aengus Stay-In-School Youth Project) – IRL,  age : 10-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able participants to remain in mainstream education -Needs based programme of activities to promote active co-operation between home, school and community agenc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velop personal and social skills: homework support club, computer classes, art, cooking, first aid, drug awareness and a range of outdoor pursu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cipants in the project over previous two years were still in mainstream education. Activities provided were well received (attendance rates of over 90%). Network had developed between project and organisations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6292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Young offenders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6553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nlan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 Luxembour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Law enforcement projects aim at early intervention with drug us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ermany FRED –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uctured programme fo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arly interventions with drug us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K Young Offenders: Youth Offending Teams (YOTs) – work to prevent re-offe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reece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al Crime Prevention Counci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aly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ecific national projec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evention interventions and psycho-social support.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ports activities, vocational training with traineeships and occupational reinsertion measures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bs00285_" descr=""/>
          <p:cNvPicPr/>
          <p:nvPr/>
        </p:nvPicPr>
        <p:blipFill>
          <a:blip r:embed="rId1"/>
          <a:stretch/>
        </p:blipFill>
        <p:spPr>
          <a:xfrm>
            <a:off x="6019920" y="609480"/>
            <a:ext cx="3352680" cy="4267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16292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Ethnicit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y itself not a risk factor for substance abuse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ow academic and/or socio-economic status, social exclusion, impaired communication capacity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ffering social norms and skills, l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w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community involvement accumulate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om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ethn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ulnerability factor have different weigh (SES in Afro-america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ifferent in each member state: Russian repatriates in Germany, Moroccans in Spai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ew responses: in Germany, Greece, UK and Sp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086600" y="5029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scar Wil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1371600"/>
            <a:ext cx="6705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de-DE" sz="6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„</a:t>
            </a:r>
            <a:r>
              <a:rPr b="0" i="1" lang="en-GB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All bad art is the result of good intentions</a:t>
            </a:r>
            <a:r>
              <a:rPr b="0" i="1" lang="de-DE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“</a:t>
            </a:r>
            <a:r>
              <a:rPr b="0" i="1" lang="en-GB" sz="6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EDDRA – Ethnicity – Spain 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large the circle of interpersonal relationships of immigrant children and youths, by practicing sports at a gym outside their usual enviro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egration, life style change and acceptance of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fter programme, 100% of the participating teenagers are integrated into the standard group of youths and initiate contacts with other teenagers of a different environment than thei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fore initiating the sport activity of the program, 60% of the teenagers smoked tobacco and 20% hashish. Once they begin to practice physical exercise in a regular way, this consumption is reduced in all cases. They don't stop smoking, but 40% of the participants reduced by half tobacco consump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5715000"/>
            <a:ext cx="838440" cy="533520"/>
          </a:xfrm>
          <a:custGeom>
            <a:avLst/>
            <a:gdLst>
              <a:gd name="textAreaLeft" fmla="*/ 34560 w 838440"/>
              <a:gd name="textAreaRight" fmla="*/ 803880 w 838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37" h="21600">
                <a:moveTo>
                  <a:pt x="0" y="0"/>
                </a:moveTo>
                <a:lnTo>
                  <a:pt x="33937" y="0"/>
                </a:lnTo>
                <a:lnTo>
                  <a:pt x="33937" y="21600"/>
                </a:lnTo>
                <a:lnTo>
                  <a:pt x="0" y="21600"/>
                </a:lnTo>
                <a:close/>
              </a:path>
              <a:path fill="lightenLess" w="33937" h="21600">
                <a:moveTo>
                  <a:pt x="0" y="0"/>
                </a:moveTo>
                <a:lnTo>
                  <a:pt x="33937" y="0"/>
                </a:lnTo>
                <a:lnTo>
                  <a:pt x="32537" y="1400"/>
                </a:lnTo>
                <a:lnTo>
                  <a:pt x="1400" y="1400"/>
                </a:lnTo>
                <a:close/>
              </a:path>
              <a:path fill="darken" w="33937" h="21600">
                <a:moveTo>
                  <a:pt x="33937" y="0"/>
                </a:moveTo>
                <a:lnTo>
                  <a:pt x="33937" y="21600"/>
                </a:lnTo>
                <a:lnTo>
                  <a:pt x="32537" y="20200"/>
                </a:lnTo>
                <a:lnTo>
                  <a:pt x="32537" y="1400"/>
                </a:lnTo>
                <a:close/>
              </a:path>
              <a:path fill="darkenLess" w="33937" h="21600">
                <a:moveTo>
                  <a:pt x="339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7" y="20200"/>
                </a:lnTo>
                <a:close/>
              </a:path>
              <a:path fill="lighten" w="339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7" h="21600">
                <a:moveTo>
                  <a:pt x="9962" y="10800"/>
                </a:moveTo>
                <a:lnTo>
                  <a:pt x="23975" y="3794"/>
                </a:lnTo>
                <a:lnTo>
                  <a:pt x="2397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EDDRA – Wagon – youth counselling</a:t>
            </a: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ene of young adults having problems with the misuse of alcohol, pharmaceutical drugs and Cannabis established in the train-station of Mödling, 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vision of a low-threshold meeting-point furnished to be fancied by young people in a place, where many pass by and have to wait for public trans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r average 50 visitors show up every 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taff, offers and the dimension of the facility are used at a maximum leve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-events, clearer communication of the rules in the meeting-point </a:t>
            </a:r>
            <a:r>
              <a:rPr b="0" lang="en-GB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the climate between the visitors (quarrels among Turkish and other groups) impro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" action="ppaction://hlinkshowjump?jump=previousslide"/>
          </p:cNvPr>
          <p:cNvSpPr/>
          <p:nvPr/>
        </p:nvSpPr>
        <p:spPr>
          <a:xfrm>
            <a:off x="7162920" y="6019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Selective prevention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- main risk </a:t>
            </a:r>
            <a:r>
              <a:rPr b="1" i="1" lang="en-GB" sz="3000" spc="-1" strike="noStrike">
                <a:solidFill>
                  <a:srgbClr val="ffcc00"/>
                </a:solidFill>
                <a:latin typeface="Arial"/>
              </a:rPr>
              <a:t>settings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114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lternative 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isur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Families at risk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eighbourhoods at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j0130189" descr=""/>
          <p:cNvPicPr/>
          <p:nvPr/>
        </p:nvPicPr>
        <p:blipFill>
          <a:blip r:embed="rId1"/>
          <a:stretch/>
        </p:blipFill>
        <p:spPr>
          <a:xfrm>
            <a:off x="5715000" y="3581280"/>
            <a:ext cx="3429000" cy="25513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724280" y="1371600"/>
            <a:ext cx="533520" cy="68580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85800"/>
              <a:gd name="textAreaBottom" fmla="*/ 651240 h 685800"/>
            </a:gdLst>
            <a:ahLst/>
            <a:rect l="textAreaLeft" t="textAreaTop" r="textAreaRight" b="textAreaBottom"/>
            <a:pathLst>
              <a:path w="21600" h="27761">
                <a:moveTo>
                  <a:pt x="0" y="0"/>
                </a:moveTo>
                <a:lnTo>
                  <a:pt x="21600" y="0"/>
                </a:lnTo>
                <a:lnTo>
                  <a:pt x="21600" y="27761"/>
                </a:lnTo>
                <a:lnTo>
                  <a:pt x="0" y="27761"/>
                </a:lnTo>
                <a:close/>
              </a:path>
              <a:path fill="lightenLess" w="21600" h="2776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1">
                <a:moveTo>
                  <a:pt x="21600" y="0"/>
                </a:moveTo>
                <a:lnTo>
                  <a:pt x="21600" y="27761"/>
                </a:lnTo>
                <a:lnTo>
                  <a:pt x="20200" y="26361"/>
                </a:lnTo>
                <a:lnTo>
                  <a:pt x="20200" y="1400"/>
                </a:lnTo>
                <a:close/>
              </a:path>
              <a:path fill="darkenLess" w="21600" h="27761">
                <a:moveTo>
                  <a:pt x="21600" y="27761"/>
                </a:moveTo>
                <a:lnTo>
                  <a:pt x="0" y="27761"/>
                </a:lnTo>
                <a:lnTo>
                  <a:pt x="1400" y="26361"/>
                </a:lnTo>
                <a:lnTo>
                  <a:pt x="20200" y="26361"/>
                </a:lnTo>
                <a:close/>
              </a:path>
              <a:path fill="lighten" w="21600" h="27761">
                <a:moveTo>
                  <a:pt x="0" y="2776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1"/>
                </a:lnTo>
                <a:close/>
              </a:path>
              <a:path fill="darkenLess" w="21600" h="27761">
                <a:moveTo>
                  <a:pt x="5273" y="7066"/>
                </a:moveTo>
                <a:lnTo>
                  <a:pt x="12271" y="7066"/>
                </a:lnTo>
                <a:lnTo>
                  <a:pt x="16327" y="10564"/>
                </a:lnTo>
                <a:lnTo>
                  <a:pt x="16327" y="20696"/>
                </a:lnTo>
                <a:lnTo>
                  <a:pt x="5273" y="20696"/>
                </a:lnTo>
                <a:close/>
              </a:path>
              <a:path fill="darken" w="21600" h="27761">
                <a:moveTo>
                  <a:pt x="12271" y="7066"/>
                </a:moveTo>
                <a:lnTo>
                  <a:pt x="16327" y="10564"/>
                </a:lnTo>
                <a:lnTo>
                  <a:pt x="12271" y="1056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251460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182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Alternative leisure time for vulnerable 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youth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ustria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bile street youth work providing increasing geographical cove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 I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L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Youth cafe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afe meeting places where young people can interact within the group and with adults. Adult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y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th work professionals support trained volunte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Information, psychosocial support, and involvement in creative activities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ternatives to drug us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mostly by treatment cent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nd D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night ravens – adults patrol streets during weekends and night to  reduce the likelihood of violence and ha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ain: several evaluated examples, key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>
            <a:hlinkClick r:id="" action="ppaction://hlinkshowjump?jump=previousslide"/>
          </p:cNvPr>
          <p:cNvSpPr/>
          <p:nvPr/>
        </p:nvSpPr>
        <p:spPr>
          <a:xfrm>
            <a:off x="8229600" y="53341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0" y="934920"/>
          <a:ext cx="9144000" cy="592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34920"/>
                    <a:ext cx="9144000" cy="592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918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Family-based prevention, how specific??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7772400" y="5867280"/>
            <a:ext cx="685800" cy="83844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440"/>
              <a:gd name="textAreaBottom" fmla="*/ 794160 h 838440"/>
            </a:gdLst>
            <a:ahLst/>
            <a:rect l="textAreaLeft" t="textAreaTop" r="textAreaRight" b="textAreaBottom"/>
            <a:pathLst>
              <a:path w="21600" h="26405">
                <a:moveTo>
                  <a:pt x="0" y="0"/>
                </a:moveTo>
                <a:lnTo>
                  <a:pt x="21600" y="0"/>
                </a:lnTo>
                <a:lnTo>
                  <a:pt x="21600" y="26405"/>
                </a:lnTo>
                <a:lnTo>
                  <a:pt x="0" y="26405"/>
                </a:lnTo>
                <a:close/>
              </a:path>
              <a:path fill="lightenLess" w="21600" h="26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5">
                <a:moveTo>
                  <a:pt x="21600" y="0"/>
                </a:moveTo>
                <a:lnTo>
                  <a:pt x="21600" y="26405"/>
                </a:lnTo>
                <a:lnTo>
                  <a:pt x="20200" y="25005"/>
                </a:lnTo>
                <a:lnTo>
                  <a:pt x="20200" y="1400"/>
                </a:lnTo>
                <a:close/>
              </a:path>
              <a:path fill="darkenLess" w="21600" h="26405">
                <a:moveTo>
                  <a:pt x="21600" y="26405"/>
                </a:moveTo>
                <a:lnTo>
                  <a:pt x="0" y="26405"/>
                </a:lnTo>
                <a:lnTo>
                  <a:pt x="1400" y="25005"/>
                </a:lnTo>
                <a:lnTo>
                  <a:pt x="20200" y="25005"/>
                </a:lnTo>
                <a:close/>
              </a:path>
              <a:path fill="lighten" w="21600" h="26405">
                <a:moveTo>
                  <a:pt x="0" y="26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5"/>
                </a:lnTo>
                <a:close/>
              </a:path>
              <a:path fill="darken" w="21600" h="26405">
                <a:moveTo>
                  <a:pt x="3794" y="9895"/>
                </a:moveTo>
                <a:lnTo>
                  <a:pt x="7301" y="9895"/>
                </a:lnTo>
                <a:lnTo>
                  <a:pt x="7301" y="15230"/>
                </a:lnTo>
                <a:cubicBezTo>
                  <a:pt x="7301" y="16153"/>
                  <a:pt x="8102" y="16884"/>
                  <a:pt x="9138" y="16884"/>
                </a:cubicBezTo>
                <a:lnTo>
                  <a:pt x="10800" y="16884"/>
                </a:lnTo>
                <a:cubicBezTo>
                  <a:pt x="11836" y="16884"/>
                  <a:pt x="12636" y="16153"/>
                  <a:pt x="12636" y="15230"/>
                </a:cubicBezTo>
                <a:lnTo>
                  <a:pt x="12636" y="9895"/>
                </a:lnTo>
                <a:lnTo>
                  <a:pt x="10800" y="9895"/>
                </a:lnTo>
                <a:lnTo>
                  <a:pt x="14308" y="6388"/>
                </a:lnTo>
                <a:lnTo>
                  <a:pt x="17981" y="9895"/>
                </a:lnTo>
                <a:lnTo>
                  <a:pt x="16144" y="9895"/>
                </a:lnTo>
                <a:lnTo>
                  <a:pt x="16144" y="15230"/>
                </a:lnTo>
                <a:cubicBezTo>
                  <a:pt x="16144" y="17998"/>
                  <a:pt x="13568" y="20557"/>
                  <a:pt x="10800" y="20557"/>
                </a:cubicBezTo>
                <a:lnTo>
                  <a:pt x="9138" y="20557"/>
                </a:lnTo>
                <a:cubicBezTo>
                  <a:pt x="6370" y="20557"/>
                  <a:pt x="3794" y="17998"/>
                  <a:pt x="3794" y="1523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Reponses targeted at geographical areas o</a:t>
            </a:r>
            <a:r>
              <a:rPr b="0" lang="de-DE" sz="3000" spc="-1" strike="noStrike">
                <a:solidFill>
                  <a:srgbClr val="ffcc00"/>
                </a:solidFill>
                <a:latin typeface="Arial"/>
                <a:ea typeface="Times New Roman"/>
              </a:rPr>
              <a:t>r neighbourhoods at risk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etherlands - Neighbourhood based programme targeting 16-20 year olds and their key contacts (youth workers, police, local residents et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reland - Development of recreational and sports facilities in disadvantaged are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K - Positive Futures: the development of recreational and sports facilities in 57 deprived areas. Showed reduction in criminal activities and truancy + improved community awarenes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te: Ireland and UK are the only member states which map problem zones for special programme allo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>
            <a:hlinkClick r:id="" action="ppaction://hlinkshowjump?jump=previousslide"/>
          </p:cNvPr>
          <p:cNvSpPr/>
          <p:nvPr/>
        </p:nvSpPr>
        <p:spPr>
          <a:xfrm>
            <a:off x="7238880" y="57913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66" h="21600">
                <a:moveTo>
                  <a:pt x="4777" y="7493"/>
                </a:moveTo>
                <a:lnTo>
                  <a:pt x="8284" y="7493"/>
                </a:lnTo>
                <a:lnTo>
                  <a:pt x="8284" y="12828"/>
                </a:lnTo>
                <a:cubicBezTo>
                  <a:pt x="8284" y="13751"/>
                  <a:pt x="9085" y="14482"/>
                  <a:pt x="10121" y="14482"/>
                </a:cubicBezTo>
                <a:lnTo>
                  <a:pt x="11783" y="14482"/>
                </a:lnTo>
                <a:cubicBezTo>
                  <a:pt x="12819" y="14482"/>
                  <a:pt x="13620" y="13751"/>
                  <a:pt x="13620" y="12828"/>
                </a:cubicBezTo>
                <a:lnTo>
                  <a:pt x="13620" y="7493"/>
                </a:lnTo>
                <a:lnTo>
                  <a:pt x="11783" y="7493"/>
                </a:lnTo>
                <a:lnTo>
                  <a:pt x="15291" y="3985"/>
                </a:lnTo>
                <a:lnTo>
                  <a:pt x="18964" y="7493"/>
                </a:lnTo>
                <a:lnTo>
                  <a:pt x="17127" y="7493"/>
                </a:lnTo>
                <a:lnTo>
                  <a:pt x="17127" y="12828"/>
                </a:lnTo>
                <a:cubicBezTo>
                  <a:pt x="17127" y="15596"/>
                  <a:pt x="14551" y="18155"/>
                  <a:pt x="11783" y="18155"/>
                </a:cubicBezTo>
                <a:lnTo>
                  <a:pt x="10121" y="18155"/>
                </a:lnTo>
                <a:cubicBezTo>
                  <a:pt x="7353" y="18155"/>
                  <a:pt x="4777" y="15596"/>
                  <a:pt x="4777" y="12828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To consider...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Few research, but even less corresponding interven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are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 evaluations (3-4 per country)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mostl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process only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, but 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elds more visible outcome effe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ostly indicators of social inclusion, delinquency,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relationships,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academic performance,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ther mediating variables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vention examples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ar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possibly biased by polic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(lacking drug perspective in social polici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ulnerability is a </a:t>
            </a:r>
            <a:r>
              <a:rPr b="1" i="1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t</a:t>
            </a:r>
            <a:r>
              <a:rPr b="0" lang="de-DE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to focus intervention efforts on biggest needs, but not to predict drug use and not to label social group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Political correctness is sometimes an obstacle, especially concerning ethnicity and vulnerable neighbourhoods =&gt;&gt; „labelling“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ulnerability” doesn’t equal “to be in need for drug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reatmen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"/>
              </a:rPr>
              <a:t>Still many gaps in evidence-based selective prevention across the member sta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686800" y="1752480"/>
            <a:ext cx="457200" cy="6858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32392">
                <a:moveTo>
                  <a:pt x="0" y="0"/>
                </a:moveTo>
                <a:lnTo>
                  <a:pt x="21600" y="0"/>
                </a:lnTo>
                <a:lnTo>
                  <a:pt x="21600" y="32392"/>
                </a:lnTo>
                <a:lnTo>
                  <a:pt x="0" y="32392"/>
                </a:lnTo>
                <a:close/>
              </a:path>
              <a:path fill="lightenLess" w="21600" h="323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2">
                <a:moveTo>
                  <a:pt x="21600" y="0"/>
                </a:moveTo>
                <a:lnTo>
                  <a:pt x="21600" y="32392"/>
                </a:lnTo>
                <a:lnTo>
                  <a:pt x="20200" y="30992"/>
                </a:lnTo>
                <a:lnTo>
                  <a:pt x="20200" y="1400"/>
                </a:lnTo>
                <a:close/>
              </a:path>
              <a:path fill="darkenLess" w="21600" h="32392">
                <a:moveTo>
                  <a:pt x="21600" y="32392"/>
                </a:moveTo>
                <a:lnTo>
                  <a:pt x="0" y="32392"/>
                </a:lnTo>
                <a:lnTo>
                  <a:pt x="1400" y="30992"/>
                </a:lnTo>
                <a:lnTo>
                  <a:pt x="20200" y="30992"/>
                </a:lnTo>
                <a:close/>
              </a:path>
              <a:path fill="lighten" w="21600" h="32392">
                <a:moveTo>
                  <a:pt x="0" y="3239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2"/>
                </a:lnTo>
                <a:close/>
              </a:path>
              <a:path fill="darken" w="21600" h="32392">
                <a:moveTo>
                  <a:pt x="10800" y="20199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32392">
                <a:moveTo>
                  <a:pt x="11905" y="19677"/>
                </a:moveTo>
                <a:lnTo>
                  <a:pt x="11905" y="17719"/>
                </a:lnTo>
                <a:cubicBezTo>
                  <a:pt x="11905" y="16892"/>
                  <a:pt x="12236" y="16196"/>
                  <a:pt x="12837" y="16196"/>
                </a:cubicBezTo>
                <a:cubicBezTo>
                  <a:pt x="13968" y="16196"/>
                  <a:pt x="14865" y="14829"/>
                  <a:pt x="14865" y="13245"/>
                </a:cubicBezTo>
                <a:cubicBezTo>
                  <a:pt x="14865" y="10930"/>
                  <a:pt x="13011" y="9189"/>
                  <a:pt x="10800" y="9189"/>
                </a:cubicBezTo>
                <a:cubicBezTo>
                  <a:pt x="8589" y="9189"/>
                  <a:pt x="6918" y="10930"/>
                  <a:pt x="6918" y="13245"/>
                </a:cubicBezTo>
                <a:lnTo>
                  <a:pt x="8772" y="13245"/>
                </a:lnTo>
                <a:cubicBezTo>
                  <a:pt x="8772" y="12105"/>
                  <a:pt x="9695" y="11217"/>
                  <a:pt x="10800" y="11217"/>
                </a:cubicBezTo>
                <a:cubicBezTo>
                  <a:pt x="11905" y="11217"/>
                  <a:pt x="12837" y="12105"/>
                  <a:pt x="12837" y="13245"/>
                </a:cubicBezTo>
                <a:cubicBezTo>
                  <a:pt x="12837" y="13985"/>
                  <a:pt x="12367" y="14716"/>
                  <a:pt x="11905" y="14716"/>
                </a:cubicBezTo>
                <a:cubicBezTo>
                  <a:pt x="10800" y="14716"/>
                  <a:pt x="9695" y="16196"/>
                  <a:pt x="9695" y="17719"/>
                </a:cubicBezTo>
                <a:lnTo>
                  <a:pt x="9695" y="1967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62120" y="1600200"/>
            <a:ext cx="8381880" cy="4572000"/>
          </a:xfrm>
          <a:prstGeom prst="rtTriangle">
            <a:avLst/>
          </a:prstGeom>
          <a:gradFill rotWithShape="0">
            <a:gsLst>
              <a:gs pos="0">
                <a:srgbClr val="846825"/>
              </a:gs>
              <a:gs pos="100000">
                <a:srgbClr val="fac54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3300"/>
                </a:solidFill>
                <a:latin typeface="Times New Roman"/>
              </a:rPr>
              <a:t>Target Population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182880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ac546"/>
                </a:solidFill>
                <a:latin typeface="Times New Roman"/>
              </a:rPr>
              <a:t>Universal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3276720"/>
            <a:ext cx="182880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ac546"/>
                </a:solidFill>
                <a:latin typeface="Times New Roman"/>
              </a:rPr>
              <a:t>Selective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4800600"/>
            <a:ext cx="1828800" cy="825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ac546"/>
                </a:solidFill>
                <a:latin typeface="Times New Roman"/>
              </a:rPr>
              <a:t>Indicated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447920" y="990720"/>
            <a:ext cx="47628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€€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114800" y="1447920"/>
            <a:ext cx="1143000" cy="1257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€€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1905120"/>
            <a:ext cx="7086600" cy="3657600"/>
          </a:xfrm>
          <a:custGeom>
            <a:avLst/>
            <a:gdLst/>
            <a:ahLst/>
            <a:rect l="l" t="t" r="r" b="b"/>
            <a:pathLst>
              <a:path w="4512" h="2640">
                <a:moveTo>
                  <a:pt x="0" y="2640"/>
                </a:moveTo>
                <a:cubicBezTo>
                  <a:pt x="680" y="2500"/>
                  <a:pt x="1360" y="2360"/>
                  <a:pt x="2112" y="1920"/>
                </a:cubicBezTo>
                <a:cubicBezTo>
                  <a:pt x="2864" y="1480"/>
                  <a:pt x="4048" y="376"/>
                  <a:pt x="4512" y="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781680" y="2057400"/>
            <a:ext cx="1905120" cy="2171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€€</a:t>
            </a:r>
            <a:endParaRPr b="0" lang="en-US" sz="24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1295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ac546"/>
                </a:solidFill>
                <a:latin typeface="Times New Roman"/>
              </a:rPr>
              <a:t>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 rot="16196400">
            <a:off x="-1915200" y="3439080"/>
            <a:ext cx="4572000" cy="74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ublic Health Approach!</a:t>
            </a:r>
            <a:endParaRPr b="0" lang="en-US" sz="2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182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Overall framework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0360" y="10666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êt à po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09200" y="419112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aylor-m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182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400" spc="-1" strike="noStrike">
                <a:solidFill>
                  <a:srgbClr val="ffcc00"/>
                </a:solidFill>
                <a:latin typeface="Arial"/>
              </a:rPr>
              <a:t>O</a:t>
            </a:r>
            <a:r>
              <a:rPr b="0" lang="en-GB" sz="3400" spc="-1" strike="noStrike">
                <a:solidFill>
                  <a:srgbClr val="ffcc00"/>
                </a:solidFill>
                <a:latin typeface="Arial"/>
              </a:rPr>
              <a:t>u</a:t>
            </a:r>
            <a:r>
              <a:rPr b="0" lang="de-DE" sz="3400" spc="-1" strike="noStrike">
                <a:solidFill>
                  <a:srgbClr val="ffcc00"/>
                </a:solidFill>
                <a:latin typeface="Arial"/>
              </a:rPr>
              <a:t>t</a:t>
            </a:r>
            <a:r>
              <a:rPr b="0" lang="en-GB" sz="3400" spc="-1" strike="noStrike">
                <a:solidFill>
                  <a:srgbClr val="ffcc00"/>
                </a:solidFill>
                <a:latin typeface="Arial"/>
              </a:rPr>
              <a:t>l</a:t>
            </a:r>
            <a:r>
              <a:rPr b="0" lang="de-DE" sz="3400" spc="-1" strike="noStrike">
                <a:solidFill>
                  <a:srgbClr val="ffcc00"/>
                </a:solidFill>
                <a:latin typeface="Arial"/>
              </a:rPr>
              <a:t>ine: </a:t>
            </a:r>
            <a:r>
              <a:rPr b="0" lang="en-GB" sz="3400" spc="-1" strike="noStrike">
                <a:solidFill>
                  <a:srgbClr val="ffcc00"/>
                </a:solidFill>
                <a:latin typeface="Arial"/>
              </a:rPr>
              <a:t>t</a:t>
            </a:r>
            <a:r>
              <a:rPr b="0" lang="de-DE" sz="3400" spc="-1" strike="noStrike">
                <a:solidFill>
                  <a:srgbClr val="ffcc00"/>
                </a:solidFill>
                <a:latin typeface="Arial"/>
              </a:rPr>
              <a:t>ypes of prevention</a:t>
            </a:r>
            <a:endParaRPr b="0" lang="en-US" sz="3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versal (typically school- or community-based)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fo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population at large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, no special risk-asses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lective - for vu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nerabl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isk factor approach</a:t>
            </a: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sychosocial: Family dy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fu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on, stress, substance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mographic: Gender, ethnicity, socio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conomic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vironmen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: c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ommunity dysfu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ti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on, crime, i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ctiv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y, val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ological: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epression, abnormal reactio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o su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4757760"/>
            <a:ext cx="4191120" cy="2102760"/>
          </a:xfrm>
          <a:prstGeom prst="rect">
            <a:avLst/>
          </a:prstGeom>
          <a:solidFill>
            <a:srgbClr val="fce2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993300"/>
                </a:solidFill>
                <a:latin typeface="Arial"/>
              </a:rPr>
              <a:t>Not </a:t>
            </a:r>
            <a:r>
              <a:rPr b="0" lang="en-GB" sz="2800" spc="-1" strike="noStrike">
                <a:solidFill>
                  <a:srgbClr val="993300"/>
                </a:solidFill>
                <a:latin typeface="Arial"/>
              </a:rPr>
              <a:t>di</a:t>
            </a:r>
            <a:r>
              <a:rPr b="0" lang="de-DE" sz="2800" spc="-1" strike="noStrike">
                <a:solidFill>
                  <a:srgbClr val="993300"/>
                </a:solidFill>
                <a:latin typeface="Arial"/>
              </a:rPr>
              <a:t>scussed today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3300"/>
                </a:solidFill>
                <a:latin typeface="Arial"/>
              </a:rPr>
              <a:t>Indicated </a:t>
            </a:r>
            <a:r>
              <a:rPr b="0" lang="de-DE" sz="2000" spc="-1" strike="noStrike">
                <a:solidFill>
                  <a:srgbClr val="993300"/>
                </a:solidFill>
                <a:latin typeface="Arial"/>
              </a:rPr>
              <a:t>prevention</a:t>
            </a:r>
            <a:r>
              <a:rPr b="0" lang="en-GB" sz="2000" spc="-1" strike="noStrike">
                <a:solidFill>
                  <a:srgbClr val="993300"/>
                </a:solidFill>
                <a:latin typeface="Arial"/>
              </a:rPr>
              <a:t>– for </a:t>
            </a:r>
            <a:r>
              <a:rPr b="1" lang="en-GB" sz="2000" spc="-1" strike="noStrike">
                <a:solidFill>
                  <a:srgbClr val="993300"/>
                </a:solidFill>
                <a:latin typeface="Arial"/>
              </a:rPr>
              <a:t>individuals</a:t>
            </a:r>
            <a:r>
              <a:rPr b="0" lang="en-GB" sz="2000" spc="-1" strike="noStrike">
                <a:solidFill>
                  <a:srgbClr val="993300"/>
                </a:solidFill>
                <a:latin typeface="Arial"/>
              </a:rPr>
              <a:t> at r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3300"/>
                </a:solidFill>
                <a:latin typeface="Arial"/>
              </a:rPr>
              <a:t>Gender-specific preven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3300"/>
                </a:solidFill>
                <a:latin typeface="Arial"/>
              </a:rPr>
              <a:t>Homel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3300"/>
                </a:solidFill>
                <a:latin typeface="Arial"/>
              </a:rPr>
              <a:t>Treatment for you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348240" y="54000"/>
            <a:ext cx="78120" cy="55440"/>
          </a:xfrm>
          <a:custGeom>
            <a:avLst/>
            <a:gdLst/>
            <a:ahLst/>
            <a:rect l="l" t="t" r="r" b="b"/>
            <a:pathLst>
              <a:path w="90" h="62">
                <a:moveTo>
                  <a:pt x="40" y="17"/>
                </a:moveTo>
                <a:lnTo>
                  <a:pt x="58" y="27"/>
                </a:lnTo>
                <a:lnTo>
                  <a:pt x="90" y="0"/>
                </a:lnTo>
                <a:lnTo>
                  <a:pt x="73" y="55"/>
                </a:lnTo>
                <a:lnTo>
                  <a:pt x="40" y="62"/>
                </a:lnTo>
                <a:lnTo>
                  <a:pt x="0" y="22"/>
                </a:lnTo>
                <a:lnTo>
                  <a:pt x="40" y="17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00880" y="0"/>
            <a:ext cx="38160" cy="36360"/>
          </a:xfrm>
          <a:custGeom>
            <a:avLst/>
            <a:gdLst/>
            <a:ahLst/>
            <a:rect l="l" t="t" r="r" b="b"/>
            <a:pathLst>
              <a:path w="45" h="40">
                <a:moveTo>
                  <a:pt x="23" y="0"/>
                </a:moveTo>
                <a:lnTo>
                  <a:pt x="40" y="15"/>
                </a:lnTo>
                <a:lnTo>
                  <a:pt x="45" y="40"/>
                </a:lnTo>
                <a:lnTo>
                  <a:pt x="0" y="40"/>
                </a:lnTo>
                <a:lnTo>
                  <a:pt x="23" y="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" name=""/>
            <p:cNvSpPr/>
            <p:nvPr/>
          </p:nvSpPr>
          <p:spPr>
            <a:xfrm>
              <a:off x="5153040" y="0"/>
              <a:ext cx="1658880" cy="1930320"/>
            </a:xfrm>
            <a:custGeom>
              <a:avLst/>
              <a:gdLst/>
              <a:ahLst/>
              <a:rect l="l" t="t" r="r" b="b"/>
              <a:pathLst>
                <a:path w="1915" h="2103">
                  <a:moveTo>
                    <a:pt x="515" y="1980"/>
                  </a:moveTo>
                  <a:lnTo>
                    <a:pt x="520" y="1975"/>
                  </a:lnTo>
                  <a:lnTo>
                    <a:pt x="540" y="1970"/>
                  </a:lnTo>
                  <a:lnTo>
                    <a:pt x="555" y="1948"/>
                  </a:lnTo>
                  <a:lnTo>
                    <a:pt x="563" y="1920"/>
                  </a:lnTo>
                  <a:lnTo>
                    <a:pt x="570" y="1905"/>
                  </a:lnTo>
                  <a:lnTo>
                    <a:pt x="563" y="1865"/>
                  </a:lnTo>
                  <a:lnTo>
                    <a:pt x="570" y="1835"/>
                  </a:lnTo>
                  <a:lnTo>
                    <a:pt x="590" y="1823"/>
                  </a:lnTo>
                  <a:lnTo>
                    <a:pt x="640" y="1803"/>
                  </a:lnTo>
                  <a:lnTo>
                    <a:pt x="648" y="1780"/>
                  </a:lnTo>
                  <a:lnTo>
                    <a:pt x="640" y="1708"/>
                  </a:lnTo>
                  <a:lnTo>
                    <a:pt x="633" y="1695"/>
                  </a:lnTo>
                  <a:lnTo>
                    <a:pt x="633" y="1655"/>
                  </a:lnTo>
                  <a:lnTo>
                    <a:pt x="618" y="1638"/>
                  </a:lnTo>
                  <a:lnTo>
                    <a:pt x="625" y="1605"/>
                  </a:lnTo>
                  <a:lnTo>
                    <a:pt x="640" y="1605"/>
                  </a:lnTo>
                  <a:lnTo>
                    <a:pt x="675" y="1583"/>
                  </a:lnTo>
                  <a:lnTo>
                    <a:pt x="648" y="1520"/>
                  </a:lnTo>
                  <a:lnTo>
                    <a:pt x="633" y="1498"/>
                  </a:lnTo>
                  <a:lnTo>
                    <a:pt x="633" y="1493"/>
                  </a:lnTo>
                  <a:lnTo>
                    <a:pt x="633" y="1438"/>
                  </a:lnTo>
                  <a:lnTo>
                    <a:pt x="655" y="1395"/>
                  </a:lnTo>
                  <a:lnTo>
                    <a:pt x="660" y="1353"/>
                  </a:lnTo>
                  <a:lnTo>
                    <a:pt x="668" y="1303"/>
                  </a:lnTo>
                  <a:lnTo>
                    <a:pt x="660" y="1263"/>
                  </a:lnTo>
                  <a:lnTo>
                    <a:pt x="675" y="1233"/>
                  </a:lnTo>
                  <a:lnTo>
                    <a:pt x="683" y="1213"/>
                  </a:lnTo>
                  <a:lnTo>
                    <a:pt x="725" y="1185"/>
                  </a:lnTo>
                  <a:lnTo>
                    <a:pt x="765" y="1170"/>
                  </a:lnTo>
                  <a:lnTo>
                    <a:pt x="803" y="1185"/>
                  </a:lnTo>
                  <a:lnTo>
                    <a:pt x="815" y="1193"/>
                  </a:lnTo>
                  <a:lnTo>
                    <a:pt x="835" y="1163"/>
                  </a:lnTo>
                  <a:lnTo>
                    <a:pt x="835" y="1130"/>
                  </a:lnTo>
                  <a:lnTo>
                    <a:pt x="815" y="1065"/>
                  </a:lnTo>
                  <a:lnTo>
                    <a:pt x="808" y="1038"/>
                  </a:lnTo>
                  <a:lnTo>
                    <a:pt x="815" y="1023"/>
                  </a:lnTo>
                  <a:lnTo>
                    <a:pt x="828" y="1023"/>
                  </a:lnTo>
                  <a:lnTo>
                    <a:pt x="845" y="1003"/>
                  </a:lnTo>
                  <a:lnTo>
                    <a:pt x="853" y="960"/>
                  </a:lnTo>
                  <a:lnTo>
                    <a:pt x="858" y="903"/>
                  </a:lnTo>
                  <a:lnTo>
                    <a:pt x="865" y="848"/>
                  </a:lnTo>
                  <a:lnTo>
                    <a:pt x="885" y="825"/>
                  </a:lnTo>
                  <a:lnTo>
                    <a:pt x="928" y="800"/>
                  </a:lnTo>
                  <a:lnTo>
                    <a:pt x="955" y="785"/>
                  </a:lnTo>
                  <a:lnTo>
                    <a:pt x="963" y="743"/>
                  </a:lnTo>
                  <a:lnTo>
                    <a:pt x="978" y="715"/>
                  </a:lnTo>
                  <a:lnTo>
                    <a:pt x="1013" y="685"/>
                  </a:lnTo>
                  <a:lnTo>
                    <a:pt x="1020" y="665"/>
                  </a:lnTo>
                  <a:lnTo>
                    <a:pt x="1013" y="645"/>
                  </a:lnTo>
                  <a:lnTo>
                    <a:pt x="1013" y="615"/>
                  </a:lnTo>
                  <a:lnTo>
                    <a:pt x="1040" y="595"/>
                  </a:lnTo>
                  <a:lnTo>
                    <a:pt x="1075" y="533"/>
                  </a:lnTo>
                  <a:lnTo>
                    <a:pt x="1103" y="538"/>
                  </a:lnTo>
                  <a:lnTo>
                    <a:pt x="1143" y="505"/>
                  </a:lnTo>
                  <a:lnTo>
                    <a:pt x="1138" y="475"/>
                  </a:lnTo>
                  <a:lnTo>
                    <a:pt x="1165" y="448"/>
                  </a:lnTo>
                  <a:lnTo>
                    <a:pt x="1180" y="455"/>
                  </a:lnTo>
                  <a:lnTo>
                    <a:pt x="1208" y="448"/>
                  </a:lnTo>
                  <a:lnTo>
                    <a:pt x="1250" y="455"/>
                  </a:lnTo>
                  <a:lnTo>
                    <a:pt x="1305" y="405"/>
                  </a:lnTo>
                  <a:lnTo>
                    <a:pt x="1298" y="378"/>
                  </a:lnTo>
                  <a:lnTo>
                    <a:pt x="1305" y="363"/>
                  </a:lnTo>
                  <a:lnTo>
                    <a:pt x="1290" y="355"/>
                  </a:lnTo>
                  <a:lnTo>
                    <a:pt x="1320" y="330"/>
                  </a:lnTo>
                  <a:lnTo>
                    <a:pt x="1360" y="325"/>
                  </a:lnTo>
                  <a:lnTo>
                    <a:pt x="1390" y="363"/>
                  </a:lnTo>
                  <a:lnTo>
                    <a:pt x="1438" y="418"/>
                  </a:lnTo>
                  <a:lnTo>
                    <a:pt x="1460" y="418"/>
                  </a:lnTo>
                  <a:lnTo>
                    <a:pt x="1488" y="398"/>
                  </a:lnTo>
                  <a:lnTo>
                    <a:pt x="1508" y="393"/>
                  </a:lnTo>
                  <a:lnTo>
                    <a:pt x="1523" y="398"/>
                  </a:lnTo>
                  <a:lnTo>
                    <a:pt x="1545" y="418"/>
                  </a:lnTo>
                  <a:lnTo>
                    <a:pt x="1570" y="425"/>
                  </a:lnTo>
                  <a:lnTo>
                    <a:pt x="1578" y="418"/>
                  </a:lnTo>
                  <a:lnTo>
                    <a:pt x="1593" y="393"/>
                  </a:lnTo>
                  <a:lnTo>
                    <a:pt x="1600" y="378"/>
                  </a:lnTo>
                  <a:lnTo>
                    <a:pt x="1628" y="330"/>
                  </a:lnTo>
                  <a:lnTo>
                    <a:pt x="1635" y="325"/>
                  </a:lnTo>
                  <a:lnTo>
                    <a:pt x="1628" y="253"/>
                  </a:lnTo>
                  <a:lnTo>
                    <a:pt x="1663" y="218"/>
                  </a:lnTo>
                  <a:lnTo>
                    <a:pt x="1678" y="225"/>
                  </a:lnTo>
                  <a:lnTo>
                    <a:pt x="1718" y="183"/>
                  </a:lnTo>
                  <a:lnTo>
                    <a:pt x="1755" y="225"/>
                  </a:lnTo>
                  <a:lnTo>
                    <a:pt x="1768" y="238"/>
                  </a:lnTo>
                  <a:lnTo>
                    <a:pt x="1788" y="230"/>
                  </a:lnTo>
                  <a:lnTo>
                    <a:pt x="1803" y="253"/>
                  </a:lnTo>
                  <a:lnTo>
                    <a:pt x="1803" y="268"/>
                  </a:lnTo>
                  <a:lnTo>
                    <a:pt x="1818" y="280"/>
                  </a:lnTo>
                  <a:lnTo>
                    <a:pt x="1818" y="300"/>
                  </a:lnTo>
                  <a:lnTo>
                    <a:pt x="1838" y="275"/>
                  </a:lnTo>
                  <a:lnTo>
                    <a:pt x="1875" y="248"/>
                  </a:lnTo>
                  <a:lnTo>
                    <a:pt x="1895" y="203"/>
                  </a:lnTo>
                  <a:lnTo>
                    <a:pt x="1880" y="198"/>
                  </a:lnTo>
                  <a:lnTo>
                    <a:pt x="1858" y="218"/>
                  </a:lnTo>
                  <a:lnTo>
                    <a:pt x="1853" y="183"/>
                  </a:lnTo>
                  <a:lnTo>
                    <a:pt x="1838" y="175"/>
                  </a:lnTo>
                  <a:lnTo>
                    <a:pt x="1833" y="155"/>
                  </a:lnTo>
                  <a:lnTo>
                    <a:pt x="1888" y="113"/>
                  </a:lnTo>
                  <a:lnTo>
                    <a:pt x="1908" y="120"/>
                  </a:lnTo>
                  <a:lnTo>
                    <a:pt x="1915" y="90"/>
                  </a:lnTo>
                  <a:lnTo>
                    <a:pt x="1903" y="83"/>
                  </a:lnTo>
                  <a:lnTo>
                    <a:pt x="1865" y="70"/>
                  </a:lnTo>
                  <a:lnTo>
                    <a:pt x="1845" y="63"/>
                  </a:lnTo>
                  <a:lnTo>
                    <a:pt x="1818" y="35"/>
                  </a:lnTo>
                  <a:lnTo>
                    <a:pt x="1788" y="28"/>
                  </a:lnTo>
                  <a:lnTo>
                    <a:pt x="1760" y="58"/>
                  </a:lnTo>
                  <a:lnTo>
                    <a:pt x="1748" y="78"/>
                  </a:lnTo>
                  <a:lnTo>
                    <a:pt x="1718" y="58"/>
                  </a:lnTo>
                  <a:lnTo>
                    <a:pt x="1733" y="43"/>
                  </a:lnTo>
                  <a:lnTo>
                    <a:pt x="1740" y="8"/>
                  </a:lnTo>
                  <a:lnTo>
                    <a:pt x="1733" y="0"/>
                  </a:lnTo>
                  <a:lnTo>
                    <a:pt x="1698" y="0"/>
                  </a:lnTo>
                  <a:lnTo>
                    <a:pt x="1690" y="13"/>
                  </a:lnTo>
                  <a:lnTo>
                    <a:pt x="1685" y="35"/>
                  </a:lnTo>
                  <a:lnTo>
                    <a:pt x="1690" y="58"/>
                  </a:lnTo>
                  <a:lnTo>
                    <a:pt x="1663" y="83"/>
                  </a:lnTo>
                  <a:lnTo>
                    <a:pt x="1640" y="43"/>
                  </a:lnTo>
                  <a:lnTo>
                    <a:pt x="1620" y="50"/>
                  </a:lnTo>
                  <a:lnTo>
                    <a:pt x="1615" y="83"/>
                  </a:lnTo>
                  <a:lnTo>
                    <a:pt x="1600" y="133"/>
                  </a:lnTo>
                  <a:lnTo>
                    <a:pt x="1565" y="168"/>
                  </a:lnTo>
                  <a:lnTo>
                    <a:pt x="1545" y="128"/>
                  </a:lnTo>
                  <a:lnTo>
                    <a:pt x="1578" y="98"/>
                  </a:lnTo>
                  <a:lnTo>
                    <a:pt x="1585" y="58"/>
                  </a:lnTo>
                  <a:lnTo>
                    <a:pt x="1565" y="58"/>
                  </a:lnTo>
                  <a:lnTo>
                    <a:pt x="1530" y="58"/>
                  </a:lnTo>
                  <a:lnTo>
                    <a:pt x="1500" y="98"/>
                  </a:lnTo>
                  <a:lnTo>
                    <a:pt x="1468" y="155"/>
                  </a:lnTo>
                  <a:lnTo>
                    <a:pt x="1480" y="183"/>
                  </a:lnTo>
                  <a:lnTo>
                    <a:pt x="1460" y="198"/>
                  </a:lnTo>
                  <a:lnTo>
                    <a:pt x="1430" y="175"/>
                  </a:lnTo>
                  <a:lnTo>
                    <a:pt x="1403" y="190"/>
                  </a:lnTo>
                  <a:lnTo>
                    <a:pt x="1410" y="218"/>
                  </a:lnTo>
                  <a:lnTo>
                    <a:pt x="1375" y="218"/>
                  </a:lnTo>
                  <a:lnTo>
                    <a:pt x="1353" y="225"/>
                  </a:lnTo>
                  <a:lnTo>
                    <a:pt x="1328" y="260"/>
                  </a:lnTo>
                  <a:lnTo>
                    <a:pt x="1290" y="253"/>
                  </a:lnTo>
                  <a:lnTo>
                    <a:pt x="1290" y="275"/>
                  </a:lnTo>
                  <a:lnTo>
                    <a:pt x="1263" y="253"/>
                  </a:lnTo>
                  <a:lnTo>
                    <a:pt x="1228" y="268"/>
                  </a:lnTo>
                  <a:lnTo>
                    <a:pt x="1220" y="295"/>
                  </a:lnTo>
                  <a:lnTo>
                    <a:pt x="1193" y="300"/>
                  </a:lnTo>
                  <a:lnTo>
                    <a:pt x="1173" y="275"/>
                  </a:lnTo>
                  <a:lnTo>
                    <a:pt x="1130" y="280"/>
                  </a:lnTo>
                  <a:lnTo>
                    <a:pt x="1088" y="295"/>
                  </a:lnTo>
                  <a:lnTo>
                    <a:pt x="1088" y="338"/>
                  </a:lnTo>
                  <a:lnTo>
                    <a:pt x="1115" y="345"/>
                  </a:lnTo>
                  <a:lnTo>
                    <a:pt x="1115" y="355"/>
                  </a:lnTo>
                  <a:lnTo>
                    <a:pt x="1115" y="385"/>
                  </a:lnTo>
                  <a:lnTo>
                    <a:pt x="1093" y="378"/>
                  </a:lnTo>
                  <a:lnTo>
                    <a:pt x="1068" y="393"/>
                  </a:lnTo>
                  <a:lnTo>
                    <a:pt x="1075" y="418"/>
                  </a:lnTo>
                  <a:lnTo>
                    <a:pt x="1103" y="443"/>
                  </a:lnTo>
                  <a:lnTo>
                    <a:pt x="1103" y="475"/>
                  </a:lnTo>
                  <a:lnTo>
                    <a:pt x="1075" y="463"/>
                  </a:lnTo>
                  <a:lnTo>
                    <a:pt x="1055" y="468"/>
                  </a:lnTo>
                  <a:lnTo>
                    <a:pt x="1055" y="498"/>
                  </a:lnTo>
                  <a:lnTo>
                    <a:pt x="1020" y="498"/>
                  </a:lnTo>
                  <a:lnTo>
                    <a:pt x="993" y="498"/>
                  </a:lnTo>
                  <a:lnTo>
                    <a:pt x="985" y="518"/>
                  </a:lnTo>
                  <a:lnTo>
                    <a:pt x="978" y="533"/>
                  </a:lnTo>
                  <a:lnTo>
                    <a:pt x="955" y="538"/>
                  </a:lnTo>
                  <a:lnTo>
                    <a:pt x="948" y="553"/>
                  </a:lnTo>
                  <a:lnTo>
                    <a:pt x="955" y="575"/>
                  </a:lnTo>
                  <a:lnTo>
                    <a:pt x="915" y="588"/>
                  </a:lnTo>
                  <a:lnTo>
                    <a:pt x="943" y="615"/>
                  </a:lnTo>
                  <a:lnTo>
                    <a:pt x="948" y="630"/>
                  </a:lnTo>
                  <a:lnTo>
                    <a:pt x="923" y="653"/>
                  </a:lnTo>
                  <a:lnTo>
                    <a:pt x="873" y="685"/>
                  </a:lnTo>
                  <a:lnTo>
                    <a:pt x="835" y="715"/>
                  </a:lnTo>
                  <a:lnTo>
                    <a:pt x="815" y="755"/>
                  </a:lnTo>
                  <a:lnTo>
                    <a:pt x="780" y="785"/>
                  </a:lnTo>
                  <a:lnTo>
                    <a:pt x="780" y="805"/>
                  </a:lnTo>
                  <a:lnTo>
                    <a:pt x="788" y="825"/>
                  </a:lnTo>
                  <a:lnTo>
                    <a:pt x="758" y="848"/>
                  </a:lnTo>
                  <a:lnTo>
                    <a:pt x="765" y="875"/>
                  </a:lnTo>
                  <a:lnTo>
                    <a:pt x="738" y="925"/>
                  </a:lnTo>
                  <a:lnTo>
                    <a:pt x="718" y="933"/>
                  </a:lnTo>
                  <a:lnTo>
                    <a:pt x="718" y="968"/>
                  </a:lnTo>
                  <a:lnTo>
                    <a:pt x="733" y="990"/>
                  </a:lnTo>
                  <a:lnTo>
                    <a:pt x="710" y="1010"/>
                  </a:lnTo>
                  <a:lnTo>
                    <a:pt x="695" y="995"/>
                  </a:lnTo>
                  <a:lnTo>
                    <a:pt x="668" y="1010"/>
                  </a:lnTo>
                  <a:lnTo>
                    <a:pt x="675" y="1053"/>
                  </a:lnTo>
                  <a:lnTo>
                    <a:pt x="648" y="1065"/>
                  </a:lnTo>
                  <a:lnTo>
                    <a:pt x="605" y="1073"/>
                  </a:lnTo>
                  <a:lnTo>
                    <a:pt x="578" y="1108"/>
                  </a:lnTo>
                  <a:lnTo>
                    <a:pt x="570" y="1143"/>
                  </a:lnTo>
                  <a:lnTo>
                    <a:pt x="540" y="1170"/>
                  </a:lnTo>
                  <a:lnTo>
                    <a:pt x="540" y="1193"/>
                  </a:lnTo>
                  <a:lnTo>
                    <a:pt x="578" y="1163"/>
                  </a:lnTo>
                  <a:lnTo>
                    <a:pt x="618" y="1135"/>
                  </a:lnTo>
                  <a:lnTo>
                    <a:pt x="633" y="1143"/>
                  </a:lnTo>
                  <a:lnTo>
                    <a:pt x="618" y="1185"/>
                  </a:lnTo>
                  <a:lnTo>
                    <a:pt x="585" y="1208"/>
                  </a:lnTo>
                  <a:lnTo>
                    <a:pt x="548" y="1200"/>
                  </a:lnTo>
                  <a:lnTo>
                    <a:pt x="555" y="1228"/>
                  </a:lnTo>
                  <a:lnTo>
                    <a:pt x="508" y="1248"/>
                  </a:lnTo>
                  <a:lnTo>
                    <a:pt x="500" y="1208"/>
                  </a:lnTo>
                  <a:lnTo>
                    <a:pt x="478" y="1193"/>
                  </a:lnTo>
                  <a:lnTo>
                    <a:pt x="450" y="1233"/>
                  </a:lnTo>
                  <a:lnTo>
                    <a:pt x="423" y="1233"/>
                  </a:lnTo>
                  <a:lnTo>
                    <a:pt x="393" y="1240"/>
                  </a:lnTo>
                  <a:lnTo>
                    <a:pt x="388" y="1278"/>
                  </a:lnTo>
                  <a:lnTo>
                    <a:pt x="373" y="1283"/>
                  </a:lnTo>
                  <a:lnTo>
                    <a:pt x="373" y="1303"/>
                  </a:lnTo>
                  <a:lnTo>
                    <a:pt x="355" y="1295"/>
                  </a:lnTo>
                  <a:lnTo>
                    <a:pt x="330" y="1278"/>
                  </a:lnTo>
                  <a:lnTo>
                    <a:pt x="293" y="1283"/>
                  </a:lnTo>
                  <a:lnTo>
                    <a:pt x="293" y="1303"/>
                  </a:lnTo>
                  <a:lnTo>
                    <a:pt x="298" y="1323"/>
                  </a:lnTo>
                  <a:lnTo>
                    <a:pt x="283" y="1328"/>
                  </a:lnTo>
                  <a:lnTo>
                    <a:pt x="248" y="1310"/>
                  </a:lnTo>
                  <a:lnTo>
                    <a:pt x="215" y="1335"/>
                  </a:lnTo>
                  <a:lnTo>
                    <a:pt x="223" y="1358"/>
                  </a:lnTo>
                  <a:lnTo>
                    <a:pt x="220" y="1373"/>
                  </a:lnTo>
                  <a:lnTo>
                    <a:pt x="188" y="1358"/>
                  </a:lnTo>
                  <a:lnTo>
                    <a:pt x="178" y="1375"/>
                  </a:lnTo>
                  <a:lnTo>
                    <a:pt x="165" y="1388"/>
                  </a:lnTo>
                  <a:lnTo>
                    <a:pt x="128" y="1380"/>
                  </a:lnTo>
                  <a:lnTo>
                    <a:pt x="108" y="1385"/>
                  </a:lnTo>
                  <a:lnTo>
                    <a:pt x="103" y="1413"/>
                  </a:lnTo>
                  <a:lnTo>
                    <a:pt x="88" y="1420"/>
                  </a:lnTo>
                  <a:lnTo>
                    <a:pt x="68" y="1453"/>
                  </a:lnTo>
                  <a:lnTo>
                    <a:pt x="73" y="1493"/>
                  </a:lnTo>
                  <a:lnTo>
                    <a:pt x="63" y="1548"/>
                  </a:lnTo>
                  <a:lnTo>
                    <a:pt x="55" y="1605"/>
                  </a:lnTo>
                  <a:lnTo>
                    <a:pt x="48" y="1658"/>
                  </a:lnTo>
                  <a:lnTo>
                    <a:pt x="40" y="1685"/>
                  </a:lnTo>
                  <a:lnTo>
                    <a:pt x="58" y="1708"/>
                  </a:lnTo>
                  <a:lnTo>
                    <a:pt x="88" y="1688"/>
                  </a:lnTo>
                  <a:lnTo>
                    <a:pt x="110" y="1700"/>
                  </a:lnTo>
                  <a:lnTo>
                    <a:pt x="110" y="1720"/>
                  </a:lnTo>
                  <a:lnTo>
                    <a:pt x="80" y="1738"/>
                  </a:lnTo>
                  <a:lnTo>
                    <a:pt x="75" y="1773"/>
                  </a:lnTo>
                  <a:lnTo>
                    <a:pt x="68" y="1790"/>
                  </a:lnTo>
                  <a:lnTo>
                    <a:pt x="38" y="1788"/>
                  </a:lnTo>
                  <a:lnTo>
                    <a:pt x="25" y="1828"/>
                  </a:lnTo>
                  <a:lnTo>
                    <a:pt x="40" y="1840"/>
                  </a:lnTo>
                  <a:lnTo>
                    <a:pt x="68" y="1833"/>
                  </a:lnTo>
                  <a:lnTo>
                    <a:pt x="83" y="1850"/>
                  </a:lnTo>
                  <a:lnTo>
                    <a:pt x="85" y="1860"/>
                  </a:lnTo>
                  <a:lnTo>
                    <a:pt x="63" y="1875"/>
                  </a:lnTo>
                  <a:lnTo>
                    <a:pt x="63" y="1900"/>
                  </a:lnTo>
                  <a:lnTo>
                    <a:pt x="38" y="1905"/>
                  </a:lnTo>
                  <a:lnTo>
                    <a:pt x="18" y="1893"/>
                  </a:lnTo>
                  <a:lnTo>
                    <a:pt x="23" y="1928"/>
                  </a:lnTo>
                  <a:lnTo>
                    <a:pt x="18" y="1950"/>
                  </a:lnTo>
                  <a:lnTo>
                    <a:pt x="0" y="1950"/>
                  </a:lnTo>
                  <a:lnTo>
                    <a:pt x="43" y="1995"/>
                  </a:lnTo>
                  <a:lnTo>
                    <a:pt x="63" y="2020"/>
                  </a:lnTo>
                  <a:lnTo>
                    <a:pt x="75" y="2053"/>
                  </a:lnTo>
                  <a:lnTo>
                    <a:pt x="118" y="2078"/>
                  </a:lnTo>
                  <a:lnTo>
                    <a:pt x="163" y="2103"/>
                  </a:lnTo>
                  <a:lnTo>
                    <a:pt x="205" y="2103"/>
                  </a:lnTo>
                  <a:lnTo>
                    <a:pt x="268" y="2060"/>
                  </a:lnTo>
                  <a:lnTo>
                    <a:pt x="330" y="2015"/>
                  </a:lnTo>
                  <a:lnTo>
                    <a:pt x="388" y="1938"/>
                  </a:lnTo>
                  <a:lnTo>
                    <a:pt x="398" y="1930"/>
                  </a:lnTo>
                  <a:lnTo>
                    <a:pt x="413" y="1955"/>
                  </a:lnTo>
                  <a:lnTo>
                    <a:pt x="440" y="1938"/>
                  </a:lnTo>
                  <a:lnTo>
                    <a:pt x="450" y="1910"/>
                  </a:lnTo>
                  <a:lnTo>
                    <a:pt x="453" y="1875"/>
                  </a:lnTo>
                  <a:lnTo>
                    <a:pt x="483" y="1833"/>
                  </a:lnTo>
                  <a:lnTo>
                    <a:pt x="470" y="1880"/>
                  </a:lnTo>
                  <a:lnTo>
                    <a:pt x="485" y="1888"/>
                  </a:lnTo>
                  <a:lnTo>
                    <a:pt x="478" y="1910"/>
                  </a:lnTo>
                  <a:lnTo>
                    <a:pt x="485" y="1948"/>
                  </a:lnTo>
                  <a:lnTo>
                    <a:pt x="500" y="1980"/>
                  </a:lnTo>
                  <a:lnTo>
                    <a:pt x="515" y="1970"/>
                  </a:lnTo>
                </a:path>
              </a:pathLst>
            </a:custGeom>
            <a:solidFill>
              <a:srgbClr val="9933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0" y="135000"/>
              <a:ext cx="9144000" cy="6723000"/>
              <a:chOff x="0" y="135000"/>
              <a:chExt cx="9144000" cy="6723000"/>
            </a:xfrm>
          </p:grpSpPr>
          <p:sp>
            <p:nvSpPr>
              <p:cNvPr id="97" name=""/>
              <p:cNvSpPr/>
              <p:nvPr/>
            </p:nvSpPr>
            <p:spPr>
              <a:xfrm>
                <a:off x="304920" y="1981080"/>
                <a:ext cx="2590560" cy="114300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lemish and German Community: programme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rench Community: local services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2700360" y="135000"/>
                <a:ext cx="4343400" cy="5446800"/>
                <a:chOff x="2700360" y="135000"/>
                <a:chExt cx="4343400" cy="54468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985000" y="338040"/>
                  <a:ext cx="50760" cy="68400"/>
                </a:xfrm>
                <a:custGeom>
                  <a:avLst/>
                  <a:gdLst/>
                  <a:ahLst/>
                  <a:rect l="l" t="t" r="r" b="b"/>
                  <a:pathLst>
                    <a:path w="58" h="75">
                      <a:moveTo>
                        <a:pt x="58" y="12"/>
                      </a:moveTo>
                      <a:lnTo>
                        <a:pt x="53" y="27"/>
                      </a:lnTo>
                      <a:lnTo>
                        <a:pt x="58" y="62"/>
                      </a:lnTo>
                      <a:lnTo>
                        <a:pt x="18" y="75"/>
                      </a:lnTo>
                      <a:lnTo>
                        <a:pt x="0" y="57"/>
                      </a:lnTo>
                      <a:lnTo>
                        <a:pt x="0" y="27"/>
                      </a:lnTo>
                      <a:lnTo>
                        <a:pt x="13" y="0"/>
                      </a:lnTo>
                      <a:lnTo>
                        <a:pt x="58" y="12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907240" y="384120"/>
                  <a:ext cx="45720" cy="36720"/>
                </a:xfrm>
                <a:custGeom>
                  <a:avLst/>
                  <a:gdLst/>
                  <a:ahLst/>
                  <a:rect l="l" t="t" r="r" b="b"/>
                  <a:pathLst>
                    <a:path w="53" h="40">
                      <a:moveTo>
                        <a:pt x="45" y="0"/>
                      </a:moveTo>
                      <a:lnTo>
                        <a:pt x="53" y="30"/>
                      </a:lnTo>
                      <a:lnTo>
                        <a:pt x="13" y="40"/>
                      </a:lnTo>
                      <a:lnTo>
                        <a:pt x="0" y="1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923080" y="307800"/>
                  <a:ext cx="52200" cy="46080"/>
                </a:xfrm>
                <a:custGeom>
                  <a:avLst/>
                  <a:gdLst/>
                  <a:ahLst/>
                  <a:rect l="l" t="t" r="r" b="b"/>
                  <a:pathLst>
                    <a:path w="62" h="50">
                      <a:moveTo>
                        <a:pt x="0" y="33"/>
                      </a:moveTo>
                      <a:lnTo>
                        <a:pt x="45" y="50"/>
                      </a:lnTo>
                      <a:lnTo>
                        <a:pt x="62" y="13"/>
                      </a:lnTo>
                      <a:lnTo>
                        <a:pt x="35" y="0"/>
                      </a:lnTo>
                      <a:lnTo>
                        <a:pt x="17" y="13"/>
                      </a:lnTo>
                      <a:lnTo>
                        <a:pt x="0" y="20"/>
                      </a:lnTo>
                      <a:lnTo>
                        <a:pt x="0" y="3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985000" y="268200"/>
                  <a:ext cx="41040" cy="38160"/>
                </a:xfrm>
                <a:custGeom>
                  <a:avLst/>
                  <a:gdLst/>
                  <a:ahLst/>
                  <a:rect l="l" t="t" r="r" b="b"/>
                  <a:pathLst>
                    <a:path w="48" h="40">
                      <a:moveTo>
                        <a:pt x="0" y="40"/>
                      </a:moveTo>
                      <a:lnTo>
                        <a:pt x="35" y="0"/>
                      </a:lnTo>
                      <a:lnTo>
                        <a:pt x="48" y="12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846760" y="39996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33" y="0"/>
                      </a:moveTo>
                      <a:lnTo>
                        <a:pt x="40" y="35"/>
                      </a:lnTo>
                      <a:lnTo>
                        <a:pt x="0" y="4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156360" y="184320"/>
                  <a:ext cx="54000" cy="45720"/>
                </a:xfrm>
                <a:custGeom>
                  <a:avLst/>
                  <a:gdLst/>
                  <a:ahLst/>
                  <a:rect l="l" t="t" r="r" b="b"/>
                  <a:pathLst>
                    <a:path w="62" h="50">
                      <a:moveTo>
                        <a:pt x="30" y="0"/>
                      </a:moveTo>
                      <a:lnTo>
                        <a:pt x="0" y="23"/>
                      </a:lnTo>
                      <a:lnTo>
                        <a:pt x="40" y="50"/>
                      </a:lnTo>
                      <a:lnTo>
                        <a:pt x="62" y="23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205680" y="139680"/>
                  <a:ext cx="55440" cy="49320"/>
                </a:xfrm>
                <a:custGeom>
                  <a:avLst/>
                  <a:gdLst/>
                  <a:ahLst/>
                  <a:rect l="l" t="t" r="r" b="b"/>
                  <a:pathLst>
                    <a:path w="63" h="52">
                      <a:moveTo>
                        <a:pt x="0" y="17"/>
                      </a:moveTo>
                      <a:lnTo>
                        <a:pt x="28" y="52"/>
                      </a:lnTo>
                      <a:lnTo>
                        <a:pt x="63" y="30"/>
                      </a:lnTo>
                      <a:lnTo>
                        <a:pt x="35" y="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489640" y="1066680"/>
                  <a:ext cx="57240" cy="38160"/>
                </a:xfrm>
                <a:custGeom>
                  <a:avLst/>
                  <a:gdLst/>
                  <a:ahLst/>
                  <a:rect l="l" t="t" r="r" b="b"/>
                  <a:pathLst>
                    <a:path w="67" h="40">
                      <a:moveTo>
                        <a:pt x="67" y="22"/>
                      </a:moveTo>
                      <a:lnTo>
                        <a:pt x="17" y="0"/>
                      </a:lnTo>
                      <a:lnTo>
                        <a:pt x="0" y="17"/>
                      </a:lnTo>
                      <a:lnTo>
                        <a:pt x="5" y="40"/>
                      </a:lnTo>
                      <a:lnTo>
                        <a:pt x="67" y="22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154480" y="3476520"/>
                  <a:ext cx="790560" cy="368280"/>
                </a:xfrm>
                <a:custGeom>
                  <a:avLst/>
                  <a:gdLst/>
                  <a:ahLst/>
                  <a:rect l="l" t="t" r="r" b="b"/>
                  <a:pathLst>
                    <a:path w="855" h="390">
                      <a:moveTo>
                        <a:pt x="0" y="140"/>
                      </a:moveTo>
                      <a:lnTo>
                        <a:pt x="35" y="137"/>
                      </a:lnTo>
                      <a:lnTo>
                        <a:pt x="50" y="132"/>
                      </a:lnTo>
                      <a:lnTo>
                        <a:pt x="67" y="155"/>
                      </a:lnTo>
                      <a:lnTo>
                        <a:pt x="90" y="147"/>
                      </a:lnTo>
                      <a:lnTo>
                        <a:pt x="120" y="152"/>
                      </a:lnTo>
                      <a:lnTo>
                        <a:pt x="137" y="165"/>
                      </a:lnTo>
                      <a:lnTo>
                        <a:pt x="167" y="147"/>
                      </a:lnTo>
                      <a:lnTo>
                        <a:pt x="207" y="150"/>
                      </a:lnTo>
                      <a:lnTo>
                        <a:pt x="222" y="167"/>
                      </a:lnTo>
                      <a:lnTo>
                        <a:pt x="247" y="172"/>
                      </a:lnTo>
                      <a:lnTo>
                        <a:pt x="262" y="160"/>
                      </a:lnTo>
                      <a:lnTo>
                        <a:pt x="305" y="152"/>
                      </a:lnTo>
                      <a:lnTo>
                        <a:pt x="325" y="152"/>
                      </a:lnTo>
                      <a:lnTo>
                        <a:pt x="357" y="165"/>
                      </a:lnTo>
                      <a:lnTo>
                        <a:pt x="395" y="190"/>
                      </a:lnTo>
                      <a:lnTo>
                        <a:pt x="425" y="177"/>
                      </a:lnTo>
                      <a:lnTo>
                        <a:pt x="430" y="152"/>
                      </a:lnTo>
                      <a:lnTo>
                        <a:pt x="410" y="120"/>
                      </a:lnTo>
                      <a:lnTo>
                        <a:pt x="402" y="75"/>
                      </a:lnTo>
                      <a:lnTo>
                        <a:pt x="497" y="10"/>
                      </a:lnTo>
                      <a:lnTo>
                        <a:pt x="520" y="10"/>
                      </a:lnTo>
                      <a:lnTo>
                        <a:pt x="522" y="32"/>
                      </a:lnTo>
                      <a:lnTo>
                        <a:pt x="550" y="37"/>
                      </a:lnTo>
                      <a:lnTo>
                        <a:pt x="612" y="30"/>
                      </a:lnTo>
                      <a:lnTo>
                        <a:pt x="637" y="2"/>
                      </a:lnTo>
                      <a:lnTo>
                        <a:pt x="712" y="0"/>
                      </a:lnTo>
                      <a:lnTo>
                        <a:pt x="730" y="32"/>
                      </a:lnTo>
                      <a:lnTo>
                        <a:pt x="760" y="32"/>
                      </a:lnTo>
                      <a:lnTo>
                        <a:pt x="787" y="15"/>
                      </a:lnTo>
                      <a:lnTo>
                        <a:pt x="835" y="45"/>
                      </a:lnTo>
                      <a:lnTo>
                        <a:pt x="835" y="97"/>
                      </a:lnTo>
                      <a:lnTo>
                        <a:pt x="855" y="120"/>
                      </a:lnTo>
                      <a:lnTo>
                        <a:pt x="850" y="155"/>
                      </a:lnTo>
                      <a:lnTo>
                        <a:pt x="835" y="190"/>
                      </a:lnTo>
                      <a:lnTo>
                        <a:pt x="810" y="190"/>
                      </a:lnTo>
                      <a:lnTo>
                        <a:pt x="800" y="200"/>
                      </a:lnTo>
                      <a:lnTo>
                        <a:pt x="815" y="227"/>
                      </a:lnTo>
                      <a:lnTo>
                        <a:pt x="815" y="255"/>
                      </a:lnTo>
                      <a:lnTo>
                        <a:pt x="800" y="280"/>
                      </a:lnTo>
                      <a:lnTo>
                        <a:pt x="760" y="300"/>
                      </a:lnTo>
                      <a:lnTo>
                        <a:pt x="757" y="325"/>
                      </a:lnTo>
                      <a:lnTo>
                        <a:pt x="757" y="350"/>
                      </a:lnTo>
                      <a:lnTo>
                        <a:pt x="720" y="357"/>
                      </a:lnTo>
                      <a:lnTo>
                        <a:pt x="655" y="355"/>
                      </a:lnTo>
                      <a:lnTo>
                        <a:pt x="625" y="362"/>
                      </a:lnTo>
                      <a:lnTo>
                        <a:pt x="570" y="362"/>
                      </a:lnTo>
                      <a:lnTo>
                        <a:pt x="547" y="390"/>
                      </a:lnTo>
                      <a:lnTo>
                        <a:pt x="460" y="362"/>
                      </a:lnTo>
                      <a:lnTo>
                        <a:pt x="417" y="362"/>
                      </a:lnTo>
                      <a:lnTo>
                        <a:pt x="307" y="340"/>
                      </a:lnTo>
                      <a:lnTo>
                        <a:pt x="292" y="312"/>
                      </a:lnTo>
                      <a:lnTo>
                        <a:pt x="292" y="285"/>
                      </a:lnTo>
                      <a:lnTo>
                        <a:pt x="285" y="267"/>
                      </a:lnTo>
                      <a:lnTo>
                        <a:pt x="270" y="260"/>
                      </a:lnTo>
                      <a:lnTo>
                        <a:pt x="202" y="262"/>
                      </a:lnTo>
                      <a:lnTo>
                        <a:pt x="107" y="272"/>
                      </a:lnTo>
                      <a:lnTo>
                        <a:pt x="97" y="250"/>
                      </a:lnTo>
                      <a:lnTo>
                        <a:pt x="82" y="242"/>
                      </a:lnTo>
                      <a:lnTo>
                        <a:pt x="52" y="232"/>
                      </a:lnTo>
                      <a:lnTo>
                        <a:pt x="25" y="225"/>
                      </a:lnTo>
                      <a:lnTo>
                        <a:pt x="25" y="200"/>
                      </a:lnTo>
                      <a:lnTo>
                        <a:pt x="25" y="160"/>
                      </a:lnTo>
                      <a:lnTo>
                        <a:pt x="0" y="14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811760" y="3137040"/>
                  <a:ext cx="101520" cy="126720"/>
                </a:xfrm>
                <a:custGeom>
                  <a:avLst/>
                  <a:gdLst/>
                  <a:ahLst/>
                  <a:rect l="l" t="t" r="r" b="b"/>
                  <a:pathLst>
                    <a:path w="110" h="135">
                      <a:moveTo>
                        <a:pt x="77" y="135"/>
                      </a:moveTo>
                      <a:lnTo>
                        <a:pt x="85" y="90"/>
                      </a:lnTo>
                      <a:lnTo>
                        <a:pt x="110" y="75"/>
                      </a:lnTo>
                      <a:lnTo>
                        <a:pt x="110" y="52"/>
                      </a:lnTo>
                      <a:lnTo>
                        <a:pt x="95" y="37"/>
                      </a:lnTo>
                      <a:lnTo>
                        <a:pt x="82" y="17"/>
                      </a:lnTo>
                      <a:lnTo>
                        <a:pt x="75" y="0"/>
                      </a:lnTo>
                      <a:lnTo>
                        <a:pt x="50" y="0"/>
                      </a:lnTo>
                      <a:lnTo>
                        <a:pt x="32" y="7"/>
                      </a:lnTo>
                      <a:lnTo>
                        <a:pt x="32" y="35"/>
                      </a:lnTo>
                      <a:lnTo>
                        <a:pt x="17" y="60"/>
                      </a:lnTo>
                      <a:lnTo>
                        <a:pt x="0" y="67"/>
                      </a:lnTo>
                      <a:lnTo>
                        <a:pt x="7" y="90"/>
                      </a:lnTo>
                      <a:lnTo>
                        <a:pt x="30" y="95"/>
                      </a:lnTo>
                      <a:lnTo>
                        <a:pt x="55" y="100"/>
                      </a:lnTo>
                      <a:lnTo>
                        <a:pt x="67" y="112"/>
                      </a:lnTo>
                      <a:lnTo>
                        <a:pt x="77" y="135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700360" y="3929040"/>
                  <a:ext cx="536400" cy="779400"/>
                </a:xfrm>
                <a:custGeom>
                  <a:avLst/>
                  <a:gdLst/>
                  <a:ahLst/>
                  <a:rect l="l" t="t" r="r" b="b"/>
                  <a:pathLst>
                    <a:path w="580" h="827">
                      <a:moveTo>
                        <a:pt x="293" y="7"/>
                      </a:moveTo>
                      <a:lnTo>
                        <a:pt x="335" y="0"/>
                      </a:lnTo>
                      <a:lnTo>
                        <a:pt x="363" y="32"/>
                      </a:lnTo>
                      <a:lnTo>
                        <a:pt x="368" y="70"/>
                      </a:lnTo>
                      <a:lnTo>
                        <a:pt x="378" y="80"/>
                      </a:lnTo>
                      <a:lnTo>
                        <a:pt x="400" y="72"/>
                      </a:lnTo>
                      <a:lnTo>
                        <a:pt x="465" y="100"/>
                      </a:lnTo>
                      <a:lnTo>
                        <a:pt x="485" y="87"/>
                      </a:lnTo>
                      <a:lnTo>
                        <a:pt x="510" y="85"/>
                      </a:lnTo>
                      <a:lnTo>
                        <a:pt x="528" y="107"/>
                      </a:lnTo>
                      <a:lnTo>
                        <a:pt x="543" y="145"/>
                      </a:lnTo>
                      <a:lnTo>
                        <a:pt x="565" y="170"/>
                      </a:lnTo>
                      <a:lnTo>
                        <a:pt x="580" y="182"/>
                      </a:lnTo>
                      <a:lnTo>
                        <a:pt x="573" y="195"/>
                      </a:lnTo>
                      <a:lnTo>
                        <a:pt x="525" y="210"/>
                      </a:lnTo>
                      <a:lnTo>
                        <a:pt x="470" y="240"/>
                      </a:lnTo>
                      <a:lnTo>
                        <a:pt x="473" y="290"/>
                      </a:lnTo>
                      <a:lnTo>
                        <a:pt x="440" y="317"/>
                      </a:lnTo>
                      <a:lnTo>
                        <a:pt x="413" y="340"/>
                      </a:lnTo>
                      <a:lnTo>
                        <a:pt x="410" y="390"/>
                      </a:lnTo>
                      <a:lnTo>
                        <a:pt x="410" y="422"/>
                      </a:lnTo>
                      <a:lnTo>
                        <a:pt x="388" y="445"/>
                      </a:lnTo>
                      <a:lnTo>
                        <a:pt x="370" y="422"/>
                      </a:lnTo>
                      <a:lnTo>
                        <a:pt x="340" y="430"/>
                      </a:lnTo>
                      <a:lnTo>
                        <a:pt x="338" y="447"/>
                      </a:lnTo>
                      <a:lnTo>
                        <a:pt x="333" y="487"/>
                      </a:lnTo>
                      <a:lnTo>
                        <a:pt x="343" y="502"/>
                      </a:lnTo>
                      <a:lnTo>
                        <a:pt x="338" y="545"/>
                      </a:lnTo>
                      <a:lnTo>
                        <a:pt x="318" y="562"/>
                      </a:lnTo>
                      <a:lnTo>
                        <a:pt x="293" y="595"/>
                      </a:lnTo>
                      <a:lnTo>
                        <a:pt x="283" y="622"/>
                      </a:lnTo>
                      <a:lnTo>
                        <a:pt x="288" y="672"/>
                      </a:lnTo>
                      <a:lnTo>
                        <a:pt x="308" y="700"/>
                      </a:lnTo>
                      <a:lnTo>
                        <a:pt x="295" y="717"/>
                      </a:lnTo>
                      <a:lnTo>
                        <a:pt x="240" y="735"/>
                      </a:lnTo>
                      <a:lnTo>
                        <a:pt x="220" y="755"/>
                      </a:lnTo>
                      <a:lnTo>
                        <a:pt x="218" y="777"/>
                      </a:lnTo>
                      <a:lnTo>
                        <a:pt x="218" y="820"/>
                      </a:lnTo>
                      <a:lnTo>
                        <a:pt x="155" y="820"/>
                      </a:lnTo>
                      <a:lnTo>
                        <a:pt x="113" y="827"/>
                      </a:lnTo>
                      <a:lnTo>
                        <a:pt x="63" y="770"/>
                      </a:lnTo>
                      <a:lnTo>
                        <a:pt x="35" y="770"/>
                      </a:lnTo>
                      <a:lnTo>
                        <a:pt x="13" y="770"/>
                      </a:lnTo>
                      <a:lnTo>
                        <a:pt x="0" y="750"/>
                      </a:lnTo>
                      <a:lnTo>
                        <a:pt x="13" y="727"/>
                      </a:lnTo>
                      <a:lnTo>
                        <a:pt x="43" y="687"/>
                      </a:lnTo>
                      <a:lnTo>
                        <a:pt x="58" y="645"/>
                      </a:lnTo>
                      <a:lnTo>
                        <a:pt x="90" y="595"/>
                      </a:lnTo>
                      <a:lnTo>
                        <a:pt x="98" y="567"/>
                      </a:lnTo>
                      <a:lnTo>
                        <a:pt x="83" y="547"/>
                      </a:lnTo>
                      <a:lnTo>
                        <a:pt x="63" y="527"/>
                      </a:lnTo>
                      <a:lnTo>
                        <a:pt x="58" y="515"/>
                      </a:lnTo>
                      <a:lnTo>
                        <a:pt x="83" y="507"/>
                      </a:lnTo>
                      <a:lnTo>
                        <a:pt x="98" y="477"/>
                      </a:lnTo>
                      <a:lnTo>
                        <a:pt x="70" y="470"/>
                      </a:lnTo>
                      <a:lnTo>
                        <a:pt x="43" y="485"/>
                      </a:lnTo>
                      <a:lnTo>
                        <a:pt x="43" y="450"/>
                      </a:lnTo>
                      <a:lnTo>
                        <a:pt x="58" y="430"/>
                      </a:lnTo>
                      <a:lnTo>
                        <a:pt x="70" y="407"/>
                      </a:lnTo>
                      <a:lnTo>
                        <a:pt x="78" y="380"/>
                      </a:lnTo>
                      <a:lnTo>
                        <a:pt x="83" y="360"/>
                      </a:lnTo>
                      <a:lnTo>
                        <a:pt x="98" y="352"/>
                      </a:lnTo>
                      <a:lnTo>
                        <a:pt x="120" y="367"/>
                      </a:lnTo>
                      <a:lnTo>
                        <a:pt x="155" y="317"/>
                      </a:lnTo>
                      <a:lnTo>
                        <a:pt x="175" y="282"/>
                      </a:lnTo>
                      <a:lnTo>
                        <a:pt x="230" y="220"/>
                      </a:lnTo>
                      <a:lnTo>
                        <a:pt x="230" y="192"/>
                      </a:lnTo>
                      <a:lnTo>
                        <a:pt x="260" y="150"/>
                      </a:lnTo>
                      <a:lnTo>
                        <a:pt x="268" y="100"/>
                      </a:lnTo>
                      <a:lnTo>
                        <a:pt x="280" y="72"/>
                      </a:lnTo>
                      <a:lnTo>
                        <a:pt x="293" y="7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" name=""/>
                <p:cNvGrpSpPr/>
                <p:nvPr/>
              </p:nvGrpSpPr>
              <p:grpSpPr>
                <a:xfrm>
                  <a:off x="2901960" y="3686040"/>
                  <a:ext cx="1471680" cy="1281240"/>
                  <a:chOff x="2901960" y="3686040"/>
                  <a:chExt cx="1471680" cy="12812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>
                    <a:off x="2901960" y="3686040"/>
                    <a:ext cx="1418760" cy="128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35" h="1360">
                        <a:moveTo>
                          <a:pt x="77" y="265"/>
                        </a:moveTo>
                        <a:lnTo>
                          <a:pt x="70" y="245"/>
                        </a:lnTo>
                        <a:lnTo>
                          <a:pt x="77" y="218"/>
                        </a:lnTo>
                        <a:lnTo>
                          <a:pt x="120" y="148"/>
                        </a:lnTo>
                        <a:lnTo>
                          <a:pt x="97" y="133"/>
                        </a:lnTo>
                        <a:lnTo>
                          <a:pt x="107" y="110"/>
                        </a:lnTo>
                        <a:lnTo>
                          <a:pt x="82" y="105"/>
                        </a:lnTo>
                        <a:lnTo>
                          <a:pt x="82" y="78"/>
                        </a:lnTo>
                        <a:lnTo>
                          <a:pt x="97" y="55"/>
                        </a:lnTo>
                        <a:lnTo>
                          <a:pt x="170" y="35"/>
                        </a:lnTo>
                        <a:lnTo>
                          <a:pt x="225" y="40"/>
                        </a:lnTo>
                        <a:lnTo>
                          <a:pt x="230" y="20"/>
                        </a:lnTo>
                        <a:lnTo>
                          <a:pt x="272" y="0"/>
                        </a:lnTo>
                        <a:lnTo>
                          <a:pt x="295" y="8"/>
                        </a:lnTo>
                        <a:lnTo>
                          <a:pt x="342" y="70"/>
                        </a:lnTo>
                        <a:lnTo>
                          <a:pt x="420" y="105"/>
                        </a:lnTo>
                        <a:lnTo>
                          <a:pt x="490" y="105"/>
                        </a:lnTo>
                        <a:lnTo>
                          <a:pt x="510" y="110"/>
                        </a:lnTo>
                        <a:lnTo>
                          <a:pt x="700" y="218"/>
                        </a:lnTo>
                        <a:lnTo>
                          <a:pt x="755" y="225"/>
                        </a:lnTo>
                        <a:lnTo>
                          <a:pt x="797" y="265"/>
                        </a:lnTo>
                        <a:lnTo>
                          <a:pt x="860" y="250"/>
                        </a:lnTo>
                        <a:lnTo>
                          <a:pt x="895" y="273"/>
                        </a:lnTo>
                        <a:lnTo>
                          <a:pt x="932" y="308"/>
                        </a:lnTo>
                        <a:lnTo>
                          <a:pt x="972" y="308"/>
                        </a:lnTo>
                        <a:lnTo>
                          <a:pt x="1002" y="315"/>
                        </a:lnTo>
                        <a:lnTo>
                          <a:pt x="1015" y="328"/>
                        </a:lnTo>
                        <a:lnTo>
                          <a:pt x="1002" y="350"/>
                        </a:lnTo>
                        <a:lnTo>
                          <a:pt x="1002" y="378"/>
                        </a:lnTo>
                        <a:lnTo>
                          <a:pt x="1112" y="455"/>
                        </a:lnTo>
                        <a:lnTo>
                          <a:pt x="1175" y="505"/>
                        </a:lnTo>
                        <a:lnTo>
                          <a:pt x="1205" y="498"/>
                        </a:lnTo>
                        <a:lnTo>
                          <a:pt x="1237" y="490"/>
                        </a:lnTo>
                        <a:lnTo>
                          <a:pt x="1345" y="540"/>
                        </a:lnTo>
                        <a:lnTo>
                          <a:pt x="1357" y="575"/>
                        </a:lnTo>
                        <a:lnTo>
                          <a:pt x="1372" y="588"/>
                        </a:lnTo>
                        <a:lnTo>
                          <a:pt x="1407" y="595"/>
                        </a:lnTo>
                        <a:lnTo>
                          <a:pt x="1427" y="610"/>
                        </a:lnTo>
                        <a:lnTo>
                          <a:pt x="1457" y="610"/>
                        </a:lnTo>
                        <a:lnTo>
                          <a:pt x="1485" y="610"/>
                        </a:lnTo>
                        <a:lnTo>
                          <a:pt x="1512" y="618"/>
                        </a:lnTo>
                        <a:lnTo>
                          <a:pt x="1520" y="610"/>
                        </a:lnTo>
                        <a:lnTo>
                          <a:pt x="1535" y="638"/>
                        </a:lnTo>
                        <a:lnTo>
                          <a:pt x="1535" y="673"/>
                        </a:lnTo>
                        <a:lnTo>
                          <a:pt x="1512" y="695"/>
                        </a:lnTo>
                        <a:lnTo>
                          <a:pt x="1402" y="778"/>
                        </a:lnTo>
                        <a:lnTo>
                          <a:pt x="1352" y="778"/>
                        </a:lnTo>
                        <a:lnTo>
                          <a:pt x="1212" y="813"/>
                        </a:lnTo>
                        <a:lnTo>
                          <a:pt x="1162" y="820"/>
                        </a:lnTo>
                        <a:lnTo>
                          <a:pt x="1162" y="860"/>
                        </a:lnTo>
                        <a:lnTo>
                          <a:pt x="1135" y="860"/>
                        </a:lnTo>
                        <a:lnTo>
                          <a:pt x="1105" y="883"/>
                        </a:lnTo>
                        <a:lnTo>
                          <a:pt x="1077" y="918"/>
                        </a:lnTo>
                        <a:lnTo>
                          <a:pt x="1050" y="945"/>
                        </a:lnTo>
                        <a:lnTo>
                          <a:pt x="1015" y="953"/>
                        </a:lnTo>
                        <a:lnTo>
                          <a:pt x="987" y="988"/>
                        </a:lnTo>
                        <a:lnTo>
                          <a:pt x="987" y="1038"/>
                        </a:lnTo>
                        <a:lnTo>
                          <a:pt x="1007" y="1063"/>
                        </a:lnTo>
                        <a:lnTo>
                          <a:pt x="1015" y="1085"/>
                        </a:lnTo>
                        <a:lnTo>
                          <a:pt x="1015" y="1120"/>
                        </a:lnTo>
                        <a:lnTo>
                          <a:pt x="1007" y="1135"/>
                        </a:lnTo>
                        <a:lnTo>
                          <a:pt x="980" y="1143"/>
                        </a:lnTo>
                        <a:lnTo>
                          <a:pt x="937" y="1178"/>
                        </a:lnTo>
                        <a:lnTo>
                          <a:pt x="882" y="1228"/>
                        </a:lnTo>
                        <a:lnTo>
                          <a:pt x="860" y="1248"/>
                        </a:lnTo>
                        <a:lnTo>
                          <a:pt x="847" y="1260"/>
                        </a:lnTo>
                        <a:lnTo>
                          <a:pt x="847" y="1283"/>
                        </a:lnTo>
                        <a:lnTo>
                          <a:pt x="785" y="1283"/>
                        </a:lnTo>
                        <a:lnTo>
                          <a:pt x="747" y="1290"/>
                        </a:lnTo>
                        <a:lnTo>
                          <a:pt x="720" y="1298"/>
                        </a:lnTo>
                        <a:lnTo>
                          <a:pt x="707" y="1310"/>
                        </a:lnTo>
                        <a:lnTo>
                          <a:pt x="685" y="1338"/>
                        </a:lnTo>
                        <a:lnTo>
                          <a:pt x="650" y="1353"/>
                        </a:lnTo>
                        <a:lnTo>
                          <a:pt x="630" y="1353"/>
                        </a:lnTo>
                        <a:lnTo>
                          <a:pt x="587" y="1345"/>
                        </a:lnTo>
                        <a:lnTo>
                          <a:pt x="517" y="1338"/>
                        </a:lnTo>
                        <a:lnTo>
                          <a:pt x="392" y="1290"/>
                        </a:lnTo>
                        <a:lnTo>
                          <a:pt x="342" y="1283"/>
                        </a:lnTo>
                        <a:lnTo>
                          <a:pt x="295" y="1298"/>
                        </a:lnTo>
                        <a:lnTo>
                          <a:pt x="260" y="1318"/>
                        </a:lnTo>
                        <a:lnTo>
                          <a:pt x="217" y="1323"/>
                        </a:lnTo>
                        <a:lnTo>
                          <a:pt x="182" y="1345"/>
                        </a:lnTo>
                        <a:lnTo>
                          <a:pt x="160" y="1360"/>
                        </a:lnTo>
                        <a:lnTo>
                          <a:pt x="82" y="1275"/>
                        </a:lnTo>
                        <a:lnTo>
                          <a:pt x="82" y="1158"/>
                        </a:lnTo>
                        <a:lnTo>
                          <a:pt x="50" y="1113"/>
                        </a:lnTo>
                        <a:lnTo>
                          <a:pt x="7" y="1080"/>
                        </a:lnTo>
                        <a:lnTo>
                          <a:pt x="0" y="1058"/>
                        </a:lnTo>
                        <a:lnTo>
                          <a:pt x="0" y="1015"/>
                        </a:lnTo>
                        <a:lnTo>
                          <a:pt x="20" y="993"/>
                        </a:lnTo>
                        <a:lnTo>
                          <a:pt x="77" y="973"/>
                        </a:lnTo>
                        <a:lnTo>
                          <a:pt x="90" y="960"/>
                        </a:lnTo>
                        <a:lnTo>
                          <a:pt x="70" y="930"/>
                        </a:lnTo>
                        <a:lnTo>
                          <a:pt x="62" y="883"/>
                        </a:lnTo>
                        <a:lnTo>
                          <a:pt x="82" y="840"/>
                        </a:lnTo>
                        <a:lnTo>
                          <a:pt x="127" y="798"/>
                        </a:lnTo>
                        <a:lnTo>
                          <a:pt x="127" y="765"/>
                        </a:lnTo>
                        <a:lnTo>
                          <a:pt x="112" y="735"/>
                        </a:lnTo>
                        <a:lnTo>
                          <a:pt x="127" y="688"/>
                        </a:lnTo>
                        <a:lnTo>
                          <a:pt x="132" y="680"/>
                        </a:lnTo>
                        <a:lnTo>
                          <a:pt x="152" y="680"/>
                        </a:lnTo>
                        <a:lnTo>
                          <a:pt x="170" y="703"/>
                        </a:lnTo>
                        <a:lnTo>
                          <a:pt x="190" y="673"/>
                        </a:lnTo>
                        <a:lnTo>
                          <a:pt x="197" y="595"/>
                        </a:lnTo>
                        <a:lnTo>
                          <a:pt x="252" y="548"/>
                        </a:lnTo>
                        <a:lnTo>
                          <a:pt x="252" y="518"/>
                        </a:lnTo>
                        <a:lnTo>
                          <a:pt x="252" y="498"/>
                        </a:lnTo>
                        <a:lnTo>
                          <a:pt x="310" y="463"/>
                        </a:lnTo>
                        <a:lnTo>
                          <a:pt x="350" y="455"/>
                        </a:lnTo>
                        <a:lnTo>
                          <a:pt x="365" y="440"/>
                        </a:lnTo>
                        <a:lnTo>
                          <a:pt x="330" y="408"/>
                        </a:lnTo>
                        <a:lnTo>
                          <a:pt x="302" y="350"/>
                        </a:lnTo>
                        <a:lnTo>
                          <a:pt x="287" y="338"/>
                        </a:lnTo>
                        <a:lnTo>
                          <a:pt x="247" y="358"/>
                        </a:lnTo>
                        <a:lnTo>
                          <a:pt x="217" y="345"/>
                        </a:lnTo>
                        <a:lnTo>
                          <a:pt x="177" y="328"/>
                        </a:lnTo>
                        <a:lnTo>
                          <a:pt x="160" y="338"/>
                        </a:lnTo>
                        <a:lnTo>
                          <a:pt x="147" y="320"/>
                        </a:lnTo>
                        <a:lnTo>
                          <a:pt x="147" y="295"/>
                        </a:lnTo>
                        <a:lnTo>
                          <a:pt x="127" y="265"/>
                        </a:lnTo>
                        <a:lnTo>
                          <a:pt x="112" y="258"/>
                        </a:lnTo>
                        <a:lnTo>
                          <a:pt x="77" y="265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980520" y="4748760"/>
                    <a:ext cx="554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42">
                        <a:moveTo>
                          <a:pt x="60" y="0"/>
                        </a:moveTo>
                        <a:lnTo>
                          <a:pt x="33" y="0"/>
                        </a:lnTo>
                        <a:lnTo>
                          <a:pt x="0" y="30"/>
                        </a:lnTo>
                        <a:lnTo>
                          <a:pt x="15" y="42"/>
                        </a:lnTo>
                        <a:lnTo>
                          <a:pt x="45" y="42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4140360" y="4649760"/>
                    <a:ext cx="1216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05">
                        <a:moveTo>
                          <a:pt x="97" y="0"/>
                        </a:moveTo>
                        <a:lnTo>
                          <a:pt x="85" y="12"/>
                        </a:lnTo>
                        <a:lnTo>
                          <a:pt x="27" y="20"/>
                        </a:lnTo>
                        <a:lnTo>
                          <a:pt x="0" y="57"/>
                        </a:lnTo>
                        <a:lnTo>
                          <a:pt x="40" y="85"/>
                        </a:lnTo>
                        <a:lnTo>
                          <a:pt x="62" y="105"/>
                        </a:lnTo>
                        <a:lnTo>
                          <a:pt x="105" y="97"/>
                        </a:lnTo>
                        <a:lnTo>
                          <a:pt x="132" y="85"/>
                        </a:lnTo>
                        <a:lnTo>
                          <a:pt x="125" y="57"/>
                        </a:lnTo>
                        <a:lnTo>
                          <a:pt x="105" y="35"/>
                        </a:lnTo>
                        <a:lnTo>
                          <a:pt x="97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4334760" y="4656240"/>
                    <a:ext cx="3888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5">
                        <a:moveTo>
                          <a:pt x="27" y="0"/>
                        </a:moveTo>
                        <a:lnTo>
                          <a:pt x="0" y="13"/>
                        </a:lnTo>
                        <a:lnTo>
                          <a:pt x="22" y="33"/>
                        </a:lnTo>
                        <a:lnTo>
                          <a:pt x="42" y="55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6120" bIns="6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4800600" y="3733920"/>
                  <a:ext cx="1292400" cy="1655640"/>
                  <a:chOff x="4800600" y="3733920"/>
                  <a:chExt cx="1292400" cy="165564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4847040" y="4611600"/>
                    <a:ext cx="206640" cy="343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65">
                        <a:moveTo>
                          <a:pt x="133" y="0"/>
                        </a:moveTo>
                        <a:lnTo>
                          <a:pt x="98" y="20"/>
                        </a:lnTo>
                        <a:lnTo>
                          <a:pt x="70" y="42"/>
                        </a:lnTo>
                        <a:lnTo>
                          <a:pt x="40" y="50"/>
                        </a:lnTo>
                        <a:lnTo>
                          <a:pt x="0" y="42"/>
                        </a:lnTo>
                        <a:lnTo>
                          <a:pt x="8" y="85"/>
                        </a:lnTo>
                        <a:lnTo>
                          <a:pt x="28" y="112"/>
                        </a:lnTo>
                        <a:lnTo>
                          <a:pt x="20" y="185"/>
                        </a:lnTo>
                        <a:lnTo>
                          <a:pt x="20" y="217"/>
                        </a:lnTo>
                        <a:lnTo>
                          <a:pt x="28" y="247"/>
                        </a:lnTo>
                        <a:lnTo>
                          <a:pt x="8" y="302"/>
                        </a:lnTo>
                        <a:lnTo>
                          <a:pt x="13" y="345"/>
                        </a:lnTo>
                        <a:lnTo>
                          <a:pt x="40" y="365"/>
                        </a:lnTo>
                        <a:lnTo>
                          <a:pt x="83" y="337"/>
                        </a:lnTo>
                        <a:lnTo>
                          <a:pt x="98" y="330"/>
                        </a:lnTo>
                        <a:lnTo>
                          <a:pt x="140" y="337"/>
                        </a:lnTo>
                        <a:lnTo>
                          <a:pt x="168" y="310"/>
                        </a:lnTo>
                        <a:lnTo>
                          <a:pt x="168" y="280"/>
                        </a:lnTo>
                        <a:lnTo>
                          <a:pt x="203" y="225"/>
                        </a:lnTo>
                        <a:lnTo>
                          <a:pt x="215" y="190"/>
                        </a:lnTo>
                        <a:lnTo>
                          <a:pt x="203" y="155"/>
                        </a:lnTo>
                        <a:lnTo>
                          <a:pt x="223" y="112"/>
                        </a:lnTo>
                        <a:lnTo>
                          <a:pt x="210" y="50"/>
                        </a:lnTo>
                        <a:lnTo>
                          <a:pt x="203" y="12"/>
                        </a:lnTo>
                        <a:lnTo>
                          <a:pt x="133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5327640" y="5147640"/>
                    <a:ext cx="38016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257">
                        <a:moveTo>
                          <a:pt x="390" y="0"/>
                        </a:moveTo>
                        <a:lnTo>
                          <a:pt x="410" y="22"/>
                        </a:lnTo>
                        <a:lnTo>
                          <a:pt x="397" y="42"/>
                        </a:lnTo>
                        <a:lnTo>
                          <a:pt x="382" y="75"/>
                        </a:lnTo>
                        <a:lnTo>
                          <a:pt x="360" y="97"/>
                        </a:lnTo>
                        <a:lnTo>
                          <a:pt x="367" y="162"/>
                        </a:lnTo>
                        <a:lnTo>
                          <a:pt x="382" y="210"/>
                        </a:lnTo>
                        <a:lnTo>
                          <a:pt x="345" y="230"/>
                        </a:lnTo>
                        <a:lnTo>
                          <a:pt x="340" y="250"/>
                        </a:lnTo>
                        <a:lnTo>
                          <a:pt x="310" y="257"/>
                        </a:lnTo>
                        <a:lnTo>
                          <a:pt x="270" y="217"/>
                        </a:lnTo>
                        <a:lnTo>
                          <a:pt x="240" y="217"/>
                        </a:lnTo>
                        <a:lnTo>
                          <a:pt x="217" y="182"/>
                        </a:lnTo>
                        <a:lnTo>
                          <a:pt x="177" y="162"/>
                        </a:lnTo>
                        <a:lnTo>
                          <a:pt x="147" y="155"/>
                        </a:lnTo>
                        <a:lnTo>
                          <a:pt x="120" y="140"/>
                        </a:lnTo>
                        <a:lnTo>
                          <a:pt x="92" y="117"/>
                        </a:lnTo>
                        <a:lnTo>
                          <a:pt x="42" y="85"/>
                        </a:lnTo>
                        <a:lnTo>
                          <a:pt x="22" y="75"/>
                        </a:lnTo>
                        <a:lnTo>
                          <a:pt x="0" y="55"/>
                        </a:lnTo>
                        <a:lnTo>
                          <a:pt x="0" y="30"/>
                        </a:lnTo>
                        <a:lnTo>
                          <a:pt x="7" y="7"/>
                        </a:lnTo>
                        <a:lnTo>
                          <a:pt x="50" y="12"/>
                        </a:lnTo>
                        <a:lnTo>
                          <a:pt x="115" y="12"/>
                        </a:lnTo>
                        <a:lnTo>
                          <a:pt x="127" y="35"/>
                        </a:lnTo>
                        <a:lnTo>
                          <a:pt x="197" y="35"/>
                        </a:lnTo>
                        <a:lnTo>
                          <a:pt x="247" y="35"/>
                        </a:lnTo>
                        <a:lnTo>
                          <a:pt x="310" y="22"/>
                        </a:lnTo>
                        <a:lnTo>
                          <a:pt x="390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4800600" y="3733920"/>
                    <a:ext cx="1292400" cy="147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3" h="1573">
                        <a:moveTo>
                          <a:pt x="1010" y="1553"/>
                        </a:moveTo>
                        <a:lnTo>
                          <a:pt x="1030" y="1573"/>
                        </a:lnTo>
                        <a:lnTo>
                          <a:pt x="1065" y="1553"/>
                        </a:lnTo>
                        <a:lnTo>
                          <a:pt x="1108" y="1495"/>
                        </a:lnTo>
                        <a:lnTo>
                          <a:pt x="1128" y="1413"/>
                        </a:lnTo>
                        <a:lnTo>
                          <a:pt x="1150" y="1405"/>
                        </a:lnTo>
                        <a:lnTo>
                          <a:pt x="1165" y="1418"/>
                        </a:lnTo>
                        <a:lnTo>
                          <a:pt x="1193" y="1390"/>
                        </a:lnTo>
                        <a:lnTo>
                          <a:pt x="1185" y="1355"/>
                        </a:lnTo>
                        <a:lnTo>
                          <a:pt x="1198" y="1328"/>
                        </a:lnTo>
                        <a:lnTo>
                          <a:pt x="1193" y="1313"/>
                        </a:lnTo>
                        <a:lnTo>
                          <a:pt x="1158" y="1285"/>
                        </a:lnTo>
                        <a:lnTo>
                          <a:pt x="1145" y="1285"/>
                        </a:lnTo>
                        <a:lnTo>
                          <a:pt x="1150" y="1270"/>
                        </a:lnTo>
                        <a:lnTo>
                          <a:pt x="1123" y="1278"/>
                        </a:lnTo>
                        <a:lnTo>
                          <a:pt x="1108" y="1265"/>
                        </a:lnTo>
                        <a:lnTo>
                          <a:pt x="1108" y="1250"/>
                        </a:lnTo>
                        <a:lnTo>
                          <a:pt x="1150" y="1223"/>
                        </a:lnTo>
                        <a:lnTo>
                          <a:pt x="1170" y="1195"/>
                        </a:lnTo>
                        <a:lnTo>
                          <a:pt x="1170" y="1150"/>
                        </a:lnTo>
                        <a:lnTo>
                          <a:pt x="1193" y="1145"/>
                        </a:lnTo>
                        <a:lnTo>
                          <a:pt x="1263" y="1180"/>
                        </a:lnTo>
                        <a:lnTo>
                          <a:pt x="1290" y="1188"/>
                        </a:lnTo>
                        <a:lnTo>
                          <a:pt x="1325" y="1235"/>
                        </a:lnTo>
                        <a:lnTo>
                          <a:pt x="1340" y="1265"/>
                        </a:lnTo>
                        <a:lnTo>
                          <a:pt x="1360" y="1265"/>
                        </a:lnTo>
                        <a:lnTo>
                          <a:pt x="1383" y="1235"/>
                        </a:lnTo>
                        <a:lnTo>
                          <a:pt x="1393" y="1208"/>
                        </a:lnTo>
                        <a:lnTo>
                          <a:pt x="1368" y="1158"/>
                        </a:lnTo>
                        <a:lnTo>
                          <a:pt x="1340" y="1130"/>
                        </a:lnTo>
                        <a:lnTo>
                          <a:pt x="1313" y="1130"/>
                        </a:lnTo>
                        <a:lnTo>
                          <a:pt x="1313" y="1125"/>
                        </a:lnTo>
                        <a:lnTo>
                          <a:pt x="1298" y="1125"/>
                        </a:lnTo>
                        <a:lnTo>
                          <a:pt x="1228" y="1053"/>
                        </a:lnTo>
                        <a:lnTo>
                          <a:pt x="1193" y="1060"/>
                        </a:lnTo>
                        <a:lnTo>
                          <a:pt x="1150" y="1005"/>
                        </a:lnTo>
                        <a:lnTo>
                          <a:pt x="1123" y="998"/>
                        </a:lnTo>
                        <a:lnTo>
                          <a:pt x="1080" y="955"/>
                        </a:lnTo>
                        <a:lnTo>
                          <a:pt x="1058" y="940"/>
                        </a:lnTo>
                        <a:lnTo>
                          <a:pt x="1073" y="928"/>
                        </a:lnTo>
                        <a:lnTo>
                          <a:pt x="1095" y="920"/>
                        </a:lnTo>
                        <a:lnTo>
                          <a:pt x="1065" y="898"/>
                        </a:lnTo>
                        <a:lnTo>
                          <a:pt x="1030" y="913"/>
                        </a:lnTo>
                        <a:lnTo>
                          <a:pt x="1003" y="898"/>
                        </a:lnTo>
                        <a:lnTo>
                          <a:pt x="925" y="835"/>
                        </a:lnTo>
                        <a:lnTo>
                          <a:pt x="918" y="808"/>
                        </a:lnTo>
                        <a:lnTo>
                          <a:pt x="890" y="800"/>
                        </a:lnTo>
                        <a:lnTo>
                          <a:pt x="863" y="780"/>
                        </a:lnTo>
                        <a:lnTo>
                          <a:pt x="793" y="625"/>
                        </a:lnTo>
                        <a:lnTo>
                          <a:pt x="770" y="605"/>
                        </a:lnTo>
                        <a:lnTo>
                          <a:pt x="715" y="555"/>
                        </a:lnTo>
                        <a:lnTo>
                          <a:pt x="653" y="458"/>
                        </a:lnTo>
                        <a:lnTo>
                          <a:pt x="653" y="400"/>
                        </a:lnTo>
                        <a:lnTo>
                          <a:pt x="688" y="380"/>
                        </a:lnTo>
                        <a:lnTo>
                          <a:pt x="688" y="350"/>
                        </a:lnTo>
                        <a:lnTo>
                          <a:pt x="660" y="325"/>
                        </a:lnTo>
                        <a:lnTo>
                          <a:pt x="645" y="310"/>
                        </a:lnTo>
                        <a:lnTo>
                          <a:pt x="653" y="288"/>
                        </a:lnTo>
                        <a:lnTo>
                          <a:pt x="680" y="275"/>
                        </a:lnTo>
                        <a:lnTo>
                          <a:pt x="765" y="255"/>
                        </a:lnTo>
                        <a:lnTo>
                          <a:pt x="800" y="233"/>
                        </a:lnTo>
                        <a:lnTo>
                          <a:pt x="828" y="205"/>
                        </a:lnTo>
                        <a:lnTo>
                          <a:pt x="820" y="133"/>
                        </a:lnTo>
                        <a:lnTo>
                          <a:pt x="828" y="108"/>
                        </a:lnTo>
                        <a:lnTo>
                          <a:pt x="785" y="100"/>
                        </a:lnTo>
                        <a:lnTo>
                          <a:pt x="695" y="78"/>
                        </a:lnTo>
                        <a:lnTo>
                          <a:pt x="680" y="58"/>
                        </a:lnTo>
                        <a:lnTo>
                          <a:pt x="675" y="50"/>
                        </a:lnTo>
                        <a:lnTo>
                          <a:pt x="675" y="30"/>
                        </a:lnTo>
                        <a:lnTo>
                          <a:pt x="668" y="8"/>
                        </a:lnTo>
                        <a:lnTo>
                          <a:pt x="618" y="0"/>
                        </a:lnTo>
                        <a:lnTo>
                          <a:pt x="498" y="8"/>
                        </a:lnTo>
                        <a:lnTo>
                          <a:pt x="485" y="38"/>
                        </a:lnTo>
                        <a:lnTo>
                          <a:pt x="443" y="43"/>
                        </a:lnTo>
                        <a:lnTo>
                          <a:pt x="415" y="100"/>
                        </a:lnTo>
                        <a:lnTo>
                          <a:pt x="415" y="120"/>
                        </a:lnTo>
                        <a:lnTo>
                          <a:pt x="388" y="100"/>
                        </a:lnTo>
                        <a:lnTo>
                          <a:pt x="343" y="93"/>
                        </a:lnTo>
                        <a:lnTo>
                          <a:pt x="318" y="108"/>
                        </a:lnTo>
                        <a:lnTo>
                          <a:pt x="295" y="148"/>
                        </a:lnTo>
                        <a:lnTo>
                          <a:pt x="253" y="120"/>
                        </a:lnTo>
                        <a:lnTo>
                          <a:pt x="260" y="78"/>
                        </a:lnTo>
                        <a:lnTo>
                          <a:pt x="248" y="50"/>
                        </a:lnTo>
                        <a:lnTo>
                          <a:pt x="218" y="58"/>
                        </a:lnTo>
                        <a:lnTo>
                          <a:pt x="210" y="93"/>
                        </a:lnTo>
                        <a:lnTo>
                          <a:pt x="190" y="113"/>
                        </a:lnTo>
                        <a:lnTo>
                          <a:pt x="168" y="113"/>
                        </a:lnTo>
                        <a:lnTo>
                          <a:pt x="70" y="100"/>
                        </a:lnTo>
                        <a:lnTo>
                          <a:pt x="35" y="128"/>
                        </a:lnTo>
                        <a:lnTo>
                          <a:pt x="43" y="163"/>
                        </a:lnTo>
                        <a:lnTo>
                          <a:pt x="50" y="190"/>
                        </a:lnTo>
                        <a:lnTo>
                          <a:pt x="0" y="233"/>
                        </a:lnTo>
                        <a:lnTo>
                          <a:pt x="13" y="260"/>
                        </a:lnTo>
                        <a:lnTo>
                          <a:pt x="28" y="275"/>
                        </a:lnTo>
                        <a:lnTo>
                          <a:pt x="0" y="310"/>
                        </a:lnTo>
                        <a:lnTo>
                          <a:pt x="0" y="360"/>
                        </a:lnTo>
                        <a:lnTo>
                          <a:pt x="13" y="380"/>
                        </a:lnTo>
                        <a:lnTo>
                          <a:pt x="43" y="380"/>
                        </a:lnTo>
                        <a:lnTo>
                          <a:pt x="58" y="395"/>
                        </a:lnTo>
                        <a:lnTo>
                          <a:pt x="70" y="430"/>
                        </a:lnTo>
                        <a:lnTo>
                          <a:pt x="70" y="465"/>
                        </a:lnTo>
                        <a:lnTo>
                          <a:pt x="98" y="473"/>
                        </a:lnTo>
                        <a:lnTo>
                          <a:pt x="120" y="465"/>
                        </a:lnTo>
                        <a:lnTo>
                          <a:pt x="198" y="388"/>
                        </a:lnTo>
                        <a:lnTo>
                          <a:pt x="230" y="400"/>
                        </a:lnTo>
                        <a:lnTo>
                          <a:pt x="300" y="438"/>
                        </a:lnTo>
                        <a:lnTo>
                          <a:pt x="350" y="473"/>
                        </a:lnTo>
                        <a:lnTo>
                          <a:pt x="358" y="515"/>
                        </a:lnTo>
                        <a:lnTo>
                          <a:pt x="388" y="543"/>
                        </a:lnTo>
                        <a:lnTo>
                          <a:pt x="400" y="593"/>
                        </a:lnTo>
                        <a:lnTo>
                          <a:pt x="415" y="668"/>
                        </a:lnTo>
                        <a:lnTo>
                          <a:pt x="435" y="703"/>
                        </a:lnTo>
                        <a:lnTo>
                          <a:pt x="463" y="733"/>
                        </a:lnTo>
                        <a:lnTo>
                          <a:pt x="513" y="753"/>
                        </a:lnTo>
                        <a:lnTo>
                          <a:pt x="555" y="820"/>
                        </a:lnTo>
                        <a:lnTo>
                          <a:pt x="598" y="878"/>
                        </a:lnTo>
                        <a:lnTo>
                          <a:pt x="638" y="905"/>
                        </a:lnTo>
                        <a:lnTo>
                          <a:pt x="715" y="998"/>
                        </a:lnTo>
                        <a:lnTo>
                          <a:pt x="770" y="998"/>
                        </a:lnTo>
                        <a:lnTo>
                          <a:pt x="835" y="1053"/>
                        </a:lnTo>
                        <a:lnTo>
                          <a:pt x="835" y="1110"/>
                        </a:lnTo>
                        <a:lnTo>
                          <a:pt x="855" y="1125"/>
                        </a:lnTo>
                        <a:lnTo>
                          <a:pt x="898" y="1095"/>
                        </a:lnTo>
                        <a:lnTo>
                          <a:pt x="905" y="1125"/>
                        </a:lnTo>
                        <a:lnTo>
                          <a:pt x="905" y="1158"/>
                        </a:lnTo>
                        <a:lnTo>
                          <a:pt x="948" y="1195"/>
                        </a:lnTo>
                        <a:lnTo>
                          <a:pt x="960" y="1215"/>
                        </a:lnTo>
                        <a:lnTo>
                          <a:pt x="1018" y="1200"/>
                        </a:lnTo>
                        <a:lnTo>
                          <a:pt x="1025" y="1223"/>
                        </a:lnTo>
                        <a:lnTo>
                          <a:pt x="1018" y="1270"/>
                        </a:lnTo>
                        <a:lnTo>
                          <a:pt x="1045" y="1313"/>
                        </a:lnTo>
                        <a:lnTo>
                          <a:pt x="1053" y="1348"/>
                        </a:lnTo>
                        <a:lnTo>
                          <a:pt x="1065" y="1383"/>
                        </a:lnTo>
                        <a:lnTo>
                          <a:pt x="1058" y="1413"/>
                        </a:lnTo>
                        <a:lnTo>
                          <a:pt x="1030" y="1440"/>
                        </a:lnTo>
                        <a:lnTo>
                          <a:pt x="1025" y="1475"/>
                        </a:lnTo>
                        <a:lnTo>
                          <a:pt x="1003" y="1515"/>
                        </a:lnTo>
                        <a:lnTo>
                          <a:pt x="1010" y="1553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>
                  <a:off x="4564080" y="2879640"/>
                  <a:ext cx="360360" cy="325440"/>
                </a:xfrm>
                <a:custGeom>
                  <a:avLst/>
                  <a:gdLst/>
                  <a:ahLst/>
                  <a:rect l="l" t="t" r="r" b="b"/>
                  <a:pathLst>
                    <a:path w="395" h="350">
                      <a:moveTo>
                        <a:pt x="0" y="63"/>
                      </a:moveTo>
                      <a:lnTo>
                        <a:pt x="10" y="50"/>
                      </a:lnTo>
                      <a:lnTo>
                        <a:pt x="5" y="33"/>
                      </a:lnTo>
                      <a:lnTo>
                        <a:pt x="65" y="0"/>
                      </a:lnTo>
                      <a:lnTo>
                        <a:pt x="73" y="10"/>
                      </a:lnTo>
                      <a:lnTo>
                        <a:pt x="115" y="3"/>
                      </a:lnTo>
                      <a:lnTo>
                        <a:pt x="150" y="5"/>
                      </a:lnTo>
                      <a:lnTo>
                        <a:pt x="135" y="23"/>
                      </a:lnTo>
                      <a:lnTo>
                        <a:pt x="143" y="45"/>
                      </a:lnTo>
                      <a:lnTo>
                        <a:pt x="173" y="55"/>
                      </a:lnTo>
                      <a:lnTo>
                        <a:pt x="198" y="53"/>
                      </a:lnTo>
                      <a:lnTo>
                        <a:pt x="220" y="35"/>
                      </a:lnTo>
                      <a:lnTo>
                        <a:pt x="260" y="33"/>
                      </a:lnTo>
                      <a:lnTo>
                        <a:pt x="270" y="48"/>
                      </a:lnTo>
                      <a:lnTo>
                        <a:pt x="293" y="60"/>
                      </a:lnTo>
                      <a:lnTo>
                        <a:pt x="325" y="63"/>
                      </a:lnTo>
                      <a:lnTo>
                        <a:pt x="320" y="88"/>
                      </a:lnTo>
                      <a:lnTo>
                        <a:pt x="323" y="143"/>
                      </a:lnTo>
                      <a:lnTo>
                        <a:pt x="328" y="175"/>
                      </a:lnTo>
                      <a:lnTo>
                        <a:pt x="363" y="170"/>
                      </a:lnTo>
                      <a:lnTo>
                        <a:pt x="375" y="193"/>
                      </a:lnTo>
                      <a:lnTo>
                        <a:pt x="378" y="213"/>
                      </a:lnTo>
                      <a:lnTo>
                        <a:pt x="395" y="238"/>
                      </a:lnTo>
                      <a:lnTo>
                        <a:pt x="373" y="258"/>
                      </a:lnTo>
                      <a:lnTo>
                        <a:pt x="353" y="273"/>
                      </a:lnTo>
                      <a:lnTo>
                        <a:pt x="330" y="273"/>
                      </a:lnTo>
                      <a:lnTo>
                        <a:pt x="303" y="280"/>
                      </a:lnTo>
                      <a:lnTo>
                        <a:pt x="303" y="308"/>
                      </a:lnTo>
                      <a:lnTo>
                        <a:pt x="290" y="328"/>
                      </a:lnTo>
                      <a:lnTo>
                        <a:pt x="263" y="350"/>
                      </a:lnTo>
                      <a:lnTo>
                        <a:pt x="215" y="315"/>
                      </a:lnTo>
                      <a:lnTo>
                        <a:pt x="203" y="283"/>
                      </a:lnTo>
                      <a:lnTo>
                        <a:pt x="160" y="273"/>
                      </a:lnTo>
                      <a:lnTo>
                        <a:pt x="145" y="230"/>
                      </a:lnTo>
                      <a:lnTo>
                        <a:pt x="115" y="205"/>
                      </a:lnTo>
                      <a:lnTo>
                        <a:pt x="103" y="175"/>
                      </a:lnTo>
                      <a:lnTo>
                        <a:pt x="80" y="145"/>
                      </a:lnTo>
                      <a:lnTo>
                        <a:pt x="63" y="115"/>
                      </a:lnTo>
                      <a:lnTo>
                        <a:pt x="30" y="93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99"/>
                    </a:gs>
                    <a:gs pos="100000">
                      <a:srgbClr val="993300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691160" y="2638440"/>
                  <a:ext cx="371520" cy="404640"/>
                </a:xfrm>
                <a:custGeom>
                  <a:avLst/>
                  <a:gdLst/>
                  <a:ahLst/>
                  <a:rect l="l" t="t" r="r" b="b"/>
                  <a:pathLst>
                    <a:path w="402" h="430">
                      <a:moveTo>
                        <a:pt x="167" y="10"/>
                      </a:moveTo>
                      <a:lnTo>
                        <a:pt x="125" y="63"/>
                      </a:lnTo>
                      <a:lnTo>
                        <a:pt x="125" y="78"/>
                      </a:lnTo>
                      <a:lnTo>
                        <a:pt x="100" y="103"/>
                      </a:lnTo>
                      <a:lnTo>
                        <a:pt x="105" y="108"/>
                      </a:lnTo>
                      <a:lnTo>
                        <a:pt x="97" y="125"/>
                      </a:lnTo>
                      <a:lnTo>
                        <a:pt x="72" y="148"/>
                      </a:lnTo>
                      <a:lnTo>
                        <a:pt x="47" y="178"/>
                      </a:lnTo>
                      <a:lnTo>
                        <a:pt x="37" y="193"/>
                      </a:lnTo>
                      <a:lnTo>
                        <a:pt x="47" y="205"/>
                      </a:lnTo>
                      <a:lnTo>
                        <a:pt x="40" y="228"/>
                      </a:lnTo>
                      <a:lnTo>
                        <a:pt x="27" y="243"/>
                      </a:lnTo>
                      <a:lnTo>
                        <a:pt x="17" y="250"/>
                      </a:lnTo>
                      <a:lnTo>
                        <a:pt x="0" y="273"/>
                      </a:lnTo>
                      <a:lnTo>
                        <a:pt x="2" y="293"/>
                      </a:lnTo>
                      <a:lnTo>
                        <a:pt x="20" y="305"/>
                      </a:lnTo>
                      <a:lnTo>
                        <a:pt x="65" y="305"/>
                      </a:lnTo>
                      <a:lnTo>
                        <a:pt x="90" y="290"/>
                      </a:lnTo>
                      <a:lnTo>
                        <a:pt x="117" y="285"/>
                      </a:lnTo>
                      <a:lnTo>
                        <a:pt x="137" y="305"/>
                      </a:lnTo>
                      <a:lnTo>
                        <a:pt x="160" y="313"/>
                      </a:lnTo>
                      <a:lnTo>
                        <a:pt x="187" y="318"/>
                      </a:lnTo>
                      <a:lnTo>
                        <a:pt x="180" y="350"/>
                      </a:lnTo>
                      <a:lnTo>
                        <a:pt x="190" y="430"/>
                      </a:lnTo>
                      <a:lnTo>
                        <a:pt x="215" y="428"/>
                      </a:lnTo>
                      <a:lnTo>
                        <a:pt x="230" y="425"/>
                      </a:lnTo>
                      <a:lnTo>
                        <a:pt x="235" y="403"/>
                      </a:lnTo>
                      <a:lnTo>
                        <a:pt x="240" y="355"/>
                      </a:lnTo>
                      <a:lnTo>
                        <a:pt x="257" y="330"/>
                      </a:lnTo>
                      <a:lnTo>
                        <a:pt x="257" y="290"/>
                      </a:lnTo>
                      <a:lnTo>
                        <a:pt x="272" y="265"/>
                      </a:lnTo>
                      <a:lnTo>
                        <a:pt x="302" y="250"/>
                      </a:lnTo>
                      <a:lnTo>
                        <a:pt x="362" y="185"/>
                      </a:lnTo>
                      <a:lnTo>
                        <a:pt x="370" y="155"/>
                      </a:lnTo>
                      <a:lnTo>
                        <a:pt x="360" y="110"/>
                      </a:lnTo>
                      <a:lnTo>
                        <a:pt x="397" y="80"/>
                      </a:lnTo>
                      <a:lnTo>
                        <a:pt x="402" y="30"/>
                      </a:lnTo>
                      <a:lnTo>
                        <a:pt x="377" y="8"/>
                      </a:lnTo>
                      <a:lnTo>
                        <a:pt x="360" y="3"/>
                      </a:lnTo>
                      <a:lnTo>
                        <a:pt x="327" y="0"/>
                      </a:lnTo>
                      <a:lnTo>
                        <a:pt x="257" y="0"/>
                      </a:lnTo>
                      <a:lnTo>
                        <a:pt x="237" y="15"/>
                      </a:lnTo>
                      <a:lnTo>
                        <a:pt x="220" y="38"/>
                      </a:lnTo>
                      <a:lnTo>
                        <a:pt x="222" y="55"/>
                      </a:lnTo>
                      <a:lnTo>
                        <a:pt x="247" y="73"/>
                      </a:lnTo>
                      <a:lnTo>
                        <a:pt x="265" y="93"/>
                      </a:lnTo>
                      <a:lnTo>
                        <a:pt x="265" y="123"/>
                      </a:lnTo>
                      <a:lnTo>
                        <a:pt x="237" y="143"/>
                      </a:lnTo>
                      <a:lnTo>
                        <a:pt x="207" y="148"/>
                      </a:lnTo>
                      <a:lnTo>
                        <a:pt x="187" y="153"/>
                      </a:lnTo>
                      <a:lnTo>
                        <a:pt x="177" y="135"/>
                      </a:lnTo>
                      <a:lnTo>
                        <a:pt x="170" y="110"/>
                      </a:lnTo>
                      <a:lnTo>
                        <a:pt x="185" y="90"/>
                      </a:lnTo>
                      <a:lnTo>
                        <a:pt x="180" y="65"/>
                      </a:lnTo>
                      <a:lnTo>
                        <a:pt x="177" y="40"/>
                      </a:lnTo>
                      <a:lnTo>
                        <a:pt x="167" y="1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414600" y="2000160"/>
                  <a:ext cx="528840" cy="495360"/>
                </a:xfrm>
                <a:custGeom>
                  <a:avLst/>
                  <a:gdLst/>
                  <a:ahLst/>
                  <a:rect l="l" t="t" r="r" b="b"/>
                  <a:pathLst>
                    <a:path w="572" h="525">
                      <a:moveTo>
                        <a:pt x="212" y="197"/>
                      </a:moveTo>
                      <a:lnTo>
                        <a:pt x="205" y="217"/>
                      </a:lnTo>
                      <a:lnTo>
                        <a:pt x="212" y="247"/>
                      </a:lnTo>
                      <a:lnTo>
                        <a:pt x="200" y="262"/>
                      </a:lnTo>
                      <a:lnTo>
                        <a:pt x="182" y="252"/>
                      </a:lnTo>
                      <a:lnTo>
                        <a:pt x="162" y="255"/>
                      </a:lnTo>
                      <a:lnTo>
                        <a:pt x="162" y="277"/>
                      </a:lnTo>
                      <a:lnTo>
                        <a:pt x="120" y="317"/>
                      </a:lnTo>
                      <a:lnTo>
                        <a:pt x="95" y="325"/>
                      </a:lnTo>
                      <a:lnTo>
                        <a:pt x="62" y="362"/>
                      </a:lnTo>
                      <a:lnTo>
                        <a:pt x="42" y="372"/>
                      </a:lnTo>
                      <a:lnTo>
                        <a:pt x="25" y="370"/>
                      </a:lnTo>
                      <a:lnTo>
                        <a:pt x="17" y="375"/>
                      </a:lnTo>
                      <a:lnTo>
                        <a:pt x="12" y="382"/>
                      </a:lnTo>
                      <a:lnTo>
                        <a:pt x="20" y="395"/>
                      </a:lnTo>
                      <a:lnTo>
                        <a:pt x="20" y="420"/>
                      </a:lnTo>
                      <a:lnTo>
                        <a:pt x="0" y="442"/>
                      </a:lnTo>
                      <a:lnTo>
                        <a:pt x="7" y="465"/>
                      </a:lnTo>
                      <a:lnTo>
                        <a:pt x="7" y="465"/>
                      </a:lnTo>
                      <a:lnTo>
                        <a:pt x="32" y="465"/>
                      </a:lnTo>
                      <a:lnTo>
                        <a:pt x="42" y="447"/>
                      </a:lnTo>
                      <a:lnTo>
                        <a:pt x="57" y="462"/>
                      </a:lnTo>
                      <a:lnTo>
                        <a:pt x="37" y="475"/>
                      </a:lnTo>
                      <a:lnTo>
                        <a:pt x="45" y="497"/>
                      </a:lnTo>
                      <a:lnTo>
                        <a:pt x="57" y="500"/>
                      </a:lnTo>
                      <a:lnTo>
                        <a:pt x="102" y="507"/>
                      </a:lnTo>
                      <a:lnTo>
                        <a:pt x="110" y="512"/>
                      </a:lnTo>
                      <a:lnTo>
                        <a:pt x="152" y="525"/>
                      </a:lnTo>
                      <a:lnTo>
                        <a:pt x="167" y="517"/>
                      </a:lnTo>
                      <a:lnTo>
                        <a:pt x="205" y="497"/>
                      </a:lnTo>
                      <a:lnTo>
                        <a:pt x="257" y="507"/>
                      </a:lnTo>
                      <a:lnTo>
                        <a:pt x="352" y="507"/>
                      </a:lnTo>
                      <a:lnTo>
                        <a:pt x="405" y="497"/>
                      </a:lnTo>
                      <a:lnTo>
                        <a:pt x="430" y="457"/>
                      </a:lnTo>
                      <a:lnTo>
                        <a:pt x="462" y="442"/>
                      </a:lnTo>
                      <a:lnTo>
                        <a:pt x="472" y="420"/>
                      </a:lnTo>
                      <a:lnTo>
                        <a:pt x="482" y="387"/>
                      </a:lnTo>
                      <a:lnTo>
                        <a:pt x="507" y="370"/>
                      </a:lnTo>
                      <a:lnTo>
                        <a:pt x="527" y="317"/>
                      </a:lnTo>
                      <a:lnTo>
                        <a:pt x="525" y="255"/>
                      </a:lnTo>
                      <a:lnTo>
                        <a:pt x="572" y="227"/>
                      </a:lnTo>
                      <a:lnTo>
                        <a:pt x="545" y="202"/>
                      </a:lnTo>
                      <a:lnTo>
                        <a:pt x="535" y="160"/>
                      </a:lnTo>
                      <a:lnTo>
                        <a:pt x="517" y="145"/>
                      </a:lnTo>
                      <a:lnTo>
                        <a:pt x="495" y="145"/>
                      </a:lnTo>
                      <a:lnTo>
                        <a:pt x="475" y="132"/>
                      </a:lnTo>
                      <a:lnTo>
                        <a:pt x="437" y="87"/>
                      </a:lnTo>
                      <a:lnTo>
                        <a:pt x="455" y="77"/>
                      </a:lnTo>
                      <a:lnTo>
                        <a:pt x="520" y="17"/>
                      </a:lnTo>
                      <a:lnTo>
                        <a:pt x="512" y="0"/>
                      </a:lnTo>
                      <a:lnTo>
                        <a:pt x="492" y="5"/>
                      </a:lnTo>
                      <a:lnTo>
                        <a:pt x="422" y="7"/>
                      </a:lnTo>
                      <a:lnTo>
                        <a:pt x="397" y="25"/>
                      </a:lnTo>
                      <a:lnTo>
                        <a:pt x="380" y="35"/>
                      </a:lnTo>
                      <a:lnTo>
                        <a:pt x="355" y="32"/>
                      </a:lnTo>
                      <a:lnTo>
                        <a:pt x="340" y="42"/>
                      </a:lnTo>
                      <a:lnTo>
                        <a:pt x="352" y="60"/>
                      </a:lnTo>
                      <a:lnTo>
                        <a:pt x="387" y="82"/>
                      </a:lnTo>
                      <a:lnTo>
                        <a:pt x="362" y="87"/>
                      </a:lnTo>
                      <a:lnTo>
                        <a:pt x="300" y="95"/>
                      </a:lnTo>
                      <a:lnTo>
                        <a:pt x="257" y="77"/>
                      </a:lnTo>
                      <a:lnTo>
                        <a:pt x="215" y="60"/>
                      </a:lnTo>
                      <a:lnTo>
                        <a:pt x="200" y="70"/>
                      </a:lnTo>
                      <a:lnTo>
                        <a:pt x="190" y="102"/>
                      </a:lnTo>
                      <a:lnTo>
                        <a:pt x="192" y="120"/>
                      </a:lnTo>
                      <a:lnTo>
                        <a:pt x="187" y="127"/>
                      </a:lnTo>
                      <a:lnTo>
                        <a:pt x="162" y="137"/>
                      </a:lnTo>
                      <a:lnTo>
                        <a:pt x="165" y="170"/>
                      </a:lnTo>
                      <a:lnTo>
                        <a:pt x="162" y="177"/>
                      </a:lnTo>
                      <a:lnTo>
                        <a:pt x="137" y="210"/>
                      </a:lnTo>
                      <a:lnTo>
                        <a:pt x="160" y="242"/>
                      </a:lnTo>
                      <a:lnTo>
                        <a:pt x="167" y="240"/>
                      </a:lnTo>
                      <a:lnTo>
                        <a:pt x="212" y="197"/>
                      </a:lnTo>
                      <a:close/>
                    </a:path>
                  </a:pathLst>
                </a:custGeom>
                <a:solidFill>
                  <a:srgbClr val="9933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"/>
                <p:cNvGrpSpPr/>
                <p:nvPr/>
              </p:nvGrpSpPr>
              <p:grpSpPr>
                <a:xfrm>
                  <a:off x="5214960" y="2035080"/>
                  <a:ext cx="611280" cy="486000"/>
                  <a:chOff x="5214960" y="2035080"/>
                  <a:chExt cx="611280" cy="4860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5214960" y="2134080"/>
                    <a:ext cx="252720" cy="3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" h="340">
                        <a:moveTo>
                          <a:pt x="20" y="290"/>
                        </a:moveTo>
                        <a:lnTo>
                          <a:pt x="35" y="315"/>
                        </a:lnTo>
                        <a:lnTo>
                          <a:pt x="65" y="315"/>
                        </a:lnTo>
                        <a:lnTo>
                          <a:pt x="93" y="323"/>
                        </a:lnTo>
                        <a:lnTo>
                          <a:pt x="115" y="340"/>
                        </a:lnTo>
                        <a:lnTo>
                          <a:pt x="138" y="340"/>
                        </a:lnTo>
                        <a:lnTo>
                          <a:pt x="123" y="318"/>
                        </a:lnTo>
                        <a:lnTo>
                          <a:pt x="133" y="290"/>
                        </a:lnTo>
                        <a:lnTo>
                          <a:pt x="148" y="258"/>
                        </a:lnTo>
                        <a:lnTo>
                          <a:pt x="155" y="223"/>
                        </a:lnTo>
                        <a:lnTo>
                          <a:pt x="188" y="200"/>
                        </a:lnTo>
                        <a:lnTo>
                          <a:pt x="213" y="185"/>
                        </a:lnTo>
                        <a:lnTo>
                          <a:pt x="210" y="165"/>
                        </a:lnTo>
                        <a:lnTo>
                          <a:pt x="210" y="130"/>
                        </a:lnTo>
                        <a:lnTo>
                          <a:pt x="218" y="115"/>
                        </a:lnTo>
                        <a:lnTo>
                          <a:pt x="243" y="113"/>
                        </a:lnTo>
                        <a:lnTo>
                          <a:pt x="253" y="120"/>
                        </a:lnTo>
                        <a:lnTo>
                          <a:pt x="273" y="95"/>
                        </a:lnTo>
                        <a:lnTo>
                          <a:pt x="265" y="73"/>
                        </a:lnTo>
                        <a:lnTo>
                          <a:pt x="253" y="70"/>
                        </a:lnTo>
                        <a:lnTo>
                          <a:pt x="228" y="70"/>
                        </a:lnTo>
                        <a:lnTo>
                          <a:pt x="218" y="70"/>
                        </a:lnTo>
                        <a:lnTo>
                          <a:pt x="210" y="38"/>
                        </a:lnTo>
                        <a:lnTo>
                          <a:pt x="213" y="8"/>
                        </a:lnTo>
                        <a:lnTo>
                          <a:pt x="195" y="0"/>
                        </a:lnTo>
                        <a:lnTo>
                          <a:pt x="188" y="10"/>
                        </a:lnTo>
                        <a:lnTo>
                          <a:pt x="148" y="3"/>
                        </a:lnTo>
                        <a:lnTo>
                          <a:pt x="138" y="13"/>
                        </a:lnTo>
                        <a:lnTo>
                          <a:pt x="148" y="43"/>
                        </a:lnTo>
                        <a:lnTo>
                          <a:pt x="143" y="70"/>
                        </a:lnTo>
                        <a:lnTo>
                          <a:pt x="125" y="50"/>
                        </a:lnTo>
                        <a:lnTo>
                          <a:pt x="118" y="33"/>
                        </a:lnTo>
                        <a:lnTo>
                          <a:pt x="93" y="35"/>
                        </a:lnTo>
                        <a:lnTo>
                          <a:pt x="85" y="53"/>
                        </a:lnTo>
                        <a:lnTo>
                          <a:pt x="78" y="60"/>
                        </a:lnTo>
                        <a:lnTo>
                          <a:pt x="78" y="85"/>
                        </a:lnTo>
                        <a:lnTo>
                          <a:pt x="73" y="80"/>
                        </a:lnTo>
                        <a:lnTo>
                          <a:pt x="53" y="50"/>
                        </a:lnTo>
                        <a:lnTo>
                          <a:pt x="40" y="38"/>
                        </a:lnTo>
                        <a:lnTo>
                          <a:pt x="28" y="45"/>
                        </a:lnTo>
                        <a:lnTo>
                          <a:pt x="30" y="63"/>
                        </a:lnTo>
                        <a:lnTo>
                          <a:pt x="30" y="73"/>
                        </a:lnTo>
                        <a:lnTo>
                          <a:pt x="13" y="80"/>
                        </a:lnTo>
                        <a:lnTo>
                          <a:pt x="13" y="105"/>
                        </a:lnTo>
                        <a:lnTo>
                          <a:pt x="28" y="130"/>
                        </a:lnTo>
                        <a:lnTo>
                          <a:pt x="28" y="148"/>
                        </a:lnTo>
                        <a:lnTo>
                          <a:pt x="20" y="165"/>
                        </a:lnTo>
                        <a:lnTo>
                          <a:pt x="0" y="183"/>
                        </a:lnTo>
                        <a:lnTo>
                          <a:pt x="3" y="200"/>
                        </a:lnTo>
                        <a:lnTo>
                          <a:pt x="23" y="218"/>
                        </a:lnTo>
                        <a:lnTo>
                          <a:pt x="30" y="235"/>
                        </a:lnTo>
                        <a:lnTo>
                          <a:pt x="28" y="270"/>
                        </a:lnTo>
                        <a:lnTo>
                          <a:pt x="20" y="29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5265720" y="2035080"/>
                    <a:ext cx="19260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30">
                        <a:moveTo>
                          <a:pt x="0" y="125"/>
                        </a:moveTo>
                        <a:lnTo>
                          <a:pt x="18" y="130"/>
                        </a:lnTo>
                        <a:lnTo>
                          <a:pt x="38" y="115"/>
                        </a:lnTo>
                        <a:lnTo>
                          <a:pt x="60" y="90"/>
                        </a:lnTo>
                        <a:lnTo>
                          <a:pt x="115" y="90"/>
                        </a:lnTo>
                        <a:lnTo>
                          <a:pt x="165" y="80"/>
                        </a:lnTo>
                        <a:lnTo>
                          <a:pt x="195" y="58"/>
                        </a:lnTo>
                        <a:lnTo>
                          <a:pt x="203" y="30"/>
                        </a:lnTo>
                        <a:lnTo>
                          <a:pt x="208" y="0"/>
                        </a:lnTo>
                        <a:lnTo>
                          <a:pt x="170" y="18"/>
                        </a:lnTo>
                        <a:lnTo>
                          <a:pt x="100" y="50"/>
                        </a:lnTo>
                        <a:lnTo>
                          <a:pt x="80" y="53"/>
                        </a:lnTo>
                        <a:lnTo>
                          <a:pt x="60" y="70"/>
                        </a:lnTo>
                        <a:lnTo>
                          <a:pt x="18" y="78"/>
                        </a:lnTo>
                        <a:lnTo>
                          <a:pt x="0" y="85"/>
                        </a:lnTo>
                        <a:lnTo>
                          <a:pt x="0" y="125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5365800" y="2334960"/>
                    <a:ext cx="8064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107">
                        <a:moveTo>
                          <a:pt x="27" y="0"/>
                        </a:moveTo>
                        <a:lnTo>
                          <a:pt x="85" y="37"/>
                        </a:lnTo>
                        <a:lnTo>
                          <a:pt x="87" y="55"/>
                        </a:lnTo>
                        <a:lnTo>
                          <a:pt x="67" y="75"/>
                        </a:lnTo>
                        <a:lnTo>
                          <a:pt x="47" y="90"/>
                        </a:lnTo>
                        <a:lnTo>
                          <a:pt x="52" y="107"/>
                        </a:lnTo>
                        <a:lnTo>
                          <a:pt x="27" y="102"/>
                        </a:lnTo>
                        <a:lnTo>
                          <a:pt x="2" y="75"/>
                        </a:lnTo>
                        <a:lnTo>
                          <a:pt x="0" y="55"/>
                        </a:lnTo>
                        <a:lnTo>
                          <a:pt x="10" y="32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5467680" y="2306880"/>
                    <a:ext cx="12204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157">
                        <a:moveTo>
                          <a:pt x="125" y="0"/>
                        </a:moveTo>
                        <a:lnTo>
                          <a:pt x="132" y="7"/>
                        </a:lnTo>
                        <a:lnTo>
                          <a:pt x="125" y="15"/>
                        </a:lnTo>
                        <a:lnTo>
                          <a:pt x="132" y="32"/>
                        </a:lnTo>
                        <a:lnTo>
                          <a:pt x="122" y="55"/>
                        </a:lnTo>
                        <a:lnTo>
                          <a:pt x="102" y="70"/>
                        </a:lnTo>
                        <a:lnTo>
                          <a:pt x="110" y="87"/>
                        </a:lnTo>
                        <a:lnTo>
                          <a:pt x="102" y="102"/>
                        </a:lnTo>
                        <a:lnTo>
                          <a:pt x="110" y="117"/>
                        </a:lnTo>
                        <a:lnTo>
                          <a:pt x="85" y="157"/>
                        </a:lnTo>
                        <a:lnTo>
                          <a:pt x="30" y="117"/>
                        </a:lnTo>
                        <a:lnTo>
                          <a:pt x="0" y="97"/>
                        </a:lnTo>
                        <a:lnTo>
                          <a:pt x="17" y="87"/>
                        </a:lnTo>
                        <a:lnTo>
                          <a:pt x="17" y="62"/>
                        </a:lnTo>
                        <a:lnTo>
                          <a:pt x="52" y="40"/>
                        </a:lnTo>
                        <a:lnTo>
                          <a:pt x="70" y="47"/>
                        </a:lnTo>
                        <a:lnTo>
                          <a:pt x="85" y="40"/>
                        </a:lnTo>
                        <a:lnTo>
                          <a:pt x="115" y="20"/>
                        </a:lnTo>
                        <a:lnTo>
                          <a:pt x="125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5453640" y="2459880"/>
                    <a:ext cx="4788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5">
                        <a:moveTo>
                          <a:pt x="0" y="0"/>
                        </a:moveTo>
                        <a:lnTo>
                          <a:pt x="35" y="10"/>
                        </a:lnTo>
                        <a:lnTo>
                          <a:pt x="47" y="28"/>
                        </a:lnTo>
                        <a:lnTo>
                          <a:pt x="52" y="53"/>
                        </a:lnTo>
                        <a:lnTo>
                          <a:pt x="35" y="65"/>
                        </a:lnTo>
                        <a:lnTo>
                          <a:pt x="7" y="55"/>
                        </a:lnTo>
                        <a:lnTo>
                          <a:pt x="2" y="3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789160" y="2443680"/>
                    <a:ext cx="3708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5">
                        <a:moveTo>
                          <a:pt x="13" y="0"/>
                        </a:moveTo>
                        <a:lnTo>
                          <a:pt x="0" y="10"/>
                        </a:lnTo>
                        <a:lnTo>
                          <a:pt x="0" y="37"/>
                        </a:lnTo>
                        <a:lnTo>
                          <a:pt x="28" y="55"/>
                        </a:lnTo>
                        <a:lnTo>
                          <a:pt x="40" y="30"/>
                        </a:lnTo>
                        <a:lnTo>
                          <a:pt x="13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4881600" y="2430360"/>
                  <a:ext cx="893880" cy="1220760"/>
                  <a:chOff x="4881600" y="2430360"/>
                  <a:chExt cx="893880" cy="122076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5639760" y="2545200"/>
                    <a:ext cx="4140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3">
                        <a:moveTo>
                          <a:pt x="2" y="0"/>
                        </a:moveTo>
                        <a:lnTo>
                          <a:pt x="0" y="8"/>
                        </a:lnTo>
                        <a:lnTo>
                          <a:pt x="2" y="30"/>
                        </a:lnTo>
                        <a:lnTo>
                          <a:pt x="27" y="43"/>
                        </a:lnTo>
                        <a:lnTo>
                          <a:pt x="45" y="2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4881600" y="2430360"/>
                    <a:ext cx="893880" cy="1220760"/>
                  </a:xfrm>
                  <a:custGeom>
                    <a:avLst/>
                    <a:gdLst/>
                    <a:ahLst/>
                    <a:rect l="l" t="t" r="r" b="b"/>
                    <a:pathLst>
                      <a:path w="967" h="1295">
                        <a:moveTo>
                          <a:pt x="400" y="0"/>
                        </a:moveTo>
                        <a:lnTo>
                          <a:pt x="377" y="12"/>
                        </a:lnTo>
                        <a:lnTo>
                          <a:pt x="377" y="27"/>
                        </a:lnTo>
                        <a:lnTo>
                          <a:pt x="382" y="42"/>
                        </a:lnTo>
                        <a:lnTo>
                          <a:pt x="385" y="62"/>
                        </a:lnTo>
                        <a:lnTo>
                          <a:pt x="390" y="90"/>
                        </a:lnTo>
                        <a:lnTo>
                          <a:pt x="377" y="102"/>
                        </a:lnTo>
                        <a:lnTo>
                          <a:pt x="377" y="120"/>
                        </a:lnTo>
                        <a:lnTo>
                          <a:pt x="382" y="135"/>
                        </a:lnTo>
                        <a:lnTo>
                          <a:pt x="410" y="160"/>
                        </a:lnTo>
                        <a:lnTo>
                          <a:pt x="427" y="165"/>
                        </a:lnTo>
                        <a:lnTo>
                          <a:pt x="435" y="202"/>
                        </a:lnTo>
                        <a:lnTo>
                          <a:pt x="395" y="192"/>
                        </a:lnTo>
                        <a:lnTo>
                          <a:pt x="375" y="172"/>
                        </a:lnTo>
                        <a:lnTo>
                          <a:pt x="357" y="182"/>
                        </a:lnTo>
                        <a:lnTo>
                          <a:pt x="325" y="222"/>
                        </a:lnTo>
                        <a:lnTo>
                          <a:pt x="312" y="235"/>
                        </a:lnTo>
                        <a:lnTo>
                          <a:pt x="297" y="230"/>
                        </a:lnTo>
                        <a:lnTo>
                          <a:pt x="295" y="215"/>
                        </a:lnTo>
                        <a:lnTo>
                          <a:pt x="285" y="200"/>
                        </a:lnTo>
                        <a:lnTo>
                          <a:pt x="255" y="190"/>
                        </a:lnTo>
                        <a:lnTo>
                          <a:pt x="212" y="190"/>
                        </a:lnTo>
                        <a:lnTo>
                          <a:pt x="200" y="207"/>
                        </a:lnTo>
                        <a:lnTo>
                          <a:pt x="177" y="230"/>
                        </a:lnTo>
                        <a:lnTo>
                          <a:pt x="197" y="247"/>
                        </a:lnTo>
                        <a:lnTo>
                          <a:pt x="197" y="280"/>
                        </a:lnTo>
                        <a:lnTo>
                          <a:pt x="192" y="297"/>
                        </a:lnTo>
                        <a:lnTo>
                          <a:pt x="185" y="312"/>
                        </a:lnTo>
                        <a:lnTo>
                          <a:pt x="160" y="330"/>
                        </a:lnTo>
                        <a:lnTo>
                          <a:pt x="152" y="332"/>
                        </a:lnTo>
                        <a:lnTo>
                          <a:pt x="157" y="357"/>
                        </a:lnTo>
                        <a:lnTo>
                          <a:pt x="167" y="375"/>
                        </a:lnTo>
                        <a:lnTo>
                          <a:pt x="160" y="395"/>
                        </a:lnTo>
                        <a:lnTo>
                          <a:pt x="142" y="420"/>
                        </a:lnTo>
                        <a:lnTo>
                          <a:pt x="122" y="445"/>
                        </a:lnTo>
                        <a:lnTo>
                          <a:pt x="107" y="462"/>
                        </a:lnTo>
                        <a:lnTo>
                          <a:pt x="82" y="480"/>
                        </a:lnTo>
                        <a:lnTo>
                          <a:pt x="65" y="487"/>
                        </a:lnTo>
                        <a:lnTo>
                          <a:pt x="52" y="515"/>
                        </a:lnTo>
                        <a:lnTo>
                          <a:pt x="50" y="557"/>
                        </a:lnTo>
                        <a:lnTo>
                          <a:pt x="35" y="582"/>
                        </a:lnTo>
                        <a:lnTo>
                          <a:pt x="35" y="617"/>
                        </a:lnTo>
                        <a:lnTo>
                          <a:pt x="20" y="635"/>
                        </a:lnTo>
                        <a:lnTo>
                          <a:pt x="17" y="645"/>
                        </a:lnTo>
                        <a:lnTo>
                          <a:pt x="27" y="662"/>
                        </a:lnTo>
                        <a:lnTo>
                          <a:pt x="35" y="692"/>
                        </a:lnTo>
                        <a:lnTo>
                          <a:pt x="52" y="715"/>
                        </a:lnTo>
                        <a:lnTo>
                          <a:pt x="2" y="757"/>
                        </a:lnTo>
                        <a:lnTo>
                          <a:pt x="12" y="782"/>
                        </a:lnTo>
                        <a:lnTo>
                          <a:pt x="32" y="800"/>
                        </a:lnTo>
                        <a:lnTo>
                          <a:pt x="35" y="802"/>
                        </a:lnTo>
                        <a:lnTo>
                          <a:pt x="35" y="820"/>
                        </a:lnTo>
                        <a:lnTo>
                          <a:pt x="10" y="837"/>
                        </a:lnTo>
                        <a:lnTo>
                          <a:pt x="0" y="862"/>
                        </a:lnTo>
                        <a:lnTo>
                          <a:pt x="10" y="895"/>
                        </a:lnTo>
                        <a:lnTo>
                          <a:pt x="25" y="915"/>
                        </a:lnTo>
                        <a:lnTo>
                          <a:pt x="52" y="925"/>
                        </a:lnTo>
                        <a:lnTo>
                          <a:pt x="87" y="932"/>
                        </a:lnTo>
                        <a:lnTo>
                          <a:pt x="122" y="935"/>
                        </a:lnTo>
                        <a:lnTo>
                          <a:pt x="150" y="940"/>
                        </a:lnTo>
                        <a:lnTo>
                          <a:pt x="172" y="955"/>
                        </a:lnTo>
                        <a:lnTo>
                          <a:pt x="192" y="972"/>
                        </a:lnTo>
                        <a:lnTo>
                          <a:pt x="167" y="985"/>
                        </a:lnTo>
                        <a:lnTo>
                          <a:pt x="147" y="1005"/>
                        </a:lnTo>
                        <a:lnTo>
                          <a:pt x="127" y="1025"/>
                        </a:lnTo>
                        <a:lnTo>
                          <a:pt x="122" y="1047"/>
                        </a:lnTo>
                        <a:lnTo>
                          <a:pt x="112" y="1097"/>
                        </a:lnTo>
                        <a:lnTo>
                          <a:pt x="95" y="1130"/>
                        </a:lnTo>
                        <a:lnTo>
                          <a:pt x="82" y="1152"/>
                        </a:lnTo>
                        <a:lnTo>
                          <a:pt x="112" y="1190"/>
                        </a:lnTo>
                        <a:lnTo>
                          <a:pt x="120" y="1200"/>
                        </a:lnTo>
                        <a:lnTo>
                          <a:pt x="135" y="1215"/>
                        </a:lnTo>
                        <a:lnTo>
                          <a:pt x="152" y="1212"/>
                        </a:lnTo>
                        <a:lnTo>
                          <a:pt x="175" y="1200"/>
                        </a:lnTo>
                        <a:lnTo>
                          <a:pt x="185" y="1190"/>
                        </a:lnTo>
                        <a:lnTo>
                          <a:pt x="190" y="1185"/>
                        </a:lnTo>
                        <a:lnTo>
                          <a:pt x="222" y="1190"/>
                        </a:lnTo>
                        <a:lnTo>
                          <a:pt x="235" y="1207"/>
                        </a:lnTo>
                        <a:lnTo>
                          <a:pt x="245" y="1230"/>
                        </a:lnTo>
                        <a:lnTo>
                          <a:pt x="260" y="1247"/>
                        </a:lnTo>
                        <a:lnTo>
                          <a:pt x="280" y="1250"/>
                        </a:lnTo>
                        <a:lnTo>
                          <a:pt x="322" y="1247"/>
                        </a:lnTo>
                        <a:lnTo>
                          <a:pt x="342" y="1242"/>
                        </a:lnTo>
                        <a:lnTo>
                          <a:pt x="370" y="1262"/>
                        </a:lnTo>
                        <a:lnTo>
                          <a:pt x="392" y="1255"/>
                        </a:lnTo>
                        <a:lnTo>
                          <a:pt x="412" y="1260"/>
                        </a:lnTo>
                        <a:lnTo>
                          <a:pt x="432" y="1275"/>
                        </a:lnTo>
                        <a:lnTo>
                          <a:pt x="465" y="1260"/>
                        </a:lnTo>
                        <a:lnTo>
                          <a:pt x="497" y="1260"/>
                        </a:lnTo>
                        <a:lnTo>
                          <a:pt x="522" y="1275"/>
                        </a:lnTo>
                        <a:lnTo>
                          <a:pt x="540" y="1282"/>
                        </a:lnTo>
                        <a:lnTo>
                          <a:pt x="560" y="1267"/>
                        </a:lnTo>
                        <a:lnTo>
                          <a:pt x="580" y="1267"/>
                        </a:lnTo>
                        <a:lnTo>
                          <a:pt x="617" y="1260"/>
                        </a:lnTo>
                        <a:lnTo>
                          <a:pt x="642" y="1275"/>
                        </a:lnTo>
                        <a:lnTo>
                          <a:pt x="645" y="1267"/>
                        </a:lnTo>
                        <a:lnTo>
                          <a:pt x="672" y="1285"/>
                        </a:lnTo>
                        <a:lnTo>
                          <a:pt x="695" y="1295"/>
                        </a:lnTo>
                        <a:lnTo>
                          <a:pt x="720" y="1285"/>
                        </a:lnTo>
                        <a:lnTo>
                          <a:pt x="725" y="1267"/>
                        </a:lnTo>
                        <a:lnTo>
                          <a:pt x="707" y="1242"/>
                        </a:lnTo>
                        <a:lnTo>
                          <a:pt x="705" y="1230"/>
                        </a:lnTo>
                        <a:lnTo>
                          <a:pt x="695" y="1187"/>
                        </a:lnTo>
                        <a:lnTo>
                          <a:pt x="790" y="1122"/>
                        </a:lnTo>
                        <a:lnTo>
                          <a:pt x="815" y="1122"/>
                        </a:lnTo>
                        <a:lnTo>
                          <a:pt x="820" y="1112"/>
                        </a:lnTo>
                        <a:lnTo>
                          <a:pt x="785" y="1100"/>
                        </a:lnTo>
                        <a:lnTo>
                          <a:pt x="760" y="1075"/>
                        </a:lnTo>
                        <a:lnTo>
                          <a:pt x="697" y="1020"/>
                        </a:lnTo>
                        <a:lnTo>
                          <a:pt x="690" y="975"/>
                        </a:lnTo>
                        <a:lnTo>
                          <a:pt x="655" y="967"/>
                        </a:lnTo>
                        <a:lnTo>
                          <a:pt x="650" y="925"/>
                        </a:lnTo>
                        <a:lnTo>
                          <a:pt x="642" y="890"/>
                        </a:lnTo>
                        <a:lnTo>
                          <a:pt x="627" y="872"/>
                        </a:lnTo>
                        <a:lnTo>
                          <a:pt x="637" y="855"/>
                        </a:lnTo>
                        <a:lnTo>
                          <a:pt x="645" y="847"/>
                        </a:lnTo>
                        <a:lnTo>
                          <a:pt x="665" y="850"/>
                        </a:lnTo>
                        <a:lnTo>
                          <a:pt x="722" y="832"/>
                        </a:lnTo>
                        <a:lnTo>
                          <a:pt x="847" y="770"/>
                        </a:lnTo>
                        <a:lnTo>
                          <a:pt x="875" y="757"/>
                        </a:lnTo>
                        <a:lnTo>
                          <a:pt x="900" y="740"/>
                        </a:lnTo>
                        <a:lnTo>
                          <a:pt x="922" y="762"/>
                        </a:lnTo>
                        <a:lnTo>
                          <a:pt x="950" y="752"/>
                        </a:lnTo>
                        <a:lnTo>
                          <a:pt x="957" y="722"/>
                        </a:lnTo>
                        <a:lnTo>
                          <a:pt x="955" y="707"/>
                        </a:lnTo>
                        <a:lnTo>
                          <a:pt x="967" y="687"/>
                        </a:lnTo>
                        <a:lnTo>
                          <a:pt x="952" y="665"/>
                        </a:lnTo>
                        <a:lnTo>
                          <a:pt x="935" y="625"/>
                        </a:lnTo>
                        <a:lnTo>
                          <a:pt x="947" y="567"/>
                        </a:lnTo>
                        <a:lnTo>
                          <a:pt x="927" y="540"/>
                        </a:lnTo>
                        <a:lnTo>
                          <a:pt x="920" y="512"/>
                        </a:lnTo>
                        <a:lnTo>
                          <a:pt x="930" y="485"/>
                        </a:lnTo>
                        <a:lnTo>
                          <a:pt x="922" y="462"/>
                        </a:lnTo>
                        <a:lnTo>
                          <a:pt x="885" y="417"/>
                        </a:lnTo>
                        <a:lnTo>
                          <a:pt x="905" y="392"/>
                        </a:lnTo>
                        <a:lnTo>
                          <a:pt x="905" y="347"/>
                        </a:lnTo>
                        <a:lnTo>
                          <a:pt x="907" y="292"/>
                        </a:lnTo>
                        <a:lnTo>
                          <a:pt x="865" y="245"/>
                        </a:lnTo>
                        <a:lnTo>
                          <a:pt x="845" y="217"/>
                        </a:lnTo>
                        <a:lnTo>
                          <a:pt x="820" y="192"/>
                        </a:lnTo>
                        <a:lnTo>
                          <a:pt x="782" y="160"/>
                        </a:lnTo>
                        <a:lnTo>
                          <a:pt x="757" y="145"/>
                        </a:lnTo>
                        <a:lnTo>
                          <a:pt x="740" y="140"/>
                        </a:lnTo>
                        <a:lnTo>
                          <a:pt x="715" y="157"/>
                        </a:lnTo>
                        <a:lnTo>
                          <a:pt x="697" y="167"/>
                        </a:lnTo>
                        <a:lnTo>
                          <a:pt x="642" y="210"/>
                        </a:lnTo>
                        <a:lnTo>
                          <a:pt x="602" y="200"/>
                        </a:lnTo>
                        <a:lnTo>
                          <a:pt x="585" y="200"/>
                        </a:lnTo>
                        <a:lnTo>
                          <a:pt x="585" y="185"/>
                        </a:lnTo>
                        <a:lnTo>
                          <a:pt x="592" y="165"/>
                        </a:lnTo>
                        <a:lnTo>
                          <a:pt x="602" y="147"/>
                        </a:lnTo>
                        <a:lnTo>
                          <a:pt x="550" y="115"/>
                        </a:lnTo>
                        <a:lnTo>
                          <a:pt x="535" y="112"/>
                        </a:lnTo>
                        <a:lnTo>
                          <a:pt x="510" y="90"/>
                        </a:lnTo>
                        <a:lnTo>
                          <a:pt x="502" y="52"/>
                        </a:lnTo>
                        <a:lnTo>
                          <a:pt x="490" y="27"/>
                        </a:lnTo>
                        <a:lnTo>
                          <a:pt x="472" y="32"/>
                        </a:lnTo>
                        <a:lnTo>
                          <a:pt x="452" y="7"/>
                        </a:lnTo>
                        <a:lnTo>
                          <a:pt x="425" y="2"/>
                        </a:lnTo>
                        <a:lnTo>
                          <a:pt x="400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6229440" y="135000"/>
                  <a:ext cx="814320" cy="1612800"/>
                  <a:chOff x="6229440" y="135000"/>
                  <a:chExt cx="814320" cy="161280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6229440" y="135000"/>
                    <a:ext cx="814320" cy="1612800"/>
                    <a:chOff x="6229440" y="135000"/>
                    <a:chExt cx="814320" cy="161280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229440" y="1651680"/>
                      <a:ext cx="4896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47">
                          <a:moveTo>
                            <a:pt x="45" y="0"/>
                          </a:moveTo>
                          <a:lnTo>
                            <a:pt x="25" y="10"/>
                          </a:lnTo>
                          <a:lnTo>
                            <a:pt x="0" y="30"/>
                          </a:lnTo>
                          <a:lnTo>
                            <a:pt x="5" y="47"/>
                          </a:lnTo>
                          <a:lnTo>
                            <a:pt x="18" y="47"/>
                          </a:lnTo>
                          <a:lnTo>
                            <a:pt x="53" y="2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278400" y="135000"/>
                      <a:ext cx="765360" cy="161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7" h="1710">
                          <a:moveTo>
                            <a:pt x="232" y="1710"/>
                          </a:moveTo>
                          <a:lnTo>
                            <a:pt x="225" y="1653"/>
                          </a:lnTo>
                          <a:lnTo>
                            <a:pt x="197" y="1625"/>
                          </a:lnTo>
                          <a:lnTo>
                            <a:pt x="177" y="1613"/>
                          </a:lnTo>
                          <a:lnTo>
                            <a:pt x="140" y="1600"/>
                          </a:lnTo>
                          <a:lnTo>
                            <a:pt x="112" y="1600"/>
                          </a:lnTo>
                          <a:lnTo>
                            <a:pt x="100" y="1570"/>
                          </a:lnTo>
                          <a:lnTo>
                            <a:pt x="112" y="1465"/>
                          </a:lnTo>
                          <a:lnTo>
                            <a:pt x="107" y="1403"/>
                          </a:lnTo>
                          <a:lnTo>
                            <a:pt x="85" y="1373"/>
                          </a:lnTo>
                          <a:lnTo>
                            <a:pt x="70" y="1360"/>
                          </a:lnTo>
                          <a:lnTo>
                            <a:pt x="77" y="1303"/>
                          </a:lnTo>
                          <a:lnTo>
                            <a:pt x="70" y="1268"/>
                          </a:lnTo>
                          <a:lnTo>
                            <a:pt x="57" y="1240"/>
                          </a:lnTo>
                          <a:lnTo>
                            <a:pt x="77" y="1178"/>
                          </a:lnTo>
                          <a:lnTo>
                            <a:pt x="100" y="1178"/>
                          </a:lnTo>
                          <a:lnTo>
                            <a:pt x="112" y="1165"/>
                          </a:lnTo>
                          <a:lnTo>
                            <a:pt x="120" y="1123"/>
                          </a:lnTo>
                          <a:lnTo>
                            <a:pt x="162" y="1088"/>
                          </a:lnTo>
                          <a:lnTo>
                            <a:pt x="202" y="1053"/>
                          </a:lnTo>
                          <a:lnTo>
                            <a:pt x="210" y="1010"/>
                          </a:lnTo>
                          <a:lnTo>
                            <a:pt x="260" y="968"/>
                          </a:lnTo>
                          <a:lnTo>
                            <a:pt x="310" y="918"/>
                          </a:lnTo>
                          <a:lnTo>
                            <a:pt x="302" y="898"/>
                          </a:lnTo>
                          <a:lnTo>
                            <a:pt x="302" y="870"/>
                          </a:lnTo>
                          <a:lnTo>
                            <a:pt x="337" y="848"/>
                          </a:lnTo>
                          <a:lnTo>
                            <a:pt x="350" y="840"/>
                          </a:lnTo>
                          <a:lnTo>
                            <a:pt x="342" y="800"/>
                          </a:lnTo>
                          <a:lnTo>
                            <a:pt x="342" y="758"/>
                          </a:lnTo>
                          <a:lnTo>
                            <a:pt x="330" y="750"/>
                          </a:lnTo>
                          <a:lnTo>
                            <a:pt x="310" y="758"/>
                          </a:lnTo>
                          <a:lnTo>
                            <a:pt x="287" y="730"/>
                          </a:lnTo>
                          <a:lnTo>
                            <a:pt x="267" y="653"/>
                          </a:lnTo>
                          <a:lnTo>
                            <a:pt x="225" y="595"/>
                          </a:lnTo>
                          <a:lnTo>
                            <a:pt x="240" y="518"/>
                          </a:lnTo>
                          <a:lnTo>
                            <a:pt x="232" y="483"/>
                          </a:lnTo>
                          <a:lnTo>
                            <a:pt x="182" y="435"/>
                          </a:lnTo>
                          <a:lnTo>
                            <a:pt x="202" y="373"/>
                          </a:lnTo>
                          <a:lnTo>
                            <a:pt x="190" y="335"/>
                          </a:lnTo>
                          <a:lnTo>
                            <a:pt x="155" y="300"/>
                          </a:lnTo>
                          <a:lnTo>
                            <a:pt x="132" y="323"/>
                          </a:lnTo>
                          <a:lnTo>
                            <a:pt x="57" y="245"/>
                          </a:lnTo>
                          <a:lnTo>
                            <a:pt x="37" y="215"/>
                          </a:lnTo>
                          <a:lnTo>
                            <a:pt x="22" y="188"/>
                          </a:lnTo>
                          <a:lnTo>
                            <a:pt x="0" y="175"/>
                          </a:lnTo>
                          <a:lnTo>
                            <a:pt x="30" y="148"/>
                          </a:lnTo>
                          <a:lnTo>
                            <a:pt x="70" y="148"/>
                          </a:lnTo>
                          <a:lnTo>
                            <a:pt x="92" y="180"/>
                          </a:lnTo>
                          <a:lnTo>
                            <a:pt x="147" y="245"/>
                          </a:lnTo>
                          <a:lnTo>
                            <a:pt x="202" y="208"/>
                          </a:lnTo>
                          <a:lnTo>
                            <a:pt x="240" y="215"/>
                          </a:lnTo>
                          <a:lnTo>
                            <a:pt x="247" y="238"/>
                          </a:lnTo>
                          <a:lnTo>
                            <a:pt x="287" y="245"/>
                          </a:lnTo>
                          <a:lnTo>
                            <a:pt x="302" y="188"/>
                          </a:lnTo>
                          <a:lnTo>
                            <a:pt x="322" y="168"/>
                          </a:lnTo>
                          <a:lnTo>
                            <a:pt x="337" y="148"/>
                          </a:lnTo>
                          <a:lnTo>
                            <a:pt x="337" y="128"/>
                          </a:lnTo>
                          <a:lnTo>
                            <a:pt x="330" y="70"/>
                          </a:lnTo>
                          <a:lnTo>
                            <a:pt x="365" y="35"/>
                          </a:lnTo>
                          <a:lnTo>
                            <a:pt x="387" y="35"/>
                          </a:lnTo>
                          <a:lnTo>
                            <a:pt x="420" y="0"/>
                          </a:lnTo>
                          <a:lnTo>
                            <a:pt x="462" y="50"/>
                          </a:lnTo>
                          <a:lnTo>
                            <a:pt x="477" y="70"/>
                          </a:lnTo>
                          <a:lnTo>
                            <a:pt x="462" y="113"/>
                          </a:lnTo>
                          <a:lnTo>
                            <a:pt x="427" y="140"/>
                          </a:lnTo>
                          <a:lnTo>
                            <a:pt x="400" y="175"/>
                          </a:lnTo>
                          <a:lnTo>
                            <a:pt x="407" y="208"/>
                          </a:lnTo>
                          <a:lnTo>
                            <a:pt x="470" y="160"/>
                          </a:lnTo>
                          <a:lnTo>
                            <a:pt x="470" y="120"/>
                          </a:lnTo>
                          <a:lnTo>
                            <a:pt x="477" y="58"/>
                          </a:lnTo>
                          <a:lnTo>
                            <a:pt x="497" y="43"/>
                          </a:lnTo>
                          <a:lnTo>
                            <a:pt x="520" y="120"/>
                          </a:lnTo>
                          <a:lnTo>
                            <a:pt x="520" y="188"/>
                          </a:lnTo>
                          <a:lnTo>
                            <a:pt x="505" y="215"/>
                          </a:lnTo>
                          <a:lnTo>
                            <a:pt x="505" y="258"/>
                          </a:lnTo>
                          <a:lnTo>
                            <a:pt x="560" y="300"/>
                          </a:lnTo>
                          <a:lnTo>
                            <a:pt x="560" y="328"/>
                          </a:lnTo>
                          <a:lnTo>
                            <a:pt x="597" y="378"/>
                          </a:lnTo>
                          <a:lnTo>
                            <a:pt x="610" y="413"/>
                          </a:lnTo>
                          <a:lnTo>
                            <a:pt x="602" y="498"/>
                          </a:lnTo>
                          <a:lnTo>
                            <a:pt x="625" y="590"/>
                          </a:lnTo>
                          <a:lnTo>
                            <a:pt x="660" y="665"/>
                          </a:lnTo>
                          <a:lnTo>
                            <a:pt x="652" y="778"/>
                          </a:lnTo>
                          <a:lnTo>
                            <a:pt x="680" y="848"/>
                          </a:lnTo>
                          <a:lnTo>
                            <a:pt x="695" y="878"/>
                          </a:lnTo>
                          <a:lnTo>
                            <a:pt x="710" y="980"/>
                          </a:lnTo>
                          <a:lnTo>
                            <a:pt x="722" y="1025"/>
                          </a:lnTo>
                          <a:lnTo>
                            <a:pt x="792" y="1073"/>
                          </a:lnTo>
                          <a:lnTo>
                            <a:pt x="827" y="1115"/>
                          </a:lnTo>
                          <a:lnTo>
                            <a:pt x="827" y="1145"/>
                          </a:lnTo>
                          <a:lnTo>
                            <a:pt x="800" y="1275"/>
                          </a:lnTo>
                          <a:lnTo>
                            <a:pt x="787" y="1288"/>
                          </a:lnTo>
                          <a:lnTo>
                            <a:pt x="800" y="1318"/>
                          </a:lnTo>
                          <a:lnTo>
                            <a:pt x="765" y="1365"/>
                          </a:lnTo>
                          <a:lnTo>
                            <a:pt x="722" y="1388"/>
                          </a:lnTo>
                          <a:lnTo>
                            <a:pt x="722" y="1410"/>
                          </a:lnTo>
                          <a:lnTo>
                            <a:pt x="660" y="1493"/>
                          </a:lnTo>
                          <a:lnTo>
                            <a:pt x="617" y="1513"/>
                          </a:lnTo>
                          <a:lnTo>
                            <a:pt x="610" y="1563"/>
                          </a:lnTo>
                          <a:lnTo>
                            <a:pt x="567" y="1563"/>
                          </a:lnTo>
                          <a:lnTo>
                            <a:pt x="547" y="1578"/>
                          </a:lnTo>
                          <a:lnTo>
                            <a:pt x="505" y="1590"/>
                          </a:lnTo>
                          <a:lnTo>
                            <a:pt x="450" y="1583"/>
                          </a:lnTo>
                          <a:lnTo>
                            <a:pt x="407" y="1620"/>
                          </a:lnTo>
                          <a:lnTo>
                            <a:pt x="357" y="1648"/>
                          </a:lnTo>
                          <a:lnTo>
                            <a:pt x="310" y="1663"/>
                          </a:lnTo>
                          <a:lnTo>
                            <a:pt x="272" y="1690"/>
                          </a:lnTo>
                          <a:lnTo>
                            <a:pt x="232" y="171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500520" y="708480"/>
                    <a:ext cx="494640" cy="822240"/>
                    <a:chOff x="6500520" y="708480"/>
                    <a:chExt cx="494640" cy="82224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779880" y="708480"/>
                      <a:ext cx="3672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42">
                          <a:moveTo>
                            <a:pt x="23" y="5"/>
                          </a:moveTo>
                          <a:lnTo>
                            <a:pt x="0" y="0"/>
                          </a:lnTo>
                          <a:lnTo>
                            <a:pt x="20" y="42"/>
                          </a:lnTo>
                          <a:lnTo>
                            <a:pt x="40" y="32"/>
                          </a:lnTo>
                          <a:lnTo>
                            <a:pt x="23" y="5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833520" y="856440"/>
                      <a:ext cx="36720" cy="7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85">
                          <a:moveTo>
                            <a:pt x="40" y="0"/>
                          </a:moveTo>
                          <a:lnTo>
                            <a:pt x="0" y="18"/>
                          </a:lnTo>
                          <a:lnTo>
                            <a:pt x="0" y="85"/>
                          </a:lnTo>
                          <a:lnTo>
                            <a:pt x="20" y="53"/>
                          </a:lnTo>
                          <a:lnTo>
                            <a:pt x="30" y="18"/>
                          </a:lnTo>
                          <a:lnTo>
                            <a:pt x="12" y="15"/>
                          </a:lnTo>
                          <a:lnTo>
                            <a:pt x="40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34200" bIns="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879960" y="972360"/>
                      <a:ext cx="3708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50">
                          <a:moveTo>
                            <a:pt x="7" y="0"/>
                          </a:moveTo>
                          <a:lnTo>
                            <a:pt x="0" y="15"/>
                          </a:lnTo>
                          <a:lnTo>
                            <a:pt x="12" y="50"/>
                          </a:lnTo>
                          <a:lnTo>
                            <a:pt x="32" y="40"/>
                          </a:lnTo>
                          <a:lnTo>
                            <a:pt x="40" y="22"/>
                          </a:lnTo>
                          <a:lnTo>
                            <a:pt x="7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696720" y="964800"/>
                      <a:ext cx="7200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75">
                          <a:moveTo>
                            <a:pt x="78" y="33"/>
                          </a:moveTo>
                          <a:lnTo>
                            <a:pt x="60" y="33"/>
                          </a:lnTo>
                          <a:lnTo>
                            <a:pt x="38" y="0"/>
                          </a:lnTo>
                          <a:lnTo>
                            <a:pt x="23" y="23"/>
                          </a:lnTo>
                          <a:lnTo>
                            <a:pt x="3" y="15"/>
                          </a:lnTo>
                          <a:lnTo>
                            <a:pt x="0" y="33"/>
                          </a:lnTo>
                          <a:lnTo>
                            <a:pt x="10" y="48"/>
                          </a:lnTo>
                          <a:lnTo>
                            <a:pt x="10" y="63"/>
                          </a:lnTo>
                          <a:lnTo>
                            <a:pt x="23" y="75"/>
                          </a:lnTo>
                          <a:lnTo>
                            <a:pt x="38" y="63"/>
                          </a:lnTo>
                          <a:lnTo>
                            <a:pt x="65" y="70"/>
                          </a:lnTo>
                          <a:lnTo>
                            <a:pt x="78" y="33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861240" y="1139400"/>
                      <a:ext cx="10152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75">
                          <a:moveTo>
                            <a:pt x="15" y="0"/>
                          </a:moveTo>
                          <a:lnTo>
                            <a:pt x="0" y="8"/>
                          </a:lnTo>
                          <a:lnTo>
                            <a:pt x="40" y="45"/>
                          </a:lnTo>
                          <a:lnTo>
                            <a:pt x="55" y="45"/>
                          </a:lnTo>
                          <a:lnTo>
                            <a:pt x="97" y="75"/>
                          </a:lnTo>
                          <a:lnTo>
                            <a:pt x="110" y="63"/>
                          </a:lnTo>
                          <a:lnTo>
                            <a:pt x="100" y="30"/>
                          </a:lnTo>
                          <a:lnTo>
                            <a:pt x="97" y="13"/>
                          </a:lnTo>
                          <a:lnTo>
                            <a:pt x="65" y="13"/>
                          </a:lnTo>
                          <a:lnTo>
                            <a:pt x="40" y="0"/>
                          </a:lnTo>
                          <a:lnTo>
                            <a:pt x="15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648480" y="1181520"/>
                      <a:ext cx="6444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13">
                          <a:moveTo>
                            <a:pt x="62" y="0"/>
                          </a:moveTo>
                          <a:lnTo>
                            <a:pt x="70" y="20"/>
                          </a:lnTo>
                          <a:lnTo>
                            <a:pt x="35" y="75"/>
                          </a:lnTo>
                          <a:lnTo>
                            <a:pt x="37" y="90"/>
                          </a:lnTo>
                          <a:lnTo>
                            <a:pt x="17" y="113"/>
                          </a:lnTo>
                          <a:lnTo>
                            <a:pt x="0" y="95"/>
                          </a:lnTo>
                          <a:lnTo>
                            <a:pt x="7" y="80"/>
                          </a:lnTo>
                          <a:lnTo>
                            <a:pt x="12" y="45"/>
                          </a:lnTo>
                          <a:lnTo>
                            <a:pt x="27" y="25"/>
                          </a:lnTo>
                          <a:lnTo>
                            <a:pt x="7" y="8"/>
                          </a:lnTo>
                          <a:lnTo>
                            <a:pt x="20" y="0"/>
                          </a:lnTo>
                          <a:lnTo>
                            <a:pt x="42" y="13"/>
                          </a:lnTo>
                          <a:lnTo>
                            <a:pt x="62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680880" y="1247760"/>
                      <a:ext cx="55440" cy="9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105">
                          <a:moveTo>
                            <a:pt x="52" y="0"/>
                          </a:moveTo>
                          <a:lnTo>
                            <a:pt x="40" y="0"/>
                          </a:lnTo>
                          <a:lnTo>
                            <a:pt x="40" y="8"/>
                          </a:lnTo>
                          <a:lnTo>
                            <a:pt x="40" y="13"/>
                          </a:lnTo>
                          <a:lnTo>
                            <a:pt x="40" y="20"/>
                          </a:lnTo>
                          <a:lnTo>
                            <a:pt x="27" y="40"/>
                          </a:lnTo>
                          <a:lnTo>
                            <a:pt x="10" y="58"/>
                          </a:lnTo>
                          <a:lnTo>
                            <a:pt x="15" y="70"/>
                          </a:lnTo>
                          <a:lnTo>
                            <a:pt x="0" y="90"/>
                          </a:lnTo>
                          <a:lnTo>
                            <a:pt x="15" y="105"/>
                          </a:lnTo>
                          <a:lnTo>
                            <a:pt x="52" y="50"/>
                          </a:lnTo>
                          <a:lnTo>
                            <a:pt x="52" y="35"/>
                          </a:lnTo>
                          <a:lnTo>
                            <a:pt x="60" y="20"/>
                          </a:lnTo>
                          <a:lnTo>
                            <a:pt x="52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500520" y="1370160"/>
                      <a:ext cx="7848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148">
                          <a:moveTo>
                            <a:pt x="55" y="3"/>
                          </a:moveTo>
                          <a:lnTo>
                            <a:pt x="47" y="8"/>
                          </a:lnTo>
                          <a:lnTo>
                            <a:pt x="32" y="0"/>
                          </a:lnTo>
                          <a:lnTo>
                            <a:pt x="7" y="3"/>
                          </a:lnTo>
                          <a:lnTo>
                            <a:pt x="7" y="38"/>
                          </a:lnTo>
                          <a:lnTo>
                            <a:pt x="22" y="40"/>
                          </a:lnTo>
                          <a:lnTo>
                            <a:pt x="22" y="28"/>
                          </a:lnTo>
                          <a:lnTo>
                            <a:pt x="45" y="53"/>
                          </a:lnTo>
                          <a:lnTo>
                            <a:pt x="37" y="73"/>
                          </a:lnTo>
                          <a:lnTo>
                            <a:pt x="20" y="85"/>
                          </a:lnTo>
                          <a:lnTo>
                            <a:pt x="12" y="118"/>
                          </a:lnTo>
                          <a:lnTo>
                            <a:pt x="0" y="133"/>
                          </a:lnTo>
                          <a:lnTo>
                            <a:pt x="17" y="148"/>
                          </a:lnTo>
                          <a:lnTo>
                            <a:pt x="60" y="120"/>
                          </a:lnTo>
                          <a:lnTo>
                            <a:pt x="45" y="100"/>
                          </a:lnTo>
                          <a:lnTo>
                            <a:pt x="55" y="65"/>
                          </a:lnTo>
                          <a:lnTo>
                            <a:pt x="80" y="48"/>
                          </a:lnTo>
                          <a:lnTo>
                            <a:pt x="85" y="23"/>
                          </a:lnTo>
                          <a:lnTo>
                            <a:pt x="55" y="3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546600" y="1445760"/>
                      <a:ext cx="47880" cy="8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90">
                          <a:moveTo>
                            <a:pt x="32" y="0"/>
                          </a:moveTo>
                          <a:lnTo>
                            <a:pt x="52" y="23"/>
                          </a:lnTo>
                          <a:lnTo>
                            <a:pt x="40" y="45"/>
                          </a:lnTo>
                          <a:lnTo>
                            <a:pt x="37" y="65"/>
                          </a:lnTo>
                          <a:lnTo>
                            <a:pt x="12" y="90"/>
                          </a:lnTo>
                          <a:lnTo>
                            <a:pt x="0" y="73"/>
                          </a:lnTo>
                          <a:lnTo>
                            <a:pt x="12" y="40"/>
                          </a:lnTo>
                          <a:lnTo>
                            <a:pt x="32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631560" y="1370160"/>
                      <a:ext cx="489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33">
                          <a:moveTo>
                            <a:pt x="23" y="0"/>
                          </a:moveTo>
                          <a:lnTo>
                            <a:pt x="48" y="23"/>
                          </a:lnTo>
                          <a:lnTo>
                            <a:pt x="45" y="40"/>
                          </a:lnTo>
                          <a:lnTo>
                            <a:pt x="35" y="55"/>
                          </a:lnTo>
                          <a:lnTo>
                            <a:pt x="48" y="90"/>
                          </a:lnTo>
                          <a:lnTo>
                            <a:pt x="53" y="108"/>
                          </a:lnTo>
                          <a:lnTo>
                            <a:pt x="38" y="128"/>
                          </a:lnTo>
                          <a:lnTo>
                            <a:pt x="15" y="133"/>
                          </a:lnTo>
                          <a:lnTo>
                            <a:pt x="0" y="103"/>
                          </a:lnTo>
                          <a:lnTo>
                            <a:pt x="10" y="78"/>
                          </a:lnTo>
                          <a:lnTo>
                            <a:pt x="23" y="55"/>
                          </a:lnTo>
                          <a:lnTo>
                            <a:pt x="23" y="28"/>
                          </a:lnTo>
                          <a:lnTo>
                            <a:pt x="23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728760" y="1175040"/>
                      <a:ext cx="26640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377">
                          <a:moveTo>
                            <a:pt x="83" y="5"/>
                          </a:moveTo>
                          <a:lnTo>
                            <a:pt x="53" y="35"/>
                          </a:lnTo>
                          <a:lnTo>
                            <a:pt x="38" y="12"/>
                          </a:lnTo>
                          <a:lnTo>
                            <a:pt x="35" y="0"/>
                          </a:lnTo>
                          <a:lnTo>
                            <a:pt x="10" y="5"/>
                          </a:lnTo>
                          <a:lnTo>
                            <a:pt x="0" y="27"/>
                          </a:lnTo>
                          <a:lnTo>
                            <a:pt x="20" y="57"/>
                          </a:lnTo>
                          <a:lnTo>
                            <a:pt x="25" y="95"/>
                          </a:lnTo>
                          <a:lnTo>
                            <a:pt x="53" y="140"/>
                          </a:lnTo>
                          <a:lnTo>
                            <a:pt x="78" y="160"/>
                          </a:lnTo>
                          <a:lnTo>
                            <a:pt x="73" y="175"/>
                          </a:lnTo>
                          <a:lnTo>
                            <a:pt x="78" y="187"/>
                          </a:lnTo>
                          <a:lnTo>
                            <a:pt x="78" y="205"/>
                          </a:lnTo>
                          <a:lnTo>
                            <a:pt x="113" y="205"/>
                          </a:lnTo>
                          <a:lnTo>
                            <a:pt x="140" y="240"/>
                          </a:lnTo>
                          <a:lnTo>
                            <a:pt x="135" y="247"/>
                          </a:lnTo>
                          <a:lnTo>
                            <a:pt x="128" y="270"/>
                          </a:lnTo>
                          <a:lnTo>
                            <a:pt x="108" y="270"/>
                          </a:lnTo>
                          <a:lnTo>
                            <a:pt x="83" y="265"/>
                          </a:lnTo>
                          <a:lnTo>
                            <a:pt x="65" y="277"/>
                          </a:lnTo>
                          <a:lnTo>
                            <a:pt x="73" y="307"/>
                          </a:lnTo>
                          <a:lnTo>
                            <a:pt x="90" y="345"/>
                          </a:lnTo>
                          <a:lnTo>
                            <a:pt x="135" y="377"/>
                          </a:lnTo>
                          <a:lnTo>
                            <a:pt x="175" y="347"/>
                          </a:lnTo>
                          <a:lnTo>
                            <a:pt x="173" y="320"/>
                          </a:lnTo>
                          <a:lnTo>
                            <a:pt x="168" y="300"/>
                          </a:lnTo>
                          <a:lnTo>
                            <a:pt x="173" y="275"/>
                          </a:lnTo>
                          <a:lnTo>
                            <a:pt x="190" y="277"/>
                          </a:lnTo>
                          <a:lnTo>
                            <a:pt x="205" y="257"/>
                          </a:lnTo>
                          <a:lnTo>
                            <a:pt x="225" y="255"/>
                          </a:lnTo>
                          <a:lnTo>
                            <a:pt x="245" y="225"/>
                          </a:lnTo>
                          <a:lnTo>
                            <a:pt x="218" y="200"/>
                          </a:lnTo>
                          <a:lnTo>
                            <a:pt x="198" y="220"/>
                          </a:lnTo>
                          <a:lnTo>
                            <a:pt x="190" y="225"/>
                          </a:lnTo>
                          <a:lnTo>
                            <a:pt x="168" y="200"/>
                          </a:lnTo>
                          <a:lnTo>
                            <a:pt x="183" y="182"/>
                          </a:lnTo>
                          <a:lnTo>
                            <a:pt x="198" y="200"/>
                          </a:lnTo>
                          <a:lnTo>
                            <a:pt x="213" y="175"/>
                          </a:lnTo>
                          <a:lnTo>
                            <a:pt x="238" y="175"/>
                          </a:lnTo>
                          <a:lnTo>
                            <a:pt x="250" y="205"/>
                          </a:lnTo>
                          <a:lnTo>
                            <a:pt x="270" y="212"/>
                          </a:lnTo>
                          <a:lnTo>
                            <a:pt x="288" y="192"/>
                          </a:lnTo>
                          <a:lnTo>
                            <a:pt x="245" y="147"/>
                          </a:lnTo>
                          <a:lnTo>
                            <a:pt x="253" y="130"/>
                          </a:lnTo>
                          <a:lnTo>
                            <a:pt x="238" y="127"/>
                          </a:lnTo>
                          <a:lnTo>
                            <a:pt x="253" y="95"/>
                          </a:lnTo>
                          <a:lnTo>
                            <a:pt x="230" y="97"/>
                          </a:lnTo>
                          <a:lnTo>
                            <a:pt x="185" y="115"/>
                          </a:lnTo>
                          <a:lnTo>
                            <a:pt x="185" y="152"/>
                          </a:lnTo>
                          <a:lnTo>
                            <a:pt x="168" y="145"/>
                          </a:lnTo>
                          <a:lnTo>
                            <a:pt x="153" y="157"/>
                          </a:lnTo>
                          <a:lnTo>
                            <a:pt x="115" y="152"/>
                          </a:lnTo>
                          <a:lnTo>
                            <a:pt x="108" y="127"/>
                          </a:lnTo>
                          <a:lnTo>
                            <a:pt x="98" y="97"/>
                          </a:lnTo>
                          <a:lnTo>
                            <a:pt x="123" y="120"/>
                          </a:lnTo>
                          <a:lnTo>
                            <a:pt x="153" y="105"/>
                          </a:lnTo>
                          <a:lnTo>
                            <a:pt x="155" y="97"/>
                          </a:lnTo>
                          <a:lnTo>
                            <a:pt x="153" y="77"/>
                          </a:lnTo>
                          <a:lnTo>
                            <a:pt x="120" y="57"/>
                          </a:lnTo>
                          <a:lnTo>
                            <a:pt x="103" y="52"/>
                          </a:lnTo>
                          <a:lnTo>
                            <a:pt x="108" y="32"/>
                          </a:lnTo>
                          <a:lnTo>
                            <a:pt x="108" y="12"/>
                          </a:lnTo>
                          <a:lnTo>
                            <a:pt x="83" y="5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692040" y="1363680"/>
                      <a:ext cx="86040" cy="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3" h="92">
                          <a:moveTo>
                            <a:pt x="83" y="0"/>
                          </a:moveTo>
                          <a:lnTo>
                            <a:pt x="93" y="10"/>
                          </a:lnTo>
                          <a:lnTo>
                            <a:pt x="93" y="30"/>
                          </a:lnTo>
                          <a:lnTo>
                            <a:pt x="90" y="47"/>
                          </a:lnTo>
                          <a:lnTo>
                            <a:pt x="45" y="80"/>
                          </a:lnTo>
                          <a:lnTo>
                            <a:pt x="20" y="92"/>
                          </a:lnTo>
                          <a:lnTo>
                            <a:pt x="0" y="72"/>
                          </a:lnTo>
                          <a:lnTo>
                            <a:pt x="18" y="45"/>
                          </a:lnTo>
                          <a:lnTo>
                            <a:pt x="38" y="30"/>
                          </a:lnTo>
                          <a:lnTo>
                            <a:pt x="83" y="0"/>
                          </a:lnTo>
                          <a:close/>
                        </a:path>
                      </a:pathLst>
                    </a:custGeom>
                    <a:solidFill>
                      <a:srgbClr val="ffcc99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41040" bIns="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3726000" y="2933640"/>
                  <a:ext cx="1333440" cy="1617480"/>
                  <a:chOff x="3726000" y="2933640"/>
                  <a:chExt cx="1333440" cy="16174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4941720" y="4334400"/>
                    <a:ext cx="117360" cy="21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230">
                        <a:moveTo>
                          <a:pt x="127" y="0"/>
                        </a:moveTo>
                        <a:lnTo>
                          <a:pt x="85" y="47"/>
                        </a:lnTo>
                        <a:lnTo>
                          <a:pt x="37" y="47"/>
                        </a:lnTo>
                        <a:lnTo>
                          <a:pt x="0" y="77"/>
                        </a:lnTo>
                        <a:lnTo>
                          <a:pt x="7" y="117"/>
                        </a:lnTo>
                        <a:lnTo>
                          <a:pt x="7" y="180"/>
                        </a:lnTo>
                        <a:lnTo>
                          <a:pt x="37" y="230"/>
                        </a:lnTo>
                        <a:lnTo>
                          <a:pt x="70" y="217"/>
                        </a:lnTo>
                        <a:lnTo>
                          <a:pt x="77" y="187"/>
                        </a:lnTo>
                        <a:lnTo>
                          <a:pt x="115" y="125"/>
                        </a:lnTo>
                        <a:lnTo>
                          <a:pt x="115" y="90"/>
                        </a:lnTo>
                        <a:lnTo>
                          <a:pt x="127" y="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726000" y="2933640"/>
                    <a:ext cx="1333440" cy="13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0" h="1412">
                        <a:moveTo>
                          <a:pt x="25" y="200"/>
                        </a:moveTo>
                        <a:lnTo>
                          <a:pt x="38" y="235"/>
                        </a:lnTo>
                        <a:lnTo>
                          <a:pt x="25" y="262"/>
                        </a:lnTo>
                        <a:lnTo>
                          <a:pt x="20" y="272"/>
                        </a:lnTo>
                        <a:lnTo>
                          <a:pt x="0" y="265"/>
                        </a:lnTo>
                        <a:lnTo>
                          <a:pt x="8" y="282"/>
                        </a:lnTo>
                        <a:lnTo>
                          <a:pt x="8" y="300"/>
                        </a:lnTo>
                        <a:lnTo>
                          <a:pt x="25" y="327"/>
                        </a:lnTo>
                        <a:lnTo>
                          <a:pt x="58" y="320"/>
                        </a:lnTo>
                        <a:lnTo>
                          <a:pt x="98" y="365"/>
                        </a:lnTo>
                        <a:lnTo>
                          <a:pt x="115" y="395"/>
                        </a:lnTo>
                        <a:lnTo>
                          <a:pt x="140" y="417"/>
                        </a:lnTo>
                        <a:lnTo>
                          <a:pt x="173" y="417"/>
                        </a:lnTo>
                        <a:lnTo>
                          <a:pt x="185" y="445"/>
                        </a:lnTo>
                        <a:lnTo>
                          <a:pt x="213" y="470"/>
                        </a:lnTo>
                        <a:lnTo>
                          <a:pt x="230" y="472"/>
                        </a:lnTo>
                        <a:lnTo>
                          <a:pt x="235" y="485"/>
                        </a:lnTo>
                        <a:lnTo>
                          <a:pt x="225" y="507"/>
                        </a:lnTo>
                        <a:lnTo>
                          <a:pt x="225" y="527"/>
                        </a:lnTo>
                        <a:lnTo>
                          <a:pt x="220" y="547"/>
                        </a:lnTo>
                        <a:lnTo>
                          <a:pt x="213" y="585"/>
                        </a:lnTo>
                        <a:lnTo>
                          <a:pt x="243" y="617"/>
                        </a:lnTo>
                        <a:lnTo>
                          <a:pt x="275" y="642"/>
                        </a:lnTo>
                        <a:lnTo>
                          <a:pt x="275" y="660"/>
                        </a:lnTo>
                        <a:lnTo>
                          <a:pt x="270" y="720"/>
                        </a:lnTo>
                        <a:lnTo>
                          <a:pt x="263" y="770"/>
                        </a:lnTo>
                        <a:lnTo>
                          <a:pt x="270" y="790"/>
                        </a:lnTo>
                        <a:lnTo>
                          <a:pt x="298" y="812"/>
                        </a:lnTo>
                        <a:lnTo>
                          <a:pt x="298" y="852"/>
                        </a:lnTo>
                        <a:lnTo>
                          <a:pt x="298" y="882"/>
                        </a:lnTo>
                        <a:lnTo>
                          <a:pt x="268" y="840"/>
                        </a:lnTo>
                        <a:lnTo>
                          <a:pt x="250" y="812"/>
                        </a:lnTo>
                        <a:lnTo>
                          <a:pt x="238" y="820"/>
                        </a:lnTo>
                        <a:lnTo>
                          <a:pt x="245" y="840"/>
                        </a:lnTo>
                        <a:lnTo>
                          <a:pt x="235" y="865"/>
                        </a:lnTo>
                        <a:lnTo>
                          <a:pt x="218" y="890"/>
                        </a:lnTo>
                        <a:lnTo>
                          <a:pt x="205" y="907"/>
                        </a:lnTo>
                        <a:lnTo>
                          <a:pt x="220" y="922"/>
                        </a:lnTo>
                        <a:lnTo>
                          <a:pt x="210" y="942"/>
                        </a:lnTo>
                        <a:lnTo>
                          <a:pt x="185" y="967"/>
                        </a:lnTo>
                        <a:lnTo>
                          <a:pt x="183" y="987"/>
                        </a:lnTo>
                        <a:lnTo>
                          <a:pt x="168" y="1012"/>
                        </a:lnTo>
                        <a:lnTo>
                          <a:pt x="130" y="1057"/>
                        </a:lnTo>
                        <a:lnTo>
                          <a:pt x="108" y="1102"/>
                        </a:lnTo>
                        <a:lnTo>
                          <a:pt x="108" y="1110"/>
                        </a:lnTo>
                        <a:lnTo>
                          <a:pt x="120" y="1125"/>
                        </a:lnTo>
                        <a:lnTo>
                          <a:pt x="105" y="1145"/>
                        </a:lnTo>
                        <a:lnTo>
                          <a:pt x="110" y="1170"/>
                        </a:lnTo>
                        <a:lnTo>
                          <a:pt x="133" y="1202"/>
                        </a:lnTo>
                        <a:lnTo>
                          <a:pt x="220" y="1250"/>
                        </a:lnTo>
                        <a:lnTo>
                          <a:pt x="283" y="1305"/>
                        </a:lnTo>
                        <a:lnTo>
                          <a:pt x="305" y="1297"/>
                        </a:lnTo>
                        <a:lnTo>
                          <a:pt x="338" y="1285"/>
                        </a:lnTo>
                        <a:lnTo>
                          <a:pt x="445" y="1330"/>
                        </a:lnTo>
                        <a:lnTo>
                          <a:pt x="460" y="1345"/>
                        </a:lnTo>
                        <a:lnTo>
                          <a:pt x="470" y="1375"/>
                        </a:lnTo>
                        <a:lnTo>
                          <a:pt x="488" y="1385"/>
                        </a:lnTo>
                        <a:lnTo>
                          <a:pt x="513" y="1387"/>
                        </a:lnTo>
                        <a:lnTo>
                          <a:pt x="550" y="1407"/>
                        </a:lnTo>
                        <a:lnTo>
                          <a:pt x="613" y="1412"/>
                        </a:lnTo>
                        <a:lnTo>
                          <a:pt x="633" y="1387"/>
                        </a:lnTo>
                        <a:lnTo>
                          <a:pt x="638" y="1360"/>
                        </a:lnTo>
                        <a:lnTo>
                          <a:pt x="638" y="1330"/>
                        </a:lnTo>
                        <a:lnTo>
                          <a:pt x="665" y="1305"/>
                        </a:lnTo>
                        <a:lnTo>
                          <a:pt x="720" y="1275"/>
                        </a:lnTo>
                        <a:lnTo>
                          <a:pt x="743" y="1272"/>
                        </a:lnTo>
                        <a:lnTo>
                          <a:pt x="773" y="1257"/>
                        </a:lnTo>
                        <a:lnTo>
                          <a:pt x="798" y="1257"/>
                        </a:lnTo>
                        <a:lnTo>
                          <a:pt x="825" y="1275"/>
                        </a:lnTo>
                        <a:lnTo>
                          <a:pt x="845" y="1300"/>
                        </a:lnTo>
                        <a:lnTo>
                          <a:pt x="870" y="1300"/>
                        </a:lnTo>
                        <a:lnTo>
                          <a:pt x="893" y="1305"/>
                        </a:lnTo>
                        <a:lnTo>
                          <a:pt x="933" y="1310"/>
                        </a:lnTo>
                        <a:lnTo>
                          <a:pt x="963" y="1345"/>
                        </a:lnTo>
                        <a:lnTo>
                          <a:pt x="985" y="1362"/>
                        </a:lnTo>
                        <a:lnTo>
                          <a:pt x="1023" y="1375"/>
                        </a:lnTo>
                        <a:lnTo>
                          <a:pt x="1053" y="1392"/>
                        </a:lnTo>
                        <a:lnTo>
                          <a:pt x="1070" y="1395"/>
                        </a:lnTo>
                        <a:lnTo>
                          <a:pt x="1110" y="1352"/>
                        </a:lnTo>
                        <a:lnTo>
                          <a:pt x="1140" y="1345"/>
                        </a:lnTo>
                        <a:lnTo>
                          <a:pt x="1160" y="1330"/>
                        </a:lnTo>
                        <a:lnTo>
                          <a:pt x="1190" y="1305"/>
                        </a:lnTo>
                        <a:lnTo>
                          <a:pt x="1230" y="1305"/>
                        </a:lnTo>
                        <a:lnTo>
                          <a:pt x="1228" y="1255"/>
                        </a:lnTo>
                        <a:lnTo>
                          <a:pt x="1220" y="1240"/>
                        </a:lnTo>
                        <a:lnTo>
                          <a:pt x="1203" y="1215"/>
                        </a:lnTo>
                        <a:lnTo>
                          <a:pt x="1188" y="1220"/>
                        </a:lnTo>
                        <a:lnTo>
                          <a:pt x="1173" y="1215"/>
                        </a:lnTo>
                        <a:lnTo>
                          <a:pt x="1160" y="1195"/>
                        </a:lnTo>
                        <a:lnTo>
                          <a:pt x="1158" y="1145"/>
                        </a:lnTo>
                        <a:lnTo>
                          <a:pt x="1185" y="1112"/>
                        </a:lnTo>
                        <a:lnTo>
                          <a:pt x="1165" y="1087"/>
                        </a:lnTo>
                        <a:lnTo>
                          <a:pt x="1165" y="1075"/>
                        </a:lnTo>
                        <a:lnTo>
                          <a:pt x="1205" y="1032"/>
                        </a:lnTo>
                        <a:lnTo>
                          <a:pt x="1205" y="1017"/>
                        </a:lnTo>
                        <a:lnTo>
                          <a:pt x="1198" y="967"/>
                        </a:lnTo>
                        <a:lnTo>
                          <a:pt x="1223" y="942"/>
                        </a:lnTo>
                        <a:lnTo>
                          <a:pt x="1203" y="915"/>
                        </a:lnTo>
                        <a:lnTo>
                          <a:pt x="1203" y="892"/>
                        </a:lnTo>
                        <a:lnTo>
                          <a:pt x="1198" y="857"/>
                        </a:lnTo>
                        <a:lnTo>
                          <a:pt x="1188" y="847"/>
                        </a:lnTo>
                        <a:lnTo>
                          <a:pt x="1165" y="847"/>
                        </a:lnTo>
                        <a:lnTo>
                          <a:pt x="1140" y="852"/>
                        </a:lnTo>
                        <a:lnTo>
                          <a:pt x="1135" y="860"/>
                        </a:lnTo>
                        <a:lnTo>
                          <a:pt x="1120" y="875"/>
                        </a:lnTo>
                        <a:lnTo>
                          <a:pt x="1100" y="882"/>
                        </a:lnTo>
                        <a:lnTo>
                          <a:pt x="1093" y="860"/>
                        </a:lnTo>
                        <a:lnTo>
                          <a:pt x="1108" y="845"/>
                        </a:lnTo>
                        <a:lnTo>
                          <a:pt x="1115" y="830"/>
                        </a:lnTo>
                        <a:lnTo>
                          <a:pt x="1115" y="812"/>
                        </a:lnTo>
                        <a:lnTo>
                          <a:pt x="1153" y="775"/>
                        </a:lnTo>
                        <a:lnTo>
                          <a:pt x="1173" y="767"/>
                        </a:lnTo>
                        <a:lnTo>
                          <a:pt x="1178" y="737"/>
                        </a:lnTo>
                        <a:lnTo>
                          <a:pt x="1198" y="712"/>
                        </a:lnTo>
                        <a:lnTo>
                          <a:pt x="1258" y="667"/>
                        </a:lnTo>
                        <a:lnTo>
                          <a:pt x="1275" y="667"/>
                        </a:lnTo>
                        <a:lnTo>
                          <a:pt x="1283" y="650"/>
                        </a:lnTo>
                        <a:lnTo>
                          <a:pt x="1305" y="630"/>
                        </a:lnTo>
                        <a:lnTo>
                          <a:pt x="1320" y="630"/>
                        </a:lnTo>
                        <a:lnTo>
                          <a:pt x="1328" y="617"/>
                        </a:lnTo>
                        <a:lnTo>
                          <a:pt x="1338" y="610"/>
                        </a:lnTo>
                        <a:lnTo>
                          <a:pt x="1353" y="587"/>
                        </a:lnTo>
                        <a:lnTo>
                          <a:pt x="1368" y="547"/>
                        </a:lnTo>
                        <a:lnTo>
                          <a:pt x="1370" y="525"/>
                        </a:lnTo>
                        <a:lnTo>
                          <a:pt x="1370" y="502"/>
                        </a:lnTo>
                        <a:lnTo>
                          <a:pt x="1390" y="477"/>
                        </a:lnTo>
                        <a:lnTo>
                          <a:pt x="1423" y="460"/>
                        </a:lnTo>
                        <a:lnTo>
                          <a:pt x="1440" y="442"/>
                        </a:lnTo>
                        <a:lnTo>
                          <a:pt x="1440" y="435"/>
                        </a:lnTo>
                        <a:lnTo>
                          <a:pt x="1413" y="415"/>
                        </a:lnTo>
                        <a:lnTo>
                          <a:pt x="1398" y="407"/>
                        </a:lnTo>
                        <a:lnTo>
                          <a:pt x="1358" y="402"/>
                        </a:lnTo>
                        <a:lnTo>
                          <a:pt x="1310" y="395"/>
                        </a:lnTo>
                        <a:lnTo>
                          <a:pt x="1293" y="392"/>
                        </a:lnTo>
                        <a:lnTo>
                          <a:pt x="1275" y="385"/>
                        </a:lnTo>
                        <a:lnTo>
                          <a:pt x="1258" y="367"/>
                        </a:lnTo>
                        <a:lnTo>
                          <a:pt x="1243" y="340"/>
                        </a:lnTo>
                        <a:lnTo>
                          <a:pt x="1230" y="322"/>
                        </a:lnTo>
                        <a:lnTo>
                          <a:pt x="1213" y="315"/>
                        </a:lnTo>
                        <a:lnTo>
                          <a:pt x="1190" y="307"/>
                        </a:lnTo>
                        <a:lnTo>
                          <a:pt x="1180" y="305"/>
                        </a:lnTo>
                        <a:lnTo>
                          <a:pt x="1153" y="280"/>
                        </a:lnTo>
                        <a:lnTo>
                          <a:pt x="1118" y="250"/>
                        </a:lnTo>
                        <a:lnTo>
                          <a:pt x="1095" y="225"/>
                        </a:lnTo>
                        <a:lnTo>
                          <a:pt x="1073" y="217"/>
                        </a:lnTo>
                        <a:lnTo>
                          <a:pt x="1060" y="205"/>
                        </a:lnTo>
                        <a:lnTo>
                          <a:pt x="1048" y="180"/>
                        </a:lnTo>
                        <a:lnTo>
                          <a:pt x="1018" y="142"/>
                        </a:lnTo>
                        <a:lnTo>
                          <a:pt x="1010" y="117"/>
                        </a:lnTo>
                        <a:lnTo>
                          <a:pt x="985" y="95"/>
                        </a:lnTo>
                        <a:lnTo>
                          <a:pt x="975" y="72"/>
                        </a:lnTo>
                        <a:lnTo>
                          <a:pt x="963" y="55"/>
                        </a:lnTo>
                        <a:lnTo>
                          <a:pt x="938" y="37"/>
                        </a:lnTo>
                        <a:lnTo>
                          <a:pt x="913" y="10"/>
                        </a:lnTo>
                        <a:lnTo>
                          <a:pt x="893" y="0"/>
                        </a:lnTo>
                        <a:lnTo>
                          <a:pt x="838" y="2"/>
                        </a:lnTo>
                        <a:lnTo>
                          <a:pt x="818" y="2"/>
                        </a:lnTo>
                        <a:lnTo>
                          <a:pt x="790" y="22"/>
                        </a:lnTo>
                        <a:lnTo>
                          <a:pt x="805" y="40"/>
                        </a:lnTo>
                        <a:lnTo>
                          <a:pt x="785" y="65"/>
                        </a:lnTo>
                        <a:lnTo>
                          <a:pt x="733" y="132"/>
                        </a:lnTo>
                        <a:lnTo>
                          <a:pt x="705" y="147"/>
                        </a:lnTo>
                        <a:lnTo>
                          <a:pt x="633" y="155"/>
                        </a:lnTo>
                        <a:lnTo>
                          <a:pt x="600" y="165"/>
                        </a:lnTo>
                        <a:lnTo>
                          <a:pt x="583" y="180"/>
                        </a:lnTo>
                        <a:lnTo>
                          <a:pt x="575" y="195"/>
                        </a:lnTo>
                        <a:lnTo>
                          <a:pt x="548" y="187"/>
                        </a:lnTo>
                        <a:lnTo>
                          <a:pt x="503" y="195"/>
                        </a:lnTo>
                        <a:lnTo>
                          <a:pt x="473" y="192"/>
                        </a:lnTo>
                        <a:lnTo>
                          <a:pt x="448" y="175"/>
                        </a:lnTo>
                        <a:lnTo>
                          <a:pt x="430" y="155"/>
                        </a:lnTo>
                        <a:lnTo>
                          <a:pt x="415" y="147"/>
                        </a:lnTo>
                        <a:lnTo>
                          <a:pt x="428" y="130"/>
                        </a:lnTo>
                        <a:lnTo>
                          <a:pt x="408" y="110"/>
                        </a:lnTo>
                        <a:lnTo>
                          <a:pt x="390" y="107"/>
                        </a:lnTo>
                        <a:lnTo>
                          <a:pt x="375" y="105"/>
                        </a:lnTo>
                        <a:lnTo>
                          <a:pt x="373" y="110"/>
                        </a:lnTo>
                        <a:lnTo>
                          <a:pt x="385" y="125"/>
                        </a:lnTo>
                        <a:lnTo>
                          <a:pt x="378" y="135"/>
                        </a:lnTo>
                        <a:lnTo>
                          <a:pt x="385" y="157"/>
                        </a:lnTo>
                        <a:lnTo>
                          <a:pt x="390" y="180"/>
                        </a:lnTo>
                        <a:lnTo>
                          <a:pt x="390" y="200"/>
                        </a:lnTo>
                        <a:lnTo>
                          <a:pt x="385" y="202"/>
                        </a:lnTo>
                        <a:lnTo>
                          <a:pt x="373" y="212"/>
                        </a:lnTo>
                        <a:lnTo>
                          <a:pt x="368" y="230"/>
                        </a:lnTo>
                        <a:lnTo>
                          <a:pt x="368" y="250"/>
                        </a:lnTo>
                        <a:lnTo>
                          <a:pt x="365" y="262"/>
                        </a:lnTo>
                        <a:lnTo>
                          <a:pt x="345" y="257"/>
                        </a:lnTo>
                        <a:lnTo>
                          <a:pt x="320" y="245"/>
                        </a:lnTo>
                        <a:lnTo>
                          <a:pt x="305" y="257"/>
                        </a:lnTo>
                        <a:lnTo>
                          <a:pt x="280" y="242"/>
                        </a:lnTo>
                        <a:lnTo>
                          <a:pt x="268" y="237"/>
                        </a:lnTo>
                        <a:lnTo>
                          <a:pt x="250" y="250"/>
                        </a:lnTo>
                        <a:lnTo>
                          <a:pt x="235" y="250"/>
                        </a:lnTo>
                        <a:lnTo>
                          <a:pt x="235" y="237"/>
                        </a:lnTo>
                        <a:lnTo>
                          <a:pt x="175" y="180"/>
                        </a:lnTo>
                        <a:lnTo>
                          <a:pt x="160" y="180"/>
                        </a:lnTo>
                        <a:lnTo>
                          <a:pt x="150" y="187"/>
                        </a:lnTo>
                        <a:lnTo>
                          <a:pt x="128" y="200"/>
                        </a:lnTo>
                        <a:lnTo>
                          <a:pt x="110" y="202"/>
                        </a:lnTo>
                        <a:lnTo>
                          <a:pt x="95" y="185"/>
                        </a:lnTo>
                        <a:lnTo>
                          <a:pt x="53" y="185"/>
                        </a:lnTo>
                        <a:lnTo>
                          <a:pt x="25" y="2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3746520" y="1577880"/>
                  <a:ext cx="790560" cy="1344240"/>
                  <a:chOff x="3746520" y="1577880"/>
                  <a:chExt cx="790560" cy="134424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>
                    <a:off x="3746520" y="1594800"/>
                    <a:ext cx="790560" cy="1327320"/>
                  </a:xfrm>
                  <a:custGeom>
                    <a:avLst/>
                    <a:gdLst/>
                    <a:ahLst/>
                    <a:rect l="l" t="t" r="r" b="b"/>
                    <a:pathLst>
                      <a:path w="853" h="1410">
                        <a:moveTo>
                          <a:pt x="255" y="905"/>
                        </a:moveTo>
                        <a:lnTo>
                          <a:pt x="295" y="940"/>
                        </a:lnTo>
                        <a:lnTo>
                          <a:pt x="278" y="975"/>
                        </a:lnTo>
                        <a:lnTo>
                          <a:pt x="253" y="1002"/>
                        </a:lnTo>
                        <a:lnTo>
                          <a:pt x="213" y="1022"/>
                        </a:lnTo>
                        <a:lnTo>
                          <a:pt x="183" y="1040"/>
                        </a:lnTo>
                        <a:lnTo>
                          <a:pt x="150" y="1042"/>
                        </a:lnTo>
                        <a:lnTo>
                          <a:pt x="135" y="1057"/>
                        </a:lnTo>
                        <a:lnTo>
                          <a:pt x="158" y="1097"/>
                        </a:lnTo>
                        <a:lnTo>
                          <a:pt x="198" y="1097"/>
                        </a:lnTo>
                        <a:lnTo>
                          <a:pt x="213" y="1102"/>
                        </a:lnTo>
                        <a:lnTo>
                          <a:pt x="213" y="1130"/>
                        </a:lnTo>
                        <a:lnTo>
                          <a:pt x="235" y="1130"/>
                        </a:lnTo>
                        <a:lnTo>
                          <a:pt x="250" y="1122"/>
                        </a:lnTo>
                        <a:lnTo>
                          <a:pt x="260" y="1152"/>
                        </a:lnTo>
                        <a:lnTo>
                          <a:pt x="280" y="1175"/>
                        </a:lnTo>
                        <a:lnTo>
                          <a:pt x="315" y="1175"/>
                        </a:lnTo>
                        <a:lnTo>
                          <a:pt x="340" y="1167"/>
                        </a:lnTo>
                        <a:lnTo>
                          <a:pt x="363" y="1175"/>
                        </a:lnTo>
                        <a:lnTo>
                          <a:pt x="308" y="1222"/>
                        </a:lnTo>
                        <a:lnTo>
                          <a:pt x="288" y="1232"/>
                        </a:lnTo>
                        <a:lnTo>
                          <a:pt x="260" y="1222"/>
                        </a:lnTo>
                        <a:lnTo>
                          <a:pt x="198" y="1197"/>
                        </a:lnTo>
                        <a:lnTo>
                          <a:pt x="165" y="1197"/>
                        </a:lnTo>
                        <a:lnTo>
                          <a:pt x="135" y="1222"/>
                        </a:lnTo>
                        <a:lnTo>
                          <a:pt x="98" y="1252"/>
                        </a:lnTo>
                        <a:lnTo>
                          <a:pt x="78" y="1270"/>
                        </a:lnTo>
                        <a:lnTo>
                          <a:pt x="53" y="1277"/>
                        </a:lnTo>
                        <a:lnTo>
                          <a:pt x="25" y="1292"/>
                        </a:lnTo>
                        <a:lnTo>
                          <a:pt x="3" y="1307"/>
                        </a:lnTo>
                        <a:lnTo>
                          <a:pt x="0" y="1320"/>
                        </a:lnTo>
                        <a:lnTo>
                          <a:pt x="25" y="1322"/>
                        </a:lnTo>
                        <a:lnTo>
                          <a:pt x="43" y="1340"/>
                        </a:lnTo>
                        <a:lnTo>
                          <a:pt x="65" y="1352"/>
                        </a:lnTo>
                        <a:lnTo>
                          <a:pt x="90" y="1340"/>
                        </a:lnTo>
                        <a:lnTo>
                          <a:pt x="113" y="1330"/>
                        </a:lnTo>
                        <a:lnTo>
                          <a:pt x="135" y="1332"/>
                        </a:lnTo>
                        <a:lnTo>
                          <a:pt x="173" y="1355"/>
                        </a:lnTo>
                        <a:lnTo>
                          <a:pt x="208" y="1370"/>
                        </a:lnTo>
                        <a:lnTo>
                          <a:pt x="230" y="1355"/>
                        </a:lnTo>
                        <a:lnTo>
                          <a:pt x="243" y="1327"/>
                        </a:lnTo>
                        <a:lnTo>
                          <a:pt x="280" y="1305"/>
                        </a:lnTo>
                        <a:lnTo>
                          <a:pt x="305" y="1305"/>
                        </a:lnTo>
                        <a:lnTo>
                          <a:pt x="328" y="1330"/>
                        </a:lnTo>
                        <a:lnTo>
                          <a:pt x="345" y="1345"/>
                        </a:lnTo>
                        <a:lnTo>
                          <a:pt x="373" y="1345"/>
                        </a:lnTo>
                        <a:lnTo>
                          <a:pt x="410" y="1347"/>
                        </a:lnTo>
                        <a:lnTo>
                          <a:pt x="435" y="1357"/>
                        </a:lnTo>
                        <a:lnTo>
                          <a:pt x="460" y="1340"/>
                        </a:lnTo>
                        <a:lnTo>
                          <a:pt x="480" y="1340"/>
                        </a:lnTo>
                        <a:lnTo>
                          <a:pt x="503" y="1352"/>
                        </a:lnTo>
                        <a:lnTo>
                          <a:pt x="525" y="1377"/>
                        </a:lnTo>
                        <a:lnTo>
                          <a:pt x="558" y="1382"/>
                        </a:lnTo>
                        <a:lnTo>
                          <a:pt x="595" y="1390"/>
                        </a:lnTo>
                        <a:lnTo>
                          <a:pt x="620" y="1402"/>
                        </a:lnTo>
                        <a:lnTo>
                          <a:pt x="650" y="1410"/>
                        </a:lnTo>
                        <a:lnTo>
                          <a:pt x="673" y="1397"/>
                        </a:lnTo>
                        <a:lnTo>
                          <a:pt x="705" y="1377"/>
                        </a:lnTo>
                        <a:lnTo>
                          <a:pt x="728" y="1375"/>
                        </a:lnTo>
                        <a:lnTo>
                          <a:pt x="753" y="1370"/>
                        </a:lnTo>
                        <a:lnTo>
                          <a:pt x="775" y="1347"/>
                        </a:lnTo>
                        <a:lnTo>
                          <a:pt x="760" y="1327"/>
                        </a:lnTo>
                        <a:lnTo>
                          <a:pt x="720" y="1305"/>
                        </a:lnTo>
                        <a:lnTo>
                          <a:pt x="705" y="1292"/>
                        </a:lnTo>
                        <a:lnTo>
                          <a:pt x="705" y="1277"/>
                        </a:lnTo>
                        <a:lnTo>
                          <a:pt x="723" y="1262"/>
                        </a:lnTo>
                        <a:lnTo>
                          <a:pt x="753" y="1260"/>
                        </a:lnTo>
                        <a:lnTo>
                          <a:pt x="780" y="1245"/>
                        </a:lnTo>
                        <a:lnTo>
                          <a:pt x="825" y="1197"/>
                        </a:lnTo>
                        <a:lnTo>
                          <a:pt x="845" y="1172"/>
                        </a:lnTo>
                        <a:lnTo>
                          <a:pt x="853" y="1130"/>
                        </a:lnTo>
                        <a:lnTo>
                          <a:pt x="853" y="1105"/>
                        </a:lnTo>
                        <a:lnTo>
                          <a:pt x="833" y="1087"/>
                        </a:lnTo>
                        <a:lnTo>
                          <a:pt x="805" y="1067"/>
                        </a:lnTo>
                        <a:lnTo>
                          <a:pt x="780" y="1057"/>
                        </a:lnTo>
                        <a:lnTo>
                          <a:pt x="753" y="1060"/>
                        </a:lnTo>
                        <a:lnTo>
                          <a:pt x="735" y="1070"/>
                        </a:lnTo>
                        <a:lnTo>
                          <a:pt x="728" y="1052"/>
                        </a:lnTo>
                        <a:lnTo>
                          <a:pt x="743" y="1025"/>
                        </a:lnTo>
                        <a:lnTo>
                          <a:pt x="748" y="1002"/>
                        </a:lnTo>
                        <a:lnTo>
                          <a:pt x="745" y="965"/>
                        </a:lnTo>
                        <a:lnTo>
                          <a:pt x="743" y="912"/>
                        </a:lnTo>
                        <a:lnTo>
                          <a:pt x="753" y="870"/>
                        </a:lnTo>
                        <a:lnTo>
                          <a:pt x="745" y="847"/>
                        </a:lnTo>
                        <a:lnTo>
                          <a:pt x="728" y="815"/>
                        </a:lnTo>
                        <a:lnTo>
                          <a:pt x="685" y="742"/>
                        </a:lnTo>
                        <a:lnTo>
                          <a:pt x="668" y="707"/>
                        </a:lnTo>
                        <a:lnTo>
                          <a:pt x="660" y="667"/>
                        </a:lnTo>
                        <a:lnTo>
                          <a:pt x="658" y="642"/>
                        </a:lnTo>
                        <a:lnTo>
                          <a:pt x="668" y="600"/>
                        </a:lnTo>
                        <a:lnTo>
                          <a:pt x="668" y="567"/>
                        </a:lnTo>
                        <a:lnTo>
                          <a:pt x="660" y="532"/>
                        </a:lnTo>
                        <a:lnTo>
                          <a:pt x="643" y="515"/>
                        </a:lnTo>
                        <a:lnTo>
                          <a:pt x="610" y="482"/>
                        </a:lnTo>
                        <a:lnTo>
                          <a:pt x="588" y="472"/>
                        </a:lnTo>
                        <a:lnTo>
                          <a:pt x="563" y="470"/>
                        </a:lnTo>
                        <a:lnTo>
                          <a:pt x="545" y="465"/>
                        </a:lnTo>
                        <a:lnTo>
                          <a:pt x="545" y="447"/>
                        </a:lnTo>
                        <a:lnTo>
                          <a:pt x="555" y="435"/>
                        </a:lnTo>
                        <a:lnTo>
                          <a:pt x="583" y="432"/>
                        </a:lnTo>
                        <a:lnTo>
                          <a:pt x="608" y="440"/>
                        </a:lnTo>
                        <a:lnTo>
                          <a:pt x="625" y="445"/>
                        </a:lnTo>
                        <a:lnTo>
                          <a:pt x="635" y="427"/>
                        </a:lnTo>
                        <a:lnTo>
                          <a:pt x="633" y="407"/>
                        </a:lnTo>
                        <a:lnTo>
                          <a:pt x="735" y="312"/>
                        </a:lnTo>
                        <a:lnTo>
                          <a:pt x="753" y="290"/>
                        </a:lnTo>
                        <a:lnTo>
                          <a:pt x="753" y="247"/>
                        </a:lnTo>
                        <a:lnTo>
                          <a:pt x="728" y="227"/>
                        </a:lnTo>
                        <a:lnTo>
                          <a:pt x="698" y="222"/>
                        </a:lnTo>
                        <a:lnTo>
                          <a:pt x="673" y="185"/>
                        </a:lnTo>
                        <a:lnTo>
                          <a:pt x="625" y="185"/>
                        </a:lnTo>
                        <a:lnTo>
                          <a:pt x="625" y="185"/>
                        </a:lnTo>
                        <a:lnTo>
                          <a:pt x="580" y="192"/>
                        </a:lnTo>
                        <a:lnTo>
                          <a:pt x="570" y="190"/>
                        </a:lnTo>
                        <a:lnTo>
                          <a:pt x="558" y="172"/>
                        </a:lnTo>
                        <a:lnTo>
                          <a:pt x="580" y="157"/>
                        </a:lnTo>
                        <a:lnTo>
                          <a:pt x="600" y="135"/>
                        </a:lnTo>
                        <a:lnTo>
                          <a:pt x="643" y="97"/>
                        </a:lnTo>
                        <a:lnTo>
                          <a:pt x="678" y="95"/>
                        </a:lnTo>
                        <a:lnTo>
                          <a:pt x="710" y="70"/>
                        </a:lnTo>
                        <a:lnTo>
                          <a:pt x="743" y="45"/>
                        </a:lnTo>
                        <a:lnTo>
                          <a:pt x="670" y="27"/>
                        </a:lnTo>
                        <a:lnTo>
                          <a:pt x="640" y="25"/>
                        </a:lnTo>
                        <a:lnTo>
                          <a:pt x="603" y="20"/>
                        </a:lnTo>
                        <a:lnTo>
                          <a:pt x="563" y="0"/>
                        </a:lnTo>
                        <a:lnTo>
                          <a:pt x="525" y="40"/>
                        </a:lnTo>
                        <a:lnTo>
                          <a:pt x="525" y="62"/>
                        </a:lnTo>
                        <a:lnTo>
                          <a:pt x="505" y="70"/>
                        </a:lnTo>
                        <a:lnTo>
                          <a:pt x="470" y="90"/>
                        </a:lnTo>
                        <a:lnTo>
                          <a:pt x="440" y="102"/>
                        </a:lnTo>
                        <a:lnTo>
                          <a:pt x="440" y="132"/>
                        </a:lnTo>
                        <a:lnTo>
                          <a:pt x="435" y="157"/>
                        </a:lnTo>
                        <a:lnTo>
                          <a:pt x="408" y="197"/>
                        </a:lnTo>
                        <a:lnTo>
                          <a:pt x="363" y="245"/>
                        </a:lnTo>
                        <a:lnTo>
                          <a:pt x="345" y="270"/>
                        </a:lnTo>
                        <a:lnTo>
                          <a:pt x="353" y="287"/>
                        </a:lnTo>
                        <a:lnTo>
                          <a:pt x="400" y="282"/>
                        </a:lnTo>
                        <a:lnTo>
                          <a:pt x="403" y="292"/>
                        </a:lnTo>
                        <a:lnTo>
                          <a:pt x="403" y="312"/>
                        </a:lnTo>
                        <a:lnTo>
                          <a:pt x="340" y="392"/>
                        </a:lnTo>
                        <a:lnTo>
                          <a:pt x="320" y="435"/>
                        </a:lnTo>
                        <a:lnTo>
                          <a:pt x="305" y="472"/>
                        </a:lnTo>
                        <a:lnTo>
                          <a:pt x="320" y="490"/>
                        </a:lnTo>
                        <a:lnTo>
                          <a:pt x="348" y="455"/>
                        </a:lnTo>
                        <a:lnTo>
                          <a:pt x="378" y="415"/>
                        </a:lnTo>
                        <a:lnTo>
                          <a:pt x="398" y="427"/>
                        </a:lnTo>
                        <a:lnTo>
                          <a:pt x="400" y="487"/>
                        </a:lnTo>
                        <a:lnTo>
                          <a:pt x="403" y="525"/>
                        </a:lnTo>
                        <a:lnTo>
                          <a:pt x="365" y="547"/>
                        </a:lnTo>
                        <a:lnTo>
                          <a:pt x="340" y="572"/>
                        </a:lnTo>
                        <a:lnTo>
                          <a:pt x="333" y="592"/>
                        </a:lnTo>
                        <a:lnTo>
                          <a:pt x="383" y="635"/>
                        </a:lnTo>
                        <a:lnTo>
                          <a:pt x="425" y="627"/>
                        </a:lnTo>
                        <a:lnTo>
                          <a:pt x="435" y="650"/>
                        </a:lnTo>
                        <a:lnTo>
                          <a:pt x="480" y="622"/>
                        </a:lnTo>
                        <a:lnTo>
                          <a:pt x="478" y="645"/>
                        </a:lnTo>
                        <a:lnTo>
                          <a:pt x="440" y="690"/>
                        </a:lnTo>
                        <a:lnTo>
                          <a:pt x="455" y="740"/>
                        </a:lnTo>
                        <a:lnTo>
                          <a:pt x="460" y="767"/>
                        </a:lnTo>
                        <a:lnTo>
                          <a:pt x="500" y="770"/>
                        </a:lnTo>
                        <a:lnTo>
                          <a:pt x="503" y="795"/>
                        </a:lnTo>
                        <a:lnTo>
                          <a:pt x="455" y="850"/>
                        </a:lnTo>
                        <a:lnTo>
                          <a:pt x="440" y="842"/>
                        </a:lnTo>
                        <a:lnTo>
                          <a:pt x="423" y="860"/>
                        </a:lnTo>
                        <a:lnTo>
                          <a:pt x="418" y="887"/>
                        </a:lnTo>
                        <a:lnTo>
                          <a:pt x="373" y="862"/>
                        </a:lnTo>
                        <a:lnTo>
                          <a:pt x="255" y="905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032000" y="2237040"/>
                    <a:ext cx="648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37" y="0"/>
                        </a:moveTo>
                        <a:lnTo>
                          <a:pt x="67" y="5"/>
                        </a:lnTo>
                        <a:lnTo>
                          <a:pt x="70" y="23"/>
                        </a:lnTo>
                        <a:lnTo>
                          <a:pt x="37" y="45"/>
                        </a:lnTo>
                        <a:lnTo>
                          <a:pt x="5" y="53"/>
                        </a:lnTo>
                        <a:lnTo>
                          <a:pt x="0" y="3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3987360" y="1926360"/>
                    <a:ext cx="648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0">
                        <a:moveTo>
                          <a:pt x="58" y="0"/>
                        </a:moveTo>
                        <a:lnTo>
                          <a:pt x="70" y="25"/>
                        </a:lnTo>
                        <a:lnTo>
                          <a:pt x="35" y="43"/>
                        </a:lnTo>
                        <a:lnTo>
                          <a:pt x="8" y="50"/>
                        </a:lnTo>
                        <a:lnTo>
                          <a:pt x="0" y="25"/>
                        </a:lnTo>
                        <a:lnTo>
                          <a:pt x="13" y="10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084560" y="1684440"/>
                    <a:ext cx="3708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97">
                        <a:moveTo>
                          <a:pt x="15" y="97"/>
                        </a:moveTo>
                        <a:lnTo>
                          <a:pt x="40" y="72"/>
                        </a:lnTo>
                        <a:lnTo>
                          <a:pt x="30" y="40"/>
                        </a:lnTo>
                        <a:lnTo>
                          <a:pt x="23" y="25"/>
                        </a:lnTo>
                        <a:lnTo>
                          <a:pt x="15" y="0"/>
                        </a:lnTo>
                        <a:lnTo>
                          <a:pt x="0" y="10"/>
                        </a:lnTo>
                        <a:lnTo>
                          <a:pt x="8" y="45"/>
                        </a:lnTo>
                        <a:lnTo>
                          <a:pt x="15" y="97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3823200" y="2046600"/>
                    <a:ext cx="17136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87">
                        <a:moveTo>
                          <a:pt x="65" y="0"/>
                        </a:moveTo>
                        <a:lnTo>
                          <a:pt x="107" y="0"/>
                        </a:lnTo>
                        <a:lnTo>
                          <a:pt x="137" y="7"/>
                        </a:lnTo>
                        <a:lnTo>
                          <a:pt x="160" y="37"/>
                        </a:lnTo>
                        <a:lnTo>
                          <a:pt x="180" y="85"/>
                        </a:lnTo>
                        <a:lnTo>
                          <a:pt x="185" y="127"/>
                        </a:lnTo>
                        <a:lnTo>
                          <a:pt x="162" y="147"/>
                        </a:lnTo>
                        <a:lnTo>
                          <a:pt x="155" y="177"/>
                        </a:lnTo>
                        <a:lnTo>
                          <a:pt x="135" y="187"/>
                        </a:lnTo>
                        <a:lnTo>
                          <a:pt x="115" y="162"/>
                        </a:lnTo>
                        <a:lnTo>
                          <a:pt x="95" y="115"/>
                        </a:lnTo>
                        <a:lnTo>
                          <a:pt x="82" y="100"/>
                        </a:lnTo>
                        <a:lnTo>
                          <a:pt x="45" y="95"/>
                        </a:lnTo>
                        <a:lnTo>
                          <a:pt x="0" y="47"/>
                        </a:lnTo>
                        <a:lnTo>
                          <a:pt x="65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073760" y="1577880"/>
                    <a:ext cx="8784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70">
                        <a:moveTo>
                          <a:pt x="85" y="0"/>
                        </a:moveTo>
                        <a:lnTo>
                          <a:pt x="95" y="18"/>
                        </a:lnTo>
                        <a:lnTo>
                          <a:pt x="60" y="38"/>
                        </a:lnTo>
                        <a:lnTo>
                          <a:pt x="25" y="70"/>
                        </a:lnTo>
                        <a:lnTo>
                          <a:pt x="5" y="63"/>
                        </a:lnTo>
                        <a:lnTo>
                          <a:pt x="0" y="25"/>
                        </a:lnTo>
                        <a:lnTo>
                          <a:pt x="0" y="13"/>
                        </a:lnTo>
                        <a:lnTo>
                          <a:pt x="57" y="0"/>
                        </a:lnTo>
                        <a:lnTo>
                          <a:pt x="85" y="0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5551560" y="307800"/>
                  <a:ext cx="971640" cy="2122560"/>
                  <a:chOff x="5551560" y="307800"/>
                  <a:chExt cx="971640" cy="212256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5551560" y="307800"/>
                    <a:ext cx="971640" cy="2122560"/>
                    <a:chOff x="5551560" y="307800"/>
                    <a:chExt cx="971640" cy="21225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5937480" y="2144520"/>
                      <a:ext cx="64800" cy="16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73">
                          <a:moveTo>
                            <a:pt x="70" y="0"/>
                          </a:moveTo>
                          <a:lnTo>
                            <a:pt x="68" y="58"/>
                          </a:lnTo>
                          <a:lnTo>
                            <a:pt x="48" y="103"/>
                          </a:lnTo>
                          <a:lnTo>
                            <a:pt x="15" y="133"/>
                          </a:lnTo>
                          <a:lnTo>
                            <a:pt x="23" y="163"/>
                          </a:lnTo>
                          <a:lnTo>
                            <a:pt x="8" y="173"/>
                          </a:lnTo>
                          <a:lnTo>
                            <a:pt x="0" y="135"/>
                          </a:lnTo>
                          <a:lnTo>
                            <a:pt x="13" y="108"/>
                          </a:lnTo>
                          <a:lnTo>
                            <a:pt x="23" y="75"/>
                          </a:lnTo>
                          <a:lnTo>
                            <a:pt x="70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083640" y="2067120"/>
                      <a:ext cx="8784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37">
                          <a:moveTo>
                            <a:pt x="75" y="0"/>
                          </a:moveTo>
                          <a:lnTo>
                            <a:pt x="95" y="0"/>
                          </a:lnTo>
                          <a:lnTo>
                            <a:pt x="70" y="27"/>
                          </a:lnTo>
                          <a:lnTo>
                            <a:pt x="67" y="50"/>
                          </a:lnTo>
                          <a:lnTo>
                            <a:pt x="75" y="77"/>
                          </a:lnTo>
                          <a:lnTo>
                            <a:pt x="50" y="107"/>
                          </a:lnTo>
                          <a:lnTo>
                            <a:pt x="17" y="137"/>
                          </a:lnTo>
                          <a:lnTo>
                            <a:pt x="12" y="107"/>
                          </a:lnTo>
                          <a:lnTo>
                            <a:pt x="0" y="92"/>
                          </a:lnTo>
                          <a:lnTo>
                            <a:pt x="0" y="67"/>
                          </a:lnTo>
                          <a:lnTo>
                            <a:pt x="30" y="42"/>
                          </a:lnTo>
                          <a:lnTo>
                            <a:pt x="75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3" name=""/>
                    <p:cNvGrpSpPr/>
                    <p:nvPr/>
                  </p:nvGrpSpPr>
                  <p:grpSpPr>
                    <a:xfrm>
                      <a:off x="5551560" y="307800"/>
                      <a:ext cx="971640" cy="2122560"/>
                      <a:chOff x="5551560" y="307800"/>
                      <a:chExt cx="971640" cy="2122560"/>
                    </a:xfrm>
                  </p:grpSpPr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5551560" y="307800"/>
                        <a:ext cx="971640" cy="212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0" h="2250">
                            <a:moveTo>
                              <a:pt x="792" y="0"/>
                            </a:moveTo>
                            <a:lnTo>
                              <a:pt x="805" y="7"/>
                            </a:lnTo>
                            <a:lnTo>
                              <a:pt x="825" y="40"/>
                            </a:lnTo>
                            <a:lnTo>
                              <a:pt x="917" y="132"/>
                            </a:lnTo>
                            <a:lnTo>
                              <a:pt x="932" y="110"/>
                            </a:lnTo>
                            <a:lnTo>
                              <a:pt x="967" y="140"/>
                            </a:lnTo>
                            <a:lnTo>
                              <a:pt x="980" y="167"/>
                            </a:lnTo>
                            <a:lnTo>
                              <a:pt x="980" y="190"/>
                            </a:lnTo>
                            <a:lnTo>
                              <a:pt x="980" y="225"/>
                            </a:lnTo>
                            <a:lnTo>
                              <a:pt x="967" y="245"/>
                            </a:lnTo>
                            <a:lnTo>
                              <a:pt x="995" y="275"/>
                            </a:lnTo>
                            <a:lnTo>
                              <a:pt x="1015" y="300"/>
                            </a:lnTo>
                            <a:lnTo>
                              <a:pt x="1015" y="322"/>
                            </a:lnTo>
                            <a:lnTo>
                              <a:pt x="1015" y="357"/>
                            </a:lnTo>
                            <a:lnTo>
                              <a:pt x="1010" y="400"/>
                            </a:lnTo>
                            <a:lnTo>
                              <a:pt x="995" y="415"/>
                            </a:lnTo>
                            <a:lnTo>
                              <a:pt x="1015" y="435"/>
                            </a:lnTo>
                            <a:lnTo>
                              <a:pt x="1037" y="470"/>
                            </a:lnTo>
                            <a:lnTo>
                              <a:pt x="1050" y="505"/>
                            </a:lnTo>
                            <a:lnTo>
                              <a:pt x="1050" y="517"/>
                            </a:lnTo>
                            <a:lnTo>
                              <a:pt x="1030" y="525"/>
                            </a:lnTo>
                            <a:lnTo>
                              <a:pt x="940" y="525"/>
                            </a:lnTo>
                            <a:lnTo>
                              <a:pt x="917" y="525"/>
                            </a:lnTo>
                            <a:lnTo>
                              <a:pt x="902" y="540"/>
                            </a:lnTo>
                            <a:lnTo>
                              <a:pt x="902" y="567"/>
                            </a:lnTo>
                            <a:lnTo>
                              <a:pt x="890" y="587"/>
                            </a:lnTo>
                            <a:lnTo>
                              <a:pt x="847" y="625"/>
                            </a:lnTo>
                            <a:lnTo>
                              <a:pt x="855" y="652"/>
                            </a:lnTo>
                            <a:lnTo>
                              <a:pt x="847" y="672"/>
                            </a:lnTo>
                            <a:lnTo>
                              <a:pt x="832" y="687"/>
                            </a:lnTo>
                            <a:lnTo>
                              <a:pt x="847" y="730"/>
                            </a:lnTo>
                            <a:lnTo>
                              <a:pt x="855" y="757"/>
                            </a:lnTo>
                            <a:lnTo>
                              <a:pt x="840" y="777"/>
                            </a:lnTo>
                            <a:lnTo>
                              <a:pt x="812" y="800"/>
                            </a:lnTo>
                            <a:lnTo>
                              <a:pt x="805" y="827"/>
                            </a:lnTo>
                            <a:lnTo>
                              <a:pt x="800" y="862"/>
                            </a:lnTo>
                            <a:lnTo>
                              <a:pt x="750" y="885"/>
                            </a:lnTo>
                            <a:lnTo>
                              <a:pt x="722" y="905"/>
                            </a:lnTo>
                            <a:lnTo>
                              <a:pt x="680" y="932"/>
                            </a:lnTo>
                            <a:lnTo>
                              <a:pt x="685" y="955"/>
                            </a:lnTo>
                            <a:lnTo>
                              <a:pt x="652" y="962"/>
                            </a:lnTo>
                            <a:lnTo>
                              <a:pt x="635" y="975"/>
                            </a:lnTo>
                            <a:lnTo>
                              <a:pt x="602" y="1025"/>
                            </a:lnTo>
                            <a:lnTo>
                              <a:pt x="572" y="1045"/>
                            </a:lnTo>
                            <a:lnTo>
                              <a:pt x="580" y="1080"/>
                            </a:lnTo>
                            <a:lnTo>
                              <a:pt x="562" y="1092"/>
                            </a:lnTo>
                            <a:lnTo>
                              <a:pt x="547" y="1107"/>
                            </a:lnTo>
                            <a:lnTo>
                              <a:pt x="562" y="1162"/>
                            </a:lnTo>
                            <a:lnTo>
                              <a:pt x="555" y="1197"/>
                            </a:lnTo>
                            <a:lnTo>
                              <a:pt x="517" y="1220"/>
                            </a:lnTo>
                            <a:lnTo>
                              <a:pt x="512" y="1275"/>
                            </a:lnTo>
                            <a:lnTo>
                              <a:pt x="517" y="1345"/>
                            </a:lnTo>
                            <a:lnTo>
                              <a:pt x="535" y="1380"/>
                            </a:lnTo>
                            <a:lnTo>
                              <a:pt x="587" y="1425"/>
                            </a:lnTo>
                            <a:lnTo>
                              <a:pt x="607" y="1465"/>
                            </a:lnTo>
                            <a:lnTo>
                              <a:pt x="630" y="1507"/>
                            </a:lnTo>
                            <a:lnTo>
                              <a:pt x="642" y="1535"/>
                            </a:lnTo>
                            <a:lnTo>
                              <a:pt x="630" y="1565"/>
                            </a:lnTo>
                            <a:lnTo>
                              <a:pt x="602" y="1585"/>
                            </a:lnTo>
                            <a:lnTo>
                              <a:pt x="580" y="1577"/>
                            </a:lnTo>
                            <a:lnTo>
                              <a:pt x="562" y="1557"/>
                            </a:lnTo>
                            <a:lnTo>
                              <a:pt x="535" y="1565"/>
                            </a:lnTo>
                            <a:lnTo>
                              <a:pt x="527" y="1585"/>
                            </a:lnTo>
                            <a:lnTo>
                              <a:pt x="485" y="1585"/>
                            </a:lnTo>
                            <a:lnTo>
                              <a:pt x="420" y="1577"/>
                            </a:lnTo>
                            <a:lnTo>
                              <a:pt x="407" y="1592"/>
                            </a:lnTo>
                            <a:lnTo>
                              <a:pt x="447" y="1612"/>
                            </a:lnTo>
                            <a:lnTo>
                              <a:pt x="505" y="1592"/>
                            </a:lnTo>
                            <a:lnTo>
                              <a:pt x="517" y="1620"/>
                            </a:lnTo>
                            <a:lnTo>
                              <a:pt x="562" y="1627"/>
                            </a:lnTo>
                            <a:lnTo>
                              <a:pt x="595" y="1640"/>
                            </a:lnTo>
                            <a:lnTo>
                              <a:pt x="580" y="1655"/>
                            </a:lnTo>
                            <a:lnTo>
                              <a:pt x="540" y="1647"/>
                            </a:lnTo>
                            <a:lnTo>
                              <a:pt x="535" y="1662"/>
                            </a:lnTo>
                            <a:lnTo>
                              <a:pt x="540" y="1682"/>
                            </a:lnTo>
                            <a:lnTo>
                              <a:pt x="517" y="1712"/>
                            </a:lnTo>
                            <a:lnTo>
                              <a:pt x="485" y="1737"/>
                            </a:lnTo>
                            <a:lnTo>
                              <a:pt x="470" y="1745"/>
                            </a:lnTo>
                            <a:lnTo>
                              <a:pt x="455" y="1752"/>
                            </a:lnTo>
                            <a:lnTo>
                              <a:pt x="465" y="1787"/>
                            </a:lnTo>
                            <a:lnTo>
                              <a:pt x="447" y="1807"/>
                            </a:lnTo>
                            <a:lnTo>
                              <a:pt x="427" y="1852"/>
                            </a:lnTo>
                            <a:lnTo>
                              <a:pt x="435" y="1892"/>
                            </a:lnTo>
                            <a:lnTo>
                              <a:pt x="420" y="1955"/>
                            </a:lnTo>
                            <a:lnTo>
                              <a:pt x="407" y="1985"/>
                            </a:lnTo>
                            <a:lnTo>
                              <a:pt x="407" y="2027"/>
                            </a:lnTo>
                            <a:lnTo>
                              <a:pt x="385" y="2055"/>
                            </a:lnTo>
                            <a:lnTo>
                              <a:pt x="357" y="2105"/>
                            </a:lnTo>
                            <a:lnTo>
                              <a:pt x="350" y="2140"/>
                            </a:lnTo>
                            <a:lnTo>
                              <a:pt x="300" y="2132"/>
                            </a:lnTo>
                            <a:lnTo>
                              <a:pt x="252" y="2132"/>
                            </a:lnTo>
                            <a:lnTo>
                              <a:pt x="245" y="2152"/>
                            </a:lnTo>
                            <a:lnTo>
                              <a:pt x="217" y="2160"/>
                            </a:lnTo>
                            <a:lnTo>
                              <a:pt x="202" y="2167"/>
                            </a:lnTo>
                            <a:lnTo>
                              <a:pt x="210" y="2192"/>
                            </a:lnTo>
                            <a:lnTo>
                              <a:pt x="202" y="2230"/>
                            </a:lnTo>
                            <a:lnTo>
                              <a:pt x="167" y="2250"/>
                            </a:lnTo>
                            <a:lnTo>
                              <a:pt x="147" y="2230"/>
                            </a:lnTo>
                            <a:lnTo>
                              <a:pt x="120" y="2250"/>
                            </a:lnTo>
                            <a:lnTo>
                              <a:pt x="82" y="2250"/>
                            </a:lnTo>
                            <a:lnTo>
                              <a:pt x="70" y="2230"/>
                            </a:lnTo>
                            <a:lnTo>
                              <a:pt x="82" y="2215"/>
                            </a:lnTo>
                            <a:lnTo>
                              <a:pt x="90" y="2175"/>
                            </a:lnTo>
                            <a:lnTo>
                              <a:pt x="62" y="2120"/>
                            </a:lnTo>
                            <a:lnTo>
                              <a:pt x="50" y="2090"/>
                            </a:lnTo>
                            <a:lnTo>
                              <a:pt x="57" y="2075"/>
                            </a:lnTo>
                            <a:lnTo>
                              <a:pt x="70" y="2075"/>
                            </a:lnTo>
                            <a:lnTo>
                              <a:pt x="77" y="2062"/>
                            </a:lnTo>
                            <a:lnTo>
                              <a:pt x="82" y="2047"/>
                            </a:lnTo>
                            <a:lnTo>
                              <a:pt x="90" y="2035"/>
                            </a:lnTo>
                            <a:lnTo>
                              <a:pt x="82" y="2020"/>
                            </a:lnTo>
                            <a:lnTo>
                              <a:pt x="70" y="1992"/>
                            </a:lnTo>
                            <a:lnTo>
                              <a:pt x="42" y="1950"/>
                            </a:lnTo>
                            <a:lnTo>
                              <a:pt x="50" y="1907"/>
                            </a:lnTo>
                            <a:lnTo>
                              <a:pt x="27" y="1872"/>
                            </a:lnTo>
                            <a:lnTo>
                              <a:pt x="7" y="1852"/>
                            </a:lnTo>
                            <a:lnTo>
                              <a:pt x="20" y="1815"/>
                            </a:lnTo>
                            <a:lnTo>
                              <a:pt x="35" y="1745"/>
                            </a:lnTo>
                            <a:lnTo>
                              <a:pt x="7" y="1712"/>
                            </a:lnTo>
                            <a:lnTo>
                              <a:pt x="0" y="1675"/>
                            </a:lnTo>
                            <a:lnTo>
                              <a:pt x="0" y="1655"/>
                            </a:lnTo>
                            <a:lnTo>
                              <a:pt x="12" y="1612"/>
                            </a:lnTo>
                            <a:lnTo>
                              <a:pt x="35" y="1620"/>
                            </a:lnTo>
                            <a:lnTo>
                              <a:pt x="57" y="1565"/>
                            </a:lnTo>
                            <a:lnTo>
                              <a:pt x="57" y="1500"/>
                            </a:lnTo>
                            <a:lnTo>
                              <a:pt x="62" y="1480"/>
                            </a:lnTo>
                            <a:lnTo>
                              <a:pt x="90" y="1457"/>
                            </a:lnTo>
                            <a:lnTo>
                              <a:pt x="132" y="1430"/>
                            </a:lnTo>
                            <a:lnTo>
                              <a:pt x="132" y="1395"/>
                            </a:lnTo>
                            <a:lnTo>
                              <a:pt x="127" y="1290"/>
                            </a:lnTo>
                            <a:lnTo>
                              <a:pt x="112" y="1275"/>
                            </a:lnTo>
                            <a:lnTo>
                              <a:pt x="112" y="1247"/>
                            </a:lnTo>
                            <a:lnTo>
                              <a:pt x="147" y="1232"/>
                            </a:lnTo>
                            <a:lnTo>
                              <a:pt x="160" y="1220"/>
                            </a:lnTo>
                            <a:lnTo>
                              <a:pt x="140" y="1177"/>
                            </a:lnTo>
                            <a:lnTo>
                              <a:pt x="112" y="1135"/>
                            </a:lnTo>
                            <a:lnTo>
                              <a:pt x="120" y="1087"/>
                            </a:lnTo>
                            <a:lnTo>
                              <a:pt x="127" y="1052"/>
                            </a:lnTo>
                            <a:lnTo>
                              <a:pt x="155" y="990"/>
                            </a:lnTo>
                            <a:lnTo>
                              <a:pt x="155" y="962"/>
                            </a:lnTo>
                            <a:lnTo>
                              <a:pt x="155" y="905"/>
                            </a:lnTo>
                            <a:lnTo>
                              <a:pt x="175" y="855"/>
                            </a:lnTo>
                            <a:lnTo>
                              <a:pt x="210" y="827"/>
                            </a:lnTo>
                            <a:lnTo>
                              <a:pt x="245" y="807"/>
                            </a:lnTo>
                            <a:lnTo>
                              <a:pt x="280" y="815"/>
                            </a:lnTo>
                            <a:lnTo>
                              <a:pt x="315" y="827"/>
                            </a:lnTo>
                            <a:lnTo>
                              <a:pt x="330" y="777"/>
                            </a:lnTo>
                            <a:lnTo>
                              <a:pt x="315" y="735"/>
                            </a:lnTo>
                            <a:lnTo>
                              <a:pt x="300" y="707"/>
                            </a:lnTo>
                            <a:lnTo>
                              <a:pt x="295" y="687"/>
                            </a:lnTo>
                            <a:lnTo>
                              <a:pt x="300" y="665"/>
                            </a:lnTo>
                            <a:lnTo>
                              <a:pt x="322" y="657"/>
                            </a:lnTo>
                            <a:lnTo>
                              <a:pt x="330" y="610"/>
                            </a:lnTo>
                            <a:lnTo>
                              <a:pt x="345" y="567"/>
                            </a:lnTo>
                            <a:lnTo>
                              <a:pt x="350" y="532"/>
                            </a:lnTo>
                            <a:lnTo>
                              <a:pt x="350" y="497"/>
                            </a:lnTo>
                            <a:lnTo>
                              <a:pt x="370" y="462"/>
                            </a:lnTo>
                            <a:lnTo>
                              <a:pt x="415" y="435"/>
                            </a:lnTo>
                            <a:lnTo>
                              <a:pt x="442" y="427"/>
                            </a:lnTo>
                            <a:lnTo>
                              <a:pt x="442" y="392"/>
                            </a:lnTo>
                            <a:lnTo>
                              <a:pt x="455" y="370"/>
                            </a:lnTo>
                            <a:lnTo>
                              <a:pt x="485" y="337"/>
                            </a:lnTo>
                            <a:lnTo>
                              <a:pt x="512" y="315"/>
                            </a:lnTo>
                            <a:lnTo>
                              <a:pt x="497" y="255"/>
                            </a:lnTo>
                            <a:lnTo>
                              <a:pt x="550" y="197"/>
                            </a:lnTo>
                            <a:lnTo>
                              <a:pt x="562" y="172"/>
                            </a:lnTo>
                            <a:lnTo>
                              <a:pt x="602" y="165"/>
                            </a:lnTo>
                            <a:lnTo>
                              <a:pt x="627" y="132"/>
                            </a:lnTo>
                            <a:lnTo>
                              <a:pt x="627" y="110"/>
                            </a:lnTo>
                            <a:lnTo>
                              <a:pt x="652" y="87"/>
                            </a:lnTo>
                            <a:lnTo>
                              <a:pt x="697" y="80"/>
                            </a:lnTo>
                            <a:lnTo>
                              <a:pt x="750" y="80"/>
                            </a:lnTo>
                            <a:lnTo>
                              <a:pt x="792" y="40"/>
                            </a:lnTo>
                            <a:lnTo>
                              <a:pt x="785" y="0"/>
                            </a:lnTo>
                            <a:lnTo>
                              <a:pt x="792" y="0"/>
                            </a:lnTo>
                            <a:close/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5551560" y="307800"/>
                        <a:ext cx="971640" cy="212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0" h="2250">
                            <a:moveTo>
                              <a:pt x="792" y="0"/>
                            </a:moveTo>
                            <a:lnTo>
                              <a:pt x="805" y="7"/>
                            </a:lnTo>
                            <a:lnTo>
                              <a:pt x="825" y="40"/>
                            </a:lnTo>
                            <a:lnTo>
                              <a:pt x="917" y="132"/>
                            </a:lnTo>
                            <a:lnTo>
                              <a:pt x="932" y="110"/>
                            </a:lnTo>
                            <a:lnTo>
                              <a:pt x="967" y="140"/>
                            </a:lnTo>
                            <a:lnTo>
                              <a:pt x="980" y="167"/>
                            </a:lnTo>
                            <a:lnTo>
                              <a:pt x="980" y="190"/>
                            </a:lnTo>
                            <a:lnTo>
                              <a:pt x="980" y="225"/>
                            </a:lnTo>
                            <a:lnTo>
                              <a:pt x="967" y="245"/>
                            </a:lnTo>
                            <a:lnTo>
                              <a:pt x="995" y="275"/>
                            </a:lnTo>
                            <a:lnTo>
                              <a:pt x="1015" y="300"/>
                            </a:lnTo>
                            <a:lnTo>
                              <a:pt x="1015" y="322"/>
                            </a:lnTo>
                            <a:lnTo>
                              <a:pt x="1015" y="357"/>
                            </a:lnTo>
                            <a:lnTo>
                              <a:pt x="1010" y="400"/>
                            </a:lnTo>
                            <a:lnTo>
                              <a:pt x="995" y="415"/>
                            </a:lnTo>
                            <a:lnTo>
                              <a:pt x="1015" y="435"/>
                            </a:lnTo>
                            <a:lnTo>
                              <a:pt x="1037" y="470"/>
                            </a:lnTo>
                            <a:lnTo>
                              <a:pt x="1050" y="505"/>
                            </a:lnTo>
                            <a:lnTo>
                              <a:pt x="1050" y="517"/>
                            </a:lnTo>
                            <a:lnTo>
                              <a:pt x="1030" y="525"/>
                            </a:lnTo>
                            <a:lnTo>
                              <a:pt x="940" y="525"/>
                            </a:lnTo>
                            <a:lnTo>
                              <a:pt x="917" y="525"/>
                            </a:lnTo>
                            <a:lnTo>
                              <a:pt x="902" y="540"/>
                            </a:lnTo>
                            <a:lnTo>
                              <a:pt x="902" y="567"/>
                            </a:lnTo>
                            <a:lnTo>
                              <a:pt x="890" y="587"/>
                            </a:lnTo>
                            <a:lnTo>
                              <a:pt x="847" y="625"/>
                            </a:lnTo>
                            <a:lnTo>
                              <a:pt x="855" y="652"/>
                            </a:lnTo>
                            <a:lnTo>
                              <a:pt x="847" y="672"/>
                            </a:lnTo>
                            <a:lnTo>
                              <a:pt x="832" y="687"/>
                            </a:lnTo>
                            <a:lnTo>
                              <a:pt x="847" y="730"/>
                            </a:lnTo>
                            <a:lnTo>
                              <a:pt x="855" y="757"/>
                            </a:lnTo>
                            <a:lnTo>
                              <a:pt x="840" y="777"/>
                            </a:lnTo>
                            <a:lnTo>
                              <a:pt x="812" y="800"/>
                            </a:lnTo>
                            <a:lnTo>
                              <a:pt x="805" y="827"/>
                            </a:lnTo>
                            <a:lnTo>
                              <a:pt x="800" y="862"/>
                            </a:lnTo>
                            <a:lnTo>
                              <a:pt x="750" y="885"/>
                            </a:lnTo>
                            <a:lnTo>
                              <a:pt x="722" y="905"/>
                            </a:lnTo>
                            <a:lnTo>
                              <a:pt x="680" y="932"/>
                            </a:lnTo>
                            <a:lnTo>
                              <a:pt x="685" y="955"/>
                            </a:lnTo>
                            <a:lnTo>
                              <a:pt x="652" y="962"/>
                            </a:lnTo>
                            <a:lnTo>
                              <a:pt x="635" y="975"/>
                            </a:lnTo>
                            <a:lnTo>
                              <a:pt x="602" y="1025"/>
                            </a:lnTo>
                            <a:lnTo>
                              <a:pt x="572" y="1045"/>
                            </a:lnTo>
                            <a:lnTo>
                              <a:pt x="580" y="1080"/>
                            </a:lnTo>
                            <a:lnTo>
                              <a:pt x="562" y="1092"/>
                            </a:lnTo>
                            <a:lnTo>
                              <a:pt x="547" y="1107"/>
                            </a:lnTo>
                            <a:lnTo>
                              <a:pt x="562" y="1162"/>
                            </a:lnTo>
                            <a:lnTo>
                              <a:pt x="555" y="1197"/>
                            </a:lnTo>
                            <a:lnTo>
                              <a:pt x="517" y="1220"/>
                            </a:lnTo>
                            <a:lnTo>
                              <a:pt x="512" y="1275"/>
                            </a:lnTo>
                            <a:lnTo>
                              <a:pt x="517" y="1345"/>
                            </a:lnTo>
                            <a:lnTo>
                              <a:pt x="535" y="1380"/>
                            </a:lnTo>
                            <a:lnTo>
                              <a:pt x="587" y="1425"/>
                            </a:lnTo>
                            <a:lnTo>
                              <a:pt x="607" y="1465"/>
                            </a:lnTo>
                            <a:lnTo>
                              <a:pt x="630" y="1507"/>
                            </a:lnTo>
                            <a:lnTo>
                              <a:pt x="642" y="1535"/>
                            </a:lnTo>
                            <a:lnTo>
                              <a:pt x="630" y="1565"/>
                            </a:lnTo>
                            <a:lnTo>
                              <a:pt x="602" y="1585"/>
                            </a:lnTo>
                            <a:lnTo>
                              <a:pt x="580" y="1577"/>
                            </a:lnTo>
                            <a:lnTo>
                              <a:pt x="562" y="1557"/>
                            </a:lnTo>
                            <a:lnTo>
                              <a:pt x="535" y="1565"/>
                            </a:lnTo>
                            <a:lnTo>
                              <a:pt x="527" y="1585"/>
                            </a:lnTo>
                            <a:lnTo>
                              <a:pt x="485" y="1585"/>
                            </a:lnTo>
                            <a:lnTo>
                              <a:pt x="420" y="1577"/>
                            </a:lnTo>
                            <a:lnTo>
                              <a:pt x="407" y="1592"/>
                            </a:lnTo>
                            <a:lnTo>
                              <a:pt x="447" y="1612"/>
                            </a:lnTo>
                            <a:lnTo>
                              <a:pt x="505" y="1592"/>
                            </a:lnTo>
                            <a:lnTo>
                              <a:pt x="517" y="1620"/>
                            </a:lnTo>
                            <a:lnTo>
                              <a:pt x="562" y="1627"/>
                            </a:lnTo>
                            <a:lnTo>
                              <a:pt x="595" y="1640"/>
                            </a:lnTo>
                            <a:lnTo>
                              <a:pt x="580" y="1655"/>
                            </a:lnTo>
                            <a:lnTo>
                              <a:pt x="540" y="1647"/>
                            </a:lnTo>
                            <a:lnTo>
                              <a:pt x="535" y="1662"/>
                            </a:lnTo>
                            <a:lnTo>
                              <a:pt x="540" y="1682"/>
                            </a:lnTo>
                            <a:lnTo>
                              <a:pt x="517" y="1712"/>
                            </a:lnTo>
                            <a:lnTo>
                              <a:pt x="485" y="1737"/>
                            </a:lnTo>
                            <a:lnTo>
                              <a:pt x="470" y="1745"/>
                            </a:lnTo>
                            <a:lnTo>
                              <a:pt x="455" y="1752"/>
                            </a:lnTo>
                            <a:lnTo>
                              <a:pt x="465" y="1787"/>
                            </a:lnTo>
                            <a:lnTo>
                              <a:pt x="447" y="1807"/>
                            </a:lnTo>
                            <a:lnTo>
                              <a:pt x="427" y="1852"/>
                            </a:lnTo>
                            <a:lnTo>
                              <a:pt x="435" y="1892"/>
                            </a:lnTo>
                            <a:lnTo>
                              <a:pt x="420" y="1955"/>
                            </a:lnTo>
                            <a:lnTo>
                              <a:pt x="407" y="1985"/>
                            </a:lnTo>
                            <a:lnTo>
                              <a:pt x="407" y="2027"/>
                            </a:lnTo>
                            <a:lnTo>
                              <a:pt x="385" y="2055"/>
                            </a:lnTo>
                            <a:lnTo>
                              <a:pt x="357" y="2105"/>
                            </a:lnTo>
                            <a:lnTo>
                              <a:pt x="350" y="2140"/>
                            </a:lnTo>
                            <a:lnTo>
                              <a:pt x="300" y="2132"/>
                            </a:lnTo>
                            <a:lnTo>
                              <a:pt x="252" y="2132"/>
                            </a:lnTo>
                            <a:lnTo>
                              <a:pt x="245" y="2152"/>
                            </a:lnTo>
                            <a:lnTo>
                              <a:pt x="217" y="2160"/>
                            </a:lnTo>
                            <a:lnTo>
                              <a:pt x="202" y="2167"/>
                            </a:lnTo>
                            <a:lnTo>
                              <a:pt x="210" y="2192"/>
                            </a:lnTo>
                            <a:lnTo>
                              <a:pt x="202" y="2230"/>
                            </a:lnTo>
                            <a:lnTo>
                              <a:pt x="167" y="2250"/>
                            </a:lnTo>
                            <a:lnTo>
                              <a:pt x="147" y="2230"/>
                            </a:lnTo>
                            <a:lnTo>
                              <a:pt x="120" y="2250"/>
                            </a:lnTo>
                            <a:lnTo>
                              <a:pt x="82" y="2250"/>
                            </a:lnTo>
                            <a:lnTo>
                              <a:pt x="70" y="2230"/>
                            </a:lnTo>
                            <a:lnTo>
                              <a:pt x="82" y="2215"/>
                            </a:lnTo>
                            <a:lnTo>
                              <a:pt x="90" y="2175"/>
                            </a:lnTo>
                            <a:lnTo>
                              <a:pt x="62" y="2120"/>
                            </a:lnTo>
                            <a:lnTo>
                              <a:pt x="50" y="2090"/>
                            </a:lnTo>
                            <a:lnTo>
                              <a:pt x="57" y="2075"/>
                            </a:lnTo>
                            <a:lnTo>
                              <a:pt x="70" y="2075"/>
                            </a:lnTo>
                            <a:lnTo>
                              <a:pt x="77" y="2062"/>
                            </a:lnTo>
                            <a:lnTo>
                              <a:pt x="82" y="2047"/>
                            </a:lnTo>
                            <a:lnTo>
                              <a:pt x="90" y="2035"/>
                            </a:lnTo>
                            <a:lnTo>
                              <a:pt x="82" y="2020"/>
                            </a:lnTo>
                            <a:lnTo>
                              <a:pt x="70" y="1992"/>
                            </a:lnTo>
                            <a:lnTo>
                              <a:pt x="42" y="1950"/>
                            </a:lnTo>
                            <a:lnTo>
                              <a:pt x="50" y="1907"/>
                            </a:lnTo>
                            <a:lnTo>
                              <a:pt x="27" y="1872"/>
                            </a:lnTo>
                            <a:lnTo>
                              <a:pt x="7" y="1852"/>
                            </a:lnTo>
                            <a:lnTo>
                              <a:pt x="20" y="1815"/>
                            </a:lnTo>
                            <a:lnTo>
                              <a:pt x="35" y="1745"/>
                            </a:lnTo>
                            <a:lnTo>
                              <a:pt x="7" y="1712"/>
                            </a:lnTo>
                            <a:lnTo>
                              <a:pt x="0" y="1675"/>
                            </a:lnTo>
                            <a:lnTo>
                              <a:pt x="0" y="1655"/>
                            </a:lnTo>
                            <a:lnTo>
                              <a:pt x="12" y="1612"/>
                            </a:lnTo>
                            <a:lnTo>
                              <a:pt x="35" y="1620"/>
                            </a:lnTo>
                            <a:lnTo>
                              <a:pt x="57" y="1565"/>
                            </a:lnTo>
                            <a:lnTo>
                              <a:pt x="57" y="1500"/>
                            </a:lnTo>
                            <a:lnTo>
                              <a:pt x="62" y="1480"/>
                            </a:lnTo>
                            <a:lnTo>
                              <a:pt x="90" y="1457"/>
                            </a:lnTo>
                            <a:lnTo>
                              <a:pt x="132" y="1430"/>
                            </a:lnTo>
                            <a:lnTo>
                              <a:pt x="132" y="1395"/>
                            </a:lnTo>
                            <a:lnTo>
                              <a:pt x="127" y="1290"/>
                            </a:lnTo>
                            <a:lnTo>
                              <a:pt x="112" y="1275"/>
                            </a:lnTo>
                            <a:lnTo>
                              <a:pt x="112" y="1247"/>
                            </a:lnTo>
                            <a:lnTo>
                              <a:pt x="147" y="1232"/>
                            </a:lnTo>
                            <a:lnTo>
                              <a:pt x="160" y="1220"/>
                            </a:lnTo>
                            <a:lnTo>
                              <a:pt x="140" y="1177"/>
                            </a:lnTo>
                            <a:lnTo>
                              <a:pt x="112" y="1135"/>
                            </a:lnTo>
                            <a:lnTo>
                              <a:pt x="120" y="1087"/>
                            </a:lnTo>
                            <a:lnTo>
                              <a:pt x="127" y="1052"/>
                            </a:lnTo>
                            <a:lnTo>
                              <a:pt x="155" y="990"/>
                            </a:lnTo>
                            <a:lnTo>
                              <a:pt x="155" y="962"/>
                            </a:lnTo>
                            <a:lnTo>
                              <a:pt x="155" y="905"/>
                            </a:lnTo>
                            <a:lnTo>
                              <a:pt x="175" y="855"/>
                            </a:lnTo>
                            <a:lnTo>
                              <a:pt x="210" y="827"/>
                            </a:lnTo>
                            <a:lnTo>
                              <a:pt x="245" y="807"/>
                            </a:lnTo>
                            <a:lnTo>
                              <a:pt x="280" y="815"/>
                            </a:lnTo>
                            <a:lnTo>
                              <a:pt x="315" y="827"/>
                            </a:lnTo>
                            <a:lnTo>
                              <a:pt x="330" y="777"/>
                            </a:lnTo>
                            <a:lnTo>
                              <a:pt x="315" y="735"/>
                            </a:lnTo>
                            <a:lnTo>
                              <a:pt x="300" y="707"/>
                            </a:lnTo>
                            <a:lnTo>
                              <a:pt x="295" y="687"/>
                            </a:lnTo>
                            <a:lnTo>
                              <a:pt x="300" y="665"/>
                            </a:lnTo>
                            <a:lnTo>
                              <a:pt x="322" y="657"/>
                            </a:lnTo>
                            <a:lnTo>
                              <a:pt x="330" y="610"/>
                            </a:lnTo>
                            <a:lnTo>
                              <a:pt x="345" y="567"/>
                            </a:lnTo>
                            <a:lnTo>
                              <a:pt x="350" y="532"/>
                            </a:lnTo>
                            <a:lnTo>
                              <a:pt x="350" y="497"/>
                            </a:lnTo>
                            <a:lnTo>
                              <a:pt x="370" y="462"/>
                            </a:lnTo>
                            <a:lnTo>
                              <a:pt x="415" y="435"/>
                            </a:lnTo>
                            <a:lnTo>
                              <a:pt x="442" y="427"/>
                            </a:lnTo>
                            <a:lnTo>
                              <a:pt x="442" y="392"/>
                            </a:lnTo>
                            <a:lnTo>
                              <a:pt x="455" y="370"/>
                            </a:lnTo>
                            <a:lnTo>
                              <a:pt x="485" y="337"/>
                            </a:lnTo>
                            <a:lnTo>
                              <a:pt x="512" y="315"/>
                            </a:lnTo>
                            <a:lnTo>
                              <a:pt x="497" y="255"/>
                            </a:lnTo>
                            <a:lnTo>
                              <a:pt x="550" y="197"/>
                            </a:lnTo>
                            <a:lnTo>
                              <a:pt x="562" y="172"/>
                            </a:lnTo>
                            <a:lnTo>
                              <a:pt x="602" y="165"/>
                            </a:lnTo>
                            <a:lnTo>
                              <a:pt x="627" y="132"/>
                            </a:lnTo>
                            <a:lnTo>
                              <a:pt x="627" y="110"/>
                            </a:lnTo>
                            <a:lnTo>
                              <a:pt x="652" y="87"/>
                            </a:lnTo>
                            <a:lnTo>
                              <a:pt x="697" y="80"/>
                            </a:lnTo>
                            <a:lnTo>
                              <a:pt x="750" y="80"/>
                            </a:lnTo>
                            <a:lnTo>
                              <a:pt x="792" y="40"/>
                            </a:lnTo>
                            <a:lnTo>
                              <a:pt x="785" y="0"/>
                            </a:lnTo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5639400" y="1795680"/>
                    <a:ext cx="221760" cy="247680"/>
                    <a:chOff x="5639400" y="1795680"/>
                    <a:chExt cx="221760" cy="247680"/>
                  </a:xfrm>
                </p:grpSpPr>
                <p:grpSp>
                  <p:nvGrpSpPr>
                    <p:cNvPr id="167" name=""/>
                    <p:cNvGrpSpPr/>
                    <p:nvPr/>
                  </p:nvGrpSpPr>
                  <p:grpSpPr>
                    <a:xfrm>
                      <a:off x="5756760" y="1869120"/>
                      <a:ext cx="104400" cy="174240"/>
                      <a:chOff x="5756760" y="1869120"/>
                      <a:chExt cx="104400" cy="174240"/>
                    </a:xfrm>
                  </p:grpSpPr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5756760" y="1869120"/>
                        <a:ext cx="104400" cy="17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85">
                            <a:moveTo>
                              <a:pt x="100" y="0"/>
                            </a:moveTo>
                            <a:lnTo>
                              <a:pt x="100" y="32"/>
                            </a:lnTo>
                            <a:lnTo>
                              <a:pt x="113" y="60"/>
                            </a:lnTo>
                            <a:lnTo>
                              <a:pt x="100" y="92"/>
                            </a:lnTo>
                            <a:lnTo>
                              <a:pt x="80" y="120"/>
                            </a:lnTo>
                            <a:lnTo>
                              <a:pt x="45" y="152"/>
                            </a:lnTo>
                            <a:lnTo>
                              <a:pt x="15" y="185"/>
                            </a:lnTo>
                            <a:lnTo>
                              <a:pt x="0" y="152"/>
                            </a:lnTo>
                            <a:lnTo>
                              <a:pt x="10" y="137"/>
                            </a:lnTo>
                            <a:lnTo>
                              <a:pt x="45" y="102"/>
                            </a:lnTo>
                            <a:lnTo>
                              <a:pt x="43" y="82"/>
                            </a:lnTo>
                            <a:lnTo>
                              <a:pt x="60" y="52"/>
                            </a:lnTo>
                            <a:lnTo>
                              <a:pt x="100" y="17"/>
                            </a:lnTo>
                            <a:lnTo>
                              <a:pt x="100" y="27"/>
                            </a:lnTo>
                            <a:lnTo>
                              <a:pt x="110" y="45"/>
                            </a:lnTo>
                            <a:lnTo>
                              <a:pt x="100" y="0"/>
                            </a:lnTo>
                            <a:close/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5756760" y="1869120"/>
                        <a:ext cx="104400" cy="174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3" h="185">
                            <a:moveTo>
                              <a:pt x="100" y="0"/>
                            </a:moveTo>
                            <a:lnTo>
                              <a:pt x="100" y="32"/>
                            </a:lnTo>
                            <a:lnTo>
                              <a:pt x="113" y="60"/>
                            </a:lnTo>
                            <a:lnTo>
                              <a:pt x="100" y="92"/>
                            </a:lnTo>
                            <a:lnTo>
                              <a:pt x="80" y="120"/>
                            </a:lnTo>
                            <a:lnTo>
                              <a:pt x="45" y="152"/>
                            </a:lnTo>
                            <a:lnTo>
                              <a:pt x="15" y="185"/>
                            </a:lnTo>
                            <a:lnTo>
                              <a:pt x="0" y="152"/>
                            </a:lnTo>
                            <a:lnTo>
                              <a:pt x="10" y="137"/>
                            </a:lnTo>
                            <a:lnTo>
                              <a:pt x="45" y="102"/>
                            </a:lnTo>
                            <a:lnTo>
                              <a:pt x="43" y="82"/>
                            </a:lnTo>
                            <a:lnTo>
                              <a:pt x="60" y="52"/>
                            </a:lnTo>
                            <a:lnTo>
                              <a:pt x="100" y="17"/>
                            </a:lnTo>
                            <a:lnTo>
                              <a:pt x="100" y="27"/>
                            </a:lnTo>
                            <a:lnTo>
                              <a:pt x="110" y="45"/>
                            </a:lnTo>
                          </a:path>
                        </a:pathLst>
                      </a:custGeom>
                      <a:solidFill>
                        <a:srgbClr val="ff99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5639400" y="1795680"/>
                      <a:ext cx="131040" cy="13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148">
                          <a:moveTo>
                            <a:pt x="112" y="0"/>
                          </a:moveTo>
                          <a:lnTo>
                            <a:pt x="95" y="20"/>
                          </a:lnTo>
                          <a:lnTo>
                            <a:pt x="65" y="18"/>
                          </a:lnTo>
                          <a:lnTo>
                            <a:pt x="50" y="13"/>
                          </a:lnTo>
                          <a:lnTo>
                            <a:pt x="57" y="38"/>
                          </a:lnTo>
                          <a:lnTo>
                            <a:pt x="60" y="58"/>
                          </a:lnTo>
                          <a:lnTo>
                            <a:pt x="62" y="70"/>
                          </a:lnTo>
                          <a:lnTo>
                            <a:pt x="52" y="73"/>
                          </a:lnTo>
                          <a:lnTo>
                            <a:pt x="35" y="65"/>
                          </a:lnTo>
                          <a:lnTo>
                            <a:pt x="35" y="58"/>
                          </a:lnTo>
                          <a:lnTo>
                            <a:pt x="20" y="58"/>
                          </a:lnTo>
                          <a:lnTo>
                            <a:pt x="25" y="73"/>
                          </a:lnTo>
                          <a:lnTo>
                            <a:pt x="17" y="90"/>
                          </a:lnTo>
                          <a:lnTo>
                            <a:pt x="0" y="115"/>
                          </a:lnTo>
                          <a:lnTo>
                            <a:pt x="7" y="135"/>
                          </a:lnTo>
                          <a:lnTo>
                            <a:pt x="25" y="148"/>
                          </a:lnTo>
                          <a:lnTo>
                            <a:pt x="42" y="135"/>
                          </a:lnTo>
                          <a:lnTo>
                            <a:pt x="62" y="123"/>
                          </a:lnTo>
                          <a:lnTo>
                            <a:pt x="102" y="113"/>
                          </a:lnTo>
                          <a:lnTo>
                            <a:pt x="120" y="115"/>
                          </a:lnTo>
                          <a:lnTo>
                            <a:pt x="112" y="90"/>
                          </a:lnTo>
                          <a:lnTo>
                            <a:pt x="127" y="78"/>
                          </a:lnTo>
                          <a:lnTo>
                            <a:pt x="142" y="53"/>
                          </a:lnTo>
                          <a:lnTo>
                            <a:pt x="135" y="38"/>
                          </a:lnTo>
                          <a:lnTo>
                            <a:pt x="122" y="20"/>
                          </a:lnTo>
                          <a:lnTo>
                            <a:pt x="112" y="0"/>
                          </a:lnTo>
                          <a:close/>
                        </a:path>
                      </a:pathLst>
                    </a:custGeom>
                    <a:solidFill>
                      <a:srgbClr val="ff99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6340320" y="4703760"/>
                  <a:ext cx="625320" cy="878040"/>
                  <a:chOff x="6340320" y="4703760"/>
                  <a:chExt cx="625320" cy="87804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6340320" y="4703760"/>
                    <a:ext cx="621000" cy="681840"/>
                  </a:xfrm>
                  <a:custGeom>
                    <a:avLst/>
                    <a:gdLst/>
                    <a:ahLst/>
                    <a:rect l="l" t="t" r="r" b="b"/>
                    <a:pathLst>
                      <a:path w="675" h="720">
                        <a:moveTo>
                          <a:pt x="650" y="0"/>
                        </a:moveTo>
                        <a:lnTo>
                          <a:pt x="635" y="20"/>
                        </a:lnTo>
                        <a:lnTo>
                          <a:pt x="620" y="42"/>
                        </a:lnTo>
                        <a:lnTo>
                          <a:pt x="590" y="60"/>
                        </a:lnTo>
                        <a:lnTo>
                          <a:pt x="563" y="62"/>
                        </a:lnTo>
                        <a:lnTo>
                          <a:pt x="540" y="50"/>
                        </a:lnTo>
                        <a:lnTo>
                          <a:pt x="535" y="42"/>
                        </a:lnTo>
                        <a:lnTo>
                          <a:pt x="508" y="32"/>
                        </a:lnTo>
                        <a:lnTo>
                          <a:pt x="493" y="30"/>
                        </a:lnTo>
                        <a:lnTo>
                          <a:pt x="465" y="20"/>
                        </a:lnTo>
                        <a:lnTo>
                          <a:pt x="440" y="7"/>
                        </a:lnTo>
                        <a:lnTo>
                          <a:pt x="433" y="7"/>
                        </a:lnTo>
                        <a:lnTo>
                          <a:pt x="413" y="20"/>
                        </a:lnTo>
                        <a:lnTo>
                          <a:pt x="388" y="25"/>
                        </a:lnTo>
                        <a:lnTo>
                          <a:pt x="368" y="32"/>
                        </a:lnTo>
                        <a:lnTo>
                          <a:pt x="353" y="45"/>
                        </a:lnTo>
                        <a:lnTo>
                          <a:pt x="330" y="45"/>
                        </a:lnTo>
                        <a:lnTo>
                          <a:pt x="305" y="52"/>
                        </a:lnTo>
                        <a:lnTo>
                          <a:pt x="285" y="55"/>
                        </a:lnTo>
                        <a:lnTo>
                          <a:pt x="268" y="60"/>
                        </a:lnTo>
                        <a:lnTo>
                          <a:pt x="270" y="65"/>
                        </a:lnTo>
                        <a:lnTo>
                          <a:pt x="245" y="75"/>
                        </a:lnTo>
                        <a:lnTo>
                          <a:pt x="223" y="75"/>
                        </a:lnTo>
                        <a:lnTo>
                          <a:pt x="183" y="85"/>
                        </a:lnTo>
                        <a:lnTo>
                          <a:pt x="155" y="85"/>
                        </a:lnTo>
                        <a:lnTo>
                          <a:pt x="140" y="90"/>
                        </a:lnTo>
                        <a:lnTo>
                          <a:pt x="123" y="87"/>
                        </a:lnTo>
                        <a:lnTo>
                          <a:pt x="105" y="100"/>
                        </a:lnTo>
                        <a:lnTo>
                          <a:pt x="95" y="110"/>
                        </a:lnTo>
                        <a:lnTo>
                          <a:pt x="100" y="120"/>
                        </a:lnTo>
                        <a:lnTo>
                          <a:pt x="110" y="122"/>
                        </a:lnTo>
                        <a:lnTo>
                          <a:pt x="115" y="132"/>
                        </a:lnTo>
                        <a:lnTo>
                          <a:pt x="118" y="157"/>
                        </a:lnTo>
                        <a:lnTo>
                          <a:pt x="108" y="170"/>
                        </a:lnTo>
                        <a:lnTo>
                          <a:pt x="95" y="177"/>
                        </a:lnTo>
                        <a:lnTo>
                          <a:pt x="85" y="182"/>
                        </a:lnTo>
                        <a:lnTo>
                          <a:pt x="83" y="187"/>
                        </a:lnTo>
                        <a:lnTo>
                          <a:pt x="70" y="205"/>
                        </a:lnTo>
                        <a:lnTo>
                          <a:pt x="68" y="212"/>
                        </a:lnTo>
                        <a:lnTo>
                          <a:pt x="60" y="217"/>
                        </a:lnTo>
                        <a:lnTo>
                          <a:pt x="60" y="232"/>
                        </a:lnTo>
                        <a:lnTo>
                          <a:pt x="55" y="240"/>
                        </a:lnTo>
                        <a:lnTo>
                          <a:pt x="43" y="247"/>
                        </a:lnTo>
                        <a:lnTo>
                          <a:pt x="35" y="245"/>
                        </a:lnTo>
                        <a:lnTo>
                          <a:pt x="0" y="257"/>
                        </a:lnTo>
                        <a:lnTo>
                          <a:pt x="23" y="302"/>
                        </a:lnTo>
                        <a:lnTo>
                          <a:pt x="38" y="310"/>
                        </a:lnTo>
                        <a:lnTo>
                          <a:pt x="40" y="322"/>
                        </a:lnTo>
                        <a:lnTo>
                          <a:pt x="53" y="332"/>
                        </a:lnTo>
                        <a:lnTo>
                          <a:pt x="60" y="340"/>
                        </a:lnTo>
                        <a:lnTo>
                          <a:pt x="65" y="355"/>
                        </a:lnTo>
                        <a:lnTo>
                          <a:pt x="75" y="360"/>
                        </a:lnTo>
                        <a:lnTo>
                          <a:pt x="85" y="362"/>
                        </a:lnTo>
                        <a:lnTo>
                          <a:pt x="100" y="355"/>
                        </a:lnTo>
                        <a:lnTo>
                          <a:pt x="103" y="362"/>
                        </a:lnTo>
                        <a:lnTo>
                          <a:pt x="113" y="365"/>
                        </a:lnTo>
                        <a:lnTo>
                          <a:pt x="118" y="370"/>
                        </a:lnTo>
                        <a:lnTo>
                          <a:pt x="105" y="375"/>
                        </a:lnTo>
                        <a:lnTo>
                          <a:pt x="93" y="375"/>
                        </a:lnTo>
                        <a:lnTo>
                          <a:pt x="78" y="385"/>
                        </a:lnTo>
                        <a:lnTo>
                          <a:pt x="55" y="395"/>
                        </a:lnTo>
                        <a:lnTo>
                          <a:pt x="55" y="420"/>
                        </a:lnTo>
                        <a:lnTo>
                          <a:pt x="65" y="425"/>
                        </a:lnTo>
                        <a:lnTo>
                          <a:pt x="80" y="420"/>
                        </a:lnTo>
                        <a:lnTo>
                          <a:pt x="100" y="430"/>
                        </a:lnTo>
                        <a:lnTo>
                          <a:pt x="103" y="450"/>
                        </a:lnTo>
                        <a:lnTo>
                          <a:pt x="110" y="457"/>
                        </a:lnTo>
                        <a:lnTo>
                          <a:pt x="128" y="445"/>
                        </a:lnTo>
                        <a:lnTo>
                          <a:pt x="130" y="450"/>
                        </a:lnTo>
                        <a:lnTo>
                          <a:pt x="140" y="455"/>
                        </a:lnTo>
                        <a:lnTo>
                          <a:pt x="145" y="452"/>
                        </a:lnTo>
                        <a:lnTo>
                          <a:pt x="175" y="452"/>
                        </a:lnTo>
                        <a:lnTo>
                          <a:pt x="198" y="455"/>
                        </a:lnTo>
                        <a:lnTo>
                          <a:pt x="210" y="460"/>
                        </a:lnTo>
                        <a:lnTo>
                          <a:pt x="225" y="460"/>
                        </a:lnTo>
                        <a:lnTo>
                          <a:pt x="240" y="460"/>
                        </a:lnTo>
                        <a:lnTo>
                          <a:pt x="253" y="457"/>
                        </a:lnTo>
                        <a:lnTo>
                          <a:pt x="258" y="467"/>
                        </a:lnTo>
                        <a:lnTo>
                          <a:pt x="270" y="452"/>
                        </a:lnTo>
                        <a:lnTo>
                          <a:pt x="278" y="467"/>
                        </a:lnTo>
                        <a:lnTo>
                          <a:pt x="285" y="470"/>
                        </a:lnTo>
                        <a:lnTo>
                          <a:pt x="305" y="472"/>
                        </a:lnTo>
                        <a:lnTo>
                          <a:pt x="315" y="475"/>
                        </a:lnTo>
                        <a:lnTo>
                          <a:pt x="328" y="490"/>
                        </a:lnTo>
                        <a:lnTo>
                          <a:pt x="318" y="497"/>
                        </a:lnTo>
                        <a:lnTo>
                          <a:pt x="295" y="502"/>
                        </a:lnTo>
                        <a:lnTo>
                          <a:pt x="295" y="520"/>
                        </a:lnTo>
                        <a:lnTo>
                          <a:pt x="285" y="530"/>
                        </a:lnTo>
                        <a:lnTo>
                          <a:pt x="275" y="525"/>
                        </a:lnTo>
                        <a:lnTo>
                          <a:pt x="275" y="505"/>
                        </a:lnTo>
                        <a:lnTo>
                          <a:pt x="268" y="497"/>
                        </a:lnTo>
                        <a:lnTo>
                          <a:pt x="235" y="485"/>
                        </a:lnTo>
                        <a:lnTo>
                          <a:pt x="215" y="485"/>
                        </a:lnTo>
                        <a:lnTo>
                          <a:pt x="200" y="472"/>
                        </a:lnTo>
                        <a:lnTo>
                          <a:pt x="193" y="467"/>
                        </a:lnTo>
                        <a:lnTo>
                          <a:pt x="153" y="485"/>
                        </a:lnTo>
                        <a:lnTo>
                          <a:pt x="130" y="477"/>
                        </a:lnTo>
                        <a:lnTo>
                          <a:pt x="105" y="495"/>
                        </a:lnTo>
                        <a:lnTo>
                          <a:pt x="103" y="510"/>
                        </a:lnTo>
                        <a:lnTo>
                          <a:pt x="113" y="525"/>
                        </a:lnTo>
                        <a:lnTo>
                          <a:pt x="120" y="532"/>
                        </a:lnTo>
                        <a:lnTo>
                          <a:pt x="138" y="532"/>
                        </a:lnTo>
                        <a:lnTo>
                          <a:pt x="153" y="535"/>
                        </a:lnTo>
                        <a:lnTo>
                          <a:pt x="150" y="550"/>
                        </a:lnTo>
                        <a:lnTo>
                          <a:pt x="155" y="557"/>
                        </a:lnTo>
                        <a:lnTo>
                          <a:pt x="165" y="567"/>
                        </a:lnTo>
                        <a:lnTo>
                          <a:pt x="170" y="575"/>
                        </a:lnTo>
                        <a:lnTo>
                          <a:pt x="168" y="585"/>
                        </a:lnTo>
                        <a:lnTo>
                          <a:pt x="158" y="600"/>
                        </a:lnTo>
                        <a:lnTo>
                          <a:pt x="153" y="610"/>
                        </a:lnTo>
                        <a:lnTo>
                          <a:pt x="155" y="637"/>
                        </a:lnTo>
                        <a:lnTo>
                          <a:pt x="163" y="657"/>
                        </a:lnTo>
                        <a:lnTo>
                          <a:pt x="183" y="672"/>
                        </a:lnTo>
                        <a:lnTo>
                          <a:pt x="183" y="660"/>
                        </a:lnTo>
                        <a:lnTo>
                          <a:pt x="185" y="647"/>
                        </a:lnTo>
                        <a:lnTo>
                          <a:pt x="200" y="630"/>
                        </a:lnTo>
                        <a:lnTo>
                          <a:pt x="210" y="645"/>
                        </a:lnTo>
                        <a:lnTo>
                          <a:pt x="228" y="682"/>
                        </a:lnTo>
                        <a:lnTo>
                          <a:pt x="233" y="710"/>
                        </a:lnTo>
                        <a:lnTo>
                          <a:pt x="250" y="720"/>
                        </a:lnTo>
                        <a:lnTo>
                          <a:pt x="245" y="695"/>
                        </a:lnTo>
                        <a:lnTo>
                          <a:pt x="250" y="677"/>
                        </a:lnTo>
                        <a:lnTo>
                          <a:pt x="270" y="665"/>
                        </a:lnTo>
                        <a:lnTo>
                          <a:pt x="278" y="667"/>
                        </a:lnTo>
                        <a:lnTo>
                          <a:pt x="280" y="677"/>
                        </a:lnTo>
                        <a:lnTo>
                          <a:pt x="290" y="697"/>
                        </a:lnTo>
                        <a:lnTo>
                          <a:pt x="305" y="712"/>
                        </a:lnTo>
                        <a:lnTo>
                          <a:pt x="315" y="712"/>
                        </a:lnTo>
                        <a:lnTo>
                          <a:pt x="315" y="685"/>
                        </a:lnTo>
                        <a:lnTo>
                          <a:pt x="308" y="672"/>
                        </a:lnTo>
                        <a:lnTo>
                          <a:pt x="308" y="652"/>
                        </a:lnTo>
                        <a:lnTo>
                          <a:pt x="305" y="642"/>
                        </a:lnTo>
                        <a:lnTo>
                          <a:pt x="310" y="630"/>
                        </a:lnTo>
                        <a:lnTo>
                          <a:pt x="280" y="595"/>
                        </a:lnTo>
                        <a:lnTo>
                          <a:pt x="275" y="575"/>
                        </a:lnTo>
                        <a:lnTo>
                          <a:pt x="265" y="572"/>
                        </a:lnTo>
                        <a:lnTo>
                          <a:pt x="270" y="567"/>
                        </a:lnTo>
                        <a:lnTo>
                          <a:pt x="278" y="562"/>
                        </a:lnTo>
                        <a:lnTo>
                          <a:pt x="290" y="560"/>
                        </a:lnTo>
                        <a:lnTo>
                          <a:pt x="300" y="572"/>
                        </a:lnTo>
                        <a:lnTo>
                          <a:pt x="315" y="580"/>
                        </a:lnTo>
                        <a:lnTo>
                          <a:pt x="318" y="592"/>
                        </a:lnTo>
                        <a:lnTo>
                          <a:pt x="325" y="602"/>
                        </a:lnTo>
                        <a:lnTo>
                          <a:pt x="340" y="590"/>
                        </a:lnTo>
                        <a:lnTo>
                          <a:pt x="370" y="587"/>
                        </a:lnTo>
                        <a:lnTo>
                          <a:pt x="370" y="580"/>
                        </a:lnTo>
                        <a:lnTo>
                          <a:pt x="358" y="577"/>
                        </a:lnTo>
                        <a:lnTo>
                          <a:pt x="350" y="570"/>
                        </a:lnTo>
                        <a:lnTo>
                          <a:pt x="350" y="550"/>
                        </a:lnTo>
                        <a:lnTo>
                          <a:pt x="333" y="555"/>
                        </a:lnTo>
                        <a:lnTo>
                          <a:pt x="315" y="550"/>
                        </a:lnTo>
                        <a:lnTo>
                          <a:pt x="310" y="540"/>
                        </a:lnTo>
                        <a:lnTo>
                          <a:pt x="293" y="537"/>
                        </a:lnTo>
                        <a:lnTo>
                          <a:pt x="363" y="505"/>
                        </a:lnTo>
                        <a:lnTo>
                          <a:pt x="375" y="507"/>
                        </a:lnTo>
                        <a:lnTo>
                          <a:pt x="395" y="525"/>
                        </a:lnTo>
                        <a:lnTo>
                          <a:pt x="398" y="537"/>
                        </a:lnTo>
                        <a:lnTo>
                          <a:pt x="410" y="542"/>
                        </a:lnTo>
                        <a:lnTo>
                          <a:pt x="415" y="525"/>
                        </a:lnTo>
                        <a:lnTo>
                          <a:pt x="415" y="485"/>
                        </a:lnTo>
                        <a:lnTo>
                          <a:pt x="430" y="480"/>
                        </a:lnTo>
                        <a:lnTo>
                          <a:pt x="433" y="495"/>
                        </a:lnTo>
                        <a:lnTo>
                          <a:pt x="458" y="505"/>
                        </a:lnTo>
                        <a:lnTo>
                          <a:pt x="473" y="505"/>
                        </a:lnTo>
                        <a:lnTo>
                          <a:pt x="475" y="490"/>
                        </a:lnTo>
                        <a:lnTo>
                          <a:pt x="465" y="490"/>
                        </a:lnTo>
                        <a:lnTo>
                          <a:pt x="455" y="487"/>
                        </a:lnTo>
                        <a:lnTo>
                          <a:pt x="448" y="470"/>
                        </a:lnTo>
                        <a:lnTo>
                          <a:pt x="440" y="467"/>
                        </a:lnTo>
                        <a:lnTo>
                          <a:pt x="440" y="435"/>
                        </a:lnTo>
                        <a:lnTo>
                          <a:pt x="433" y="432"/>
                        </a:lnTo>
                        <a:lnTo>
                          <a:pt x="423" y="442"/>
                        </a:lnTo>
                        <a:lnTo>
                          <a:pt x="398" y="437"/>
                        </a:lnTo>
                        <a:lnTo>
                          <a:pt x="385" y="435"/>
                        </a:lnTo>
                        <a:lnTo>
                          <a:pt x="378" y="425"/>
                        </a:lnTo>
                        <a:lnTo>
                          <a:pt x="365" y="425"/>
                        </a:lnTo>
                        <a:lnTo>
                          <a:pt x="358" y="417"/>
                        </a:lnTo>
                        <a:lnTo>
                          <a:pt x="355" y="417"/>
                        </a:lnTo>
                        <a:lnTo>
                          <a:pt x="355" y="392"/>
                        </a:lnTo>
                        <a:lnTo>
                          <a:pt x="340" y="390"/>
                        </a:lnTo>
                        <a:lnTo>
                          <a:pt x="335" y="375"/>
                        </a:lnTo>
                        <a:lnTo>
                          <a:pt x="320" y="375"/>
                        </a:lnTo>
                        <a:lnTo>
                          <a:pt x="305" y="375"/>
                        </a:lnTo>
                        <a:lnTo>
                          <a:pt x="295" y="367"/>
                        </a:lnTo>
                        <a:lnTo>
                          <a:pt x="298" y="362"/>
                        </a:lnTo>
                        <a:lnTo>
                          <a:pt x="290" y="360"/>
                        </a:lnTo>
                        <a:lnTo>
                          <a:pt x="295" y="355"/>
                        </a:lnTo>
                        <a:lnTo>
                          <a:pt x="308" y="355"/>
                        </a:lnTo>
                        <a:lnTo>
                          <a:pt x="310" y="340"/>
                        </a:lnTo>
                        <a:lnTo>
                          <a:pt x="305" y="335"/>
                        </a:lnTo>
                        <a:lnTo>
                          <a:pt x="293" y="337"/>
                        </a:lnTo>
                        <a:lnTo>
                          <a:pt x="283" y="322"/>
                        </a:lnTo>
                        <a:lnTo>
                          <a:pt x="295" y="315"/>
                        </a:lnTo>
                        <a:lnTo>
                          <a:pt x="305" y="315"/>
                        </a:lnTo>
                        <a:lnTo>
                          <a:pt x="313" y="322"/>
                        </a:lnTo>
                        <a:lnTo>
                          <a:pt x="330" y="335"/>
                        </a:lnTo>
                        <a:lnTo>
                          <a:pt x="330" y="325"/>
                        </a:lnTo>
                        <a:lnTo>
                          <a:pt x="325" y="310"/>
                        </a:lnTo>
                        <a:lnTo>
                          <a:pt x="305" y="295"/>
                        </a:lnTo>
                        <a:lnTo>
                          <a:pt x="298" y="282"/>
                        </a:lnTo>
                        <a:lnTo>
                          <a:pt x="283" y="260"/>
                        </a:lnTo>
                        <a:lnTo>
                          <a:pt x="268" y="245"/>
                        </a:lnTo>
                        <a:lnTo>
                          <a:pt x="268" y="222"/>
                        </a:lnTo>
                        <a:lnTo>
                          <a:pt x="265" y="197"/>
                        </a:lnTo>
                        <a:lnTo>
                          <a:pt x="270" y="182"/>
                        </a:lnTo>
                        <a:lnTo>
                          <a:pt x="275" y="162"/>
                        </a:lnTo>
                        <a:lnTo>
                          <a:pt x="283" y="160"/>
                        </a:lnTo>
                        <a:lnTo>
                          <a:pt x="295" y="150"/>
                        </a:lnTo>
                        <a:lnTo>
                          <a:pt x="300" y="157"/>
                        </a:lnTo>
                        <a:lnTo>
                          <a:pt x="290" y="175"/>
                        </a:lnTo>
                        <a:lnTo>
                          <a:pt x="308" y="190"/>
                        </a:lnTo>
                        <a:lnTo>
                          <a:pt x="323" y="197"/>
                        </a:lnTo>
                        <a:lnTo>
                          <a:pt x="333" y="202"/>
                        </a:lnTo>
                        <a:lnTo>
                          <a:pt x="353" y="205"/>
                        </a:lnTo>
                        <a:lnTo>
                          <a:pt x="368" y="210"/>
                        </a:lnTo>
                        <a:lnTo>
                          <a:pt x="385" y="200"/>
                        </a:lnTo>
                        <a:lnTo>
                          <a:pt x="393" y="200"/>
                        </a:lnTo>
                        <a:lnTo>
                          <a:pt x="395" y="190"/>
                        </a:lnTo>
                        <a:lnTo>
                          <a:pt x="395" y="177"/>
                        </a:lnTo>
                        <a:lnTo>
                          <a:pt x="398" y="165"/>
                        </a:lnTo>
                        <a:lnTo>
                          <a:pt x="393" y="157"/>
                        </a:lnTo>
                        <a:lnTo>
                          <a:pt x="380" y="150"/>
                        </a:lnTo>
                        <a:lnTo>
                          <a:pt x="375" y="142"/>
                        </a:lnTo>
                        <a:lnTo>
                          <a:pt x="385" y="135"/>
                        </a:lnTo>
                        <a:lnTo>
                          <a:pt x="393" y="137"/>
                        </a:lnTo>
                        <a:lnTo>
                          <a:pt x="410" y="145"/>
                        </a:lnTo>
                        <a:lnTo>
                          <a:pt x="423" y="137"/>
                        </a:lnTo>
                        <a:lnTo>
                          <a:pt x="440" y="127"/>
                        </a:lnTo>
                        <a:lnTo>
                          <a:pt x="465" y="115"/>
                        </a:lnTo>
                        <a:lnTo>
                          <a:pt x="485" y="127"/>
                        </a:lnTo>
                        <a:lnTo>
                          <a:pt x="500" y="120"/>
                        </a:lnTo>
                        <a:lnTo>
                          <a:pt x="508" y="112"/>
                        </a:lnTo>
                        <a:lnTo>
                          <a:pt x="515" y="102"/>
                        </a:lnTo>
                        <a:lnTo>
                          <a:pt x="528" y="110"/>
                        </a:lnTo>
                        <a:lnTo>
                          <a:pt x="553" y="120"/>
                        </a:lnTo>
                        <a:lnTo>
                          <a:pt x="565" y="120"/>
                        </a:lnTo>
                        <a:lnTo>
                          <a:pt x="588" y="120"/>
                        </a:lnTo>
                        <a:lnTo>
                          <a:pt x="603" y="122"/>
                        </a:lnTo>
                        <a:lnTo>
                          <a:pt x="625" y="135"/>
                        </a:lnTo>
                        <a:lnTo>
                          <a:pt x="640" y="110"/>
                        </a:lnTo>
                        <a:lnTo>
                          <a:pt x="638" y="85"/>
                        </a:lnTo>
                        <a:lnTo>
                          <a:pt x="650" y="77"/>
                        </a:lnTo>
                        <a:lnTo>
                          <a:pt x="660" y="65"/>
                        </a:lnTo>
                        <a:lnTo>
                          <a:pt x="665" y="55"/>
                        </a:lnTo>
                        <a:lnTo>
                          <a:pt x="675" y="42"/>
                        </a:lnTo>
                        <a:lnTo>
                          <a:pt x="675" y="27"/>
                        </a:lnTo>
                        <a:lnTo>
                          <a:pt x="670" y="20"/>
                        </a:lnTo>
                        <a:lnTo>
                          <a:pt x="650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6652800" y="5482440"/>
                    <a:ext cx="31284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340" h="105">
                        <a:moveTo>
                          <a:pt x="43" y="0"/>
                        </a:moveTo>
                        <a:lnTo>
                          <a:pt x="30" y="13"/>
                        </a:lnTo>
                        <a:lnTo>
                          <a:pt x="15" y="20"/>
                        </a:lnTo>
                        <a:lnTo>
                          <a:pt x="23" y="25"/>
                        </a:lnTo>
                        <a:lnTo>
                          <a:pt x="13" y="45"/>
                        </a:lnTo>
                        <a:lnTo>
                          <a:pt x="13" y="50"/>
                        </a:lnTo>
                        <a:lnTo>
                          <a:pt x="0" y="50"/>
                        </a:lnTo>
                        <a:lnTo>
                          <a:pt x="8" y="60"/>
                        </a:lnTo>
                        <a:lnTo>
                          <a:pt x="85" y="60"/>
                        </a:lnTo>
                        <a:lnTo>
                          <a:pt x="123" y="73"/>
                        </a:lnTo>
                        <a:lnTo>
                          <a:pt x="168" y="95"/>
                        </a:lnTo>
                        <a:lnTo>
                          <a:pt x="213" y="105"/>
                        </a:lnTo>
                        <a:lnTo>
                          <a:pt x="265" y="80"/>
                        </a:lnTo>
                        <a:lnTo>
                          <a:pt x="303" y="70"/>
                        </a:lnTo>
                        <a:lnTo>
                          <a:pt x="308" y="63"/>
                        </a:lnTo>
                        <a:lnTo>
                          <a:pt x="333" y="63"/>
                        </a:lnTo>
                        <a:lnTo>
                          <a:pt x="340" y="50"/>
                        </a:lnTo>
                        <a:lnTo>
                          <a:pt x="315" y="55"/>
                        </a:lnTo>
                        <a:lnTo>
                          <a:pt x="298" y="55"/>
                        </a:lnTo>
                        <a:lnTo>
                          <a:pt x="285" y="60"/>
                        </a:lnTo>
                        <a:lnTo>
                          <a:pt x="278" y="50"/>
                        </a:lnTo>
                        <a:lnTo>
                          <a:pt x="270" y="45"/>
                        </a:lnTo>
                        <a:lnTo>
                          <a:pt x="253" y="40"/>
                        </a:lnTo>
                        <a:lnTo>
                          <a:pt x="243" y="45"/>
                        </a:lnTo>
                        <a:lnTo>
                          <a:pt x="220" y="45"/>
                        </a:lnTo>
                        <a:lnTo>
                          <a:pt x="210" y="65"/>
                        </a:lnTo>
                        <a:lnTo>
                          <a:pt x="195" y="63"/>
                        </a:lnTo>
                        <a:lnTo>
                          <a:pt x="185" y="48"/>
                        </a:lnTo>
                        <a:lnTo>
                          <a:pt x="173" y="40"/>
                        </a:lnTo>
                        <a:lnTo>
                          <a:pt x="160" y="33"/>
                        </a:lnTo>
                        <a:lnTo>
                          <a:pt x="148" y="35"/>
                        </a:lnTo>
                        <a:lnTo>
                          <a:pt x="140" y="40"/>
                        </a:lnTo>
                        <a:lnTo>
                          <a:pt x="128" y="40"/>
                        </a:lnTo>
                        <a:lnTo>
                          <a:pt x="105" y="45"/>
                        </a:lnTo>
                        <a:lnTo>
                          <a:pt x="105" y="30"/>
                        </a:lnTo>
                        <a:lnTo>
                          <a:pt x="88" y="20"/>
                        </a:lnTo>
                        <a:lnTo>
                          <a:pt x="60" y="20"/>
                        </a:lnTo>
                        <a:lnTo>
                          <a:pt x="43" y="0"/>
                        </a:lnTo>
                        <a:close/>
                      </a:path>
                    </a:pathLst>
                  </a:custGeom>
                  <a:solidFill>
                    <a:srgbClr val="9933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" name=""/>
                <p:cNvSpPr/>
                <p:nvPr/>
              </p:nvSpPr>
              <p:spPr>
                <a:xfrm flipH="1" flipV="1">
                  <a:off x="2895480" y="2819160"/>
                  <a:ext cx="182880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0" y="5334120"/>
                <a:ext cx="2743200" cy="15001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7520" bIns="47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99"/>
                    </a:solidFill>
                    <a:latin typeface="Verdana"/>
                  </a:rPr>
                  <a:t>Programme based: Focus on the controlled implementation of  school 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99"/>
                    </a:solidFill>
                    <a:latin typeface="Verdana"/>
                  </a:rPr>
                  <a:t>programme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76720" y="5378400"/>
                <a:ext cx="2819160" cy="1479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7520" bIns="47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ff99"/>
                    </a:solidFill>
                    <a:latin typeface="Verdana"/>
                  </a:rPr>
                  <a:t>Mixed approach: Financing local services with additional implementation of some programmes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78720" y="5334120"/>
                <a:ext cx="2465280" cy="1523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5680" rIns="85680" tIns="47520" bIns="4752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Service-center based: By financing local services or institutions to deliver prevention ad hoc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I.) 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Prevent</a:t>
            </a: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i</a:t>
            </a:r>
            <a:r>
              <a:rPr b="0" lang="en-GB" sz="3000" spc="-1" strike="noStrike">
                <a:solidFill>
                  <a:srgbClr val="ffcc00"/>
                </a:solidFill>
                <a:latin typeface="Arial"/>
              </a:rPr>
              <a:t>on delivery</a:t>
            </a:r>
            <a:r>
              <a:rPr b="0" lang="de-DE" sz="3000" spc="-1" strike="noStrike">
                <a:solidFill>
                  <a:srgbClr val="ffcc00"/>
                </a:solidFill>
                <a:latin typeface="Arial"/>
              </a:rPr>
              <a:t> in schools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1856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cc00"/>
                </a:solidFill>
                <a:latin typeface="Arial"/>
                <a:ea typeface="Times New Roman"/>
              </a:rPr>
              <a:t>Policy choices in</a:t>
            </a:r>
            <a:r>
              <a:rPr b="0" lang="en-GB" sz="2600" spc="-1" strike="noStrike">
                <a:solidFill>
                  <a:srgbClr val="ffcc00"/>
                </a:solidFill>
                <a:latin typeface="Arial"/>
                <a:ea typeface="Times New Roman"/>
              </a:rPr>
              <a:t> school prevention 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838080"/>
            <a:ext cx="2666880" cy="3429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chool polic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mulating e.g. rules and norms about drug-taking in schools. May specify prevention activities: UK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838080"/>
            <a:ext cx="3124440" cy="3429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tegrated preven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a set of interventions intending to include prevention-relevant topics into all activities of daily school life, e.g. school policies plus the 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flexible</a:t>
            </a: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 integration of drug-related issues into different class-room less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838080"/>
            <a:ext cx="3352680" cy="3429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urricular interventions -  prevention </a:t>
            </a: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program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99"/>
                </a:solidFill>
                <a:latin typeface="Times New Roman"/>
              </a:rPr>
              <a:t>formal class-room based programmes with defined sessions, topics and materials, i.e. a fix and stable inclusion of prevention into the teaching sylla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-720" y="4267080"/>
            <a:ext cx="8381880" cy="259092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5029200"/>
            <a:ext cx="45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qual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surance and evalu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f contents and delivery</a:t>
            </a:r>
            <a:r>
              <a:rPr b="1" lang="en-GB" sz="2400" spc="-1" strike="noStrike">
                <a:solidFill>
                  <a:srgbClr val="ffffff"/>
                </a:solidFill>
                <a:latin typeface="BernhardMod BT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0016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25560"/>
          <a:ext cx="8763120" cy="67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8763120" cy="67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86080" y="114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-228600" y="-119160"/>
          <a:ext cx="9677520" cy="71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-119160"/>
                    <a:ext cx="9677520" cy="71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8153280" y="5257800"/>
            <a:ext cx="990720" cy="1295280"/>
            <a:chOff x="8153280" y="5257800"/>
            <a:chExt cx="990720" cy="1295280"/>
          </a:xfrm>
        </p:grpSpPr>
        <p:sp>
          <p:nvSpPr>
            <p:cNvPr id="192" name=""/>
            <p:cNvSpPr/>
            <p:nvPr/>
          </p:nvSpPr>
          <p:spPr>
            <a:xfrm>
              <a:off x="8153280" y="5334120"/>
              <a:ext cx="990720" cy="1218960"/>
            </a:xfrm>
            <a:prstGeom prst="wedgeEllipseCallout">
              <a:avLst>
                <a:gd name="adj1" fmla="val 40064"/>
                <a:gd name="adj2" fmla="val -14036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6000" spc="-1" strike="noStrike">
                  <a:solidFill>
                    <a:srgbClr val="ff3300"/>
                  </a:solidFill>
                  <a:latin typeface="Times New Roman"/>
                </a:rPr>
                <a:t>!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53280" y="5257800"/>
              <a:ext cx="990720" cy="1295280"/>
            </a:xfrm>
            <a:prstGeom prst="wedgeEllipseCallout">
              <a:avLst>
                <a:gd name="adj1" fmla="val 10736"/>
                <a:gd name="adj2" fmla="val -13026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5400" spc="-1" strike="noStrike">
                  <a:solidFill>
                    <a:srgbClr val="ff3300"/>
                  </a:solidFill>
                  <a:latin typeface="Times New Roman"/>
                </a:rPr>
                <a:t>!?</a:t>
              </a:r>
              <a:endParaRPr b="0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9056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59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9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79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81944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0"/>
          <a:ext cx="9144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1:40:08Z</dcterms:created>
  <dc:creator>Gregor Burkhart</dc:creator>
  <dc:description>Developed by Operandi</dc:description>
  <dc:language>en-US</dc:language>
  <cp:lastModifiedBy>Gregor Burkhart</cp:lastModifiedBy>
  <dcterms:modified xsi:type="dcterms:W3CDTF">2003-10-28T10:23:26Z</dcterms:modified>
  <cp:revision>44</cp:revision>
  <dc:subject/>
  <dc:title>Prevention with risk groups</dc:title>
</cp:coreProperties>
</file>