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3D57-8EA1-4824-875D-674E1A335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B8FF-543A-4FBB-A6A4-4B8D33E4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0A29-2014-4E44-AE8C-64661BD84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E4D6-D881-4C1C-AD67-BAF465D9FB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717E-CD0C-48CD-83D9-80BC8A45B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2624-0777-448C-B7BB-1CB9046A4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C365-BE8F-471E-A07B-20F6B4DBC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ABCA-CBD5-400C-ACB6-5D216D053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A363-6FED-4FD4-99A8-DF160A825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1E1B-EA26-43C7-BBF4-9ED0BE2D4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E0B7-F0CC-4B13-9904-CDC15A314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FB02-222A-4B81-901F-2F49C6560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58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G. Serpellon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1295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4542-0769-4947-8405-0E55F9EB2CF7}" type="slidenum">
              <a:rPr b="1" lang="en-US" sz="2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426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il Dipartimento </a:t>
            </a:r>
            <a:br>
              <a:rPr sz="72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delle Dipendenze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7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oma 9 giugno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sidenza Consiglio dei Ministri - Palazzo Chi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Giovanni Serpello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08560" y="533520"/>
            <a:ext cx="3926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zi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 sistemi assistenzial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EF1B-E31C-44CC-917B-4EB5632EBD0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empio della costruzione di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65440"/>
            <a:ext cx="391788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rietario sing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ole famigli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to di vista unico (salvo mogl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ti specif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765440"/>
            <a:ext cx="391644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DOMI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ulti proprie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golamanto di condominio (punti di vista diver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nti compless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à Organiz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33000" y="541008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095880" y="5410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101448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E6E0-4800-47E2-B7E5-711EA546DEA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3 aspetti principali da definire, formalizzare e condivider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2155320"/>
            <a:ext cx="29116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ION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mento strategico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zione della patologia e del fenomeno da prevenire e trattare (fattori determinan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zioni di politica sani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5760" y="2155320"/>
            <a:ext cx="29098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elle responsabi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unzio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dipenden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i budget (Obiettivi &amp; Riso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7800" y="2152800"/>
            <a:ext cx="2909880" cy="46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6920" indent="-18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7 processi princip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itoraggio e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delle urg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patologie corre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fer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iss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e guida e protoco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 di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754280"/>
            <a:ext cx="3812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6A83-D9BF-40E7-A17C-F155A976EEC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1880" y="3032280"/>
            <a:ext cx="83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E8D7-0B01-4EDD-9028-ADF9A77D3A2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029200"/>
            <a:ext cx="914400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"/>
            <a:ext cx="914400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3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3856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>
            <a:off x="1369800" y="62449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0" idx="3"/>
            <a:endCxn id="121" idx="1"/>
          </p:cNvCxnSpPr>
          <p:nvPr/>
        </p:nvCxnSpPr>
        <p:spPr>
          <a:xfrm>
            <a:off x="29016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74336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44064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24852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6" idx="1"/>
          </p:cNvCxnSpPr>
          <p:nvPr/>
        </p:nvCxnSpPr>
        <p:spPr>
          <a:xfrm>
            <a:off x="591156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772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8" idx="1"/>
          </p:cNvCxnSpPr>
          <p:nvPr/>
        </p:nvCxnSpPr>
        <p:spPr>
          <a:xfrm>
            <a:off x="7416720" y="62449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8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pzioni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mary Heal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4780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ssistenza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dizion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529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rmacolog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po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al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>
            <a:off x="1384200" y="384444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3" idx="1"/>
          </p:cNvCxnSpPr>
          <p:nvPr/>
        </p:nvCxnSpPr>
        <p:spPr>
          <a:xfrm>
            <a:off x="29160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577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6" idx="1"/>
          </p:cNvCxnSpPr>
          <p:nvPr/>
        </p:nvCxnSpPr>
        <p:spPr>
          <a:xfrm>
            <a:off x="44208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26256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 conteni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8" idx="1"/>
          </p:cNvCxnSpPr>
          <p:nvPr/>
        </p:nvCxnSpPr>
        <p:spPr>
          <a:xfrm>
            <a:off x="59256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7868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gramm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40" idx="1"/>
          </p:cNvCxnSpPr>
          <p:nvPr/>
        </p:nvCxnSpPr>
        <p:spPr>
          <a:xfrm>
            <a:off x="7431120" y="384444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086280" y="3848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even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overdo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ime 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0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556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ind. Astin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at. Interni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esiderio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mettere“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>
            <a:off x="1396800" y="15235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5" idx="1"/>
          </p:cNvCxnSpPr>
          <p:nvPr/>
        </p:nvCxnSpPr>
        <p:spPr>
          <a:xfrm>
            <a:off x="29286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77036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8" idx="1"/>
          </p:cNvCxnSpPr>
          <p:nvPr/>
        </p:nvCxnSpPr>
        <p:spPr>
          <a:xfrm>
            <a:off x="44334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7552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50" idx="1"/>
          </p:cNvCxnSpPr>
          <p:nvPr/>
        </p:nvCxnSpPr>
        <p:spPr>
          <a:xfrm>
            <a:off x="593856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232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084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508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0848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99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2160" y="75240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0" idx="3"/>
            <a:endCxn id="157" idx="1"/>
          </p:cNvCxnSpPr>
          <p:nvPr/>
        </p:nvCxnSpPr>
        <p:spPr>
          <a:xfrm>
            <a:off x="7443720" y="15235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3111480" y="152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6320" y="213372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77880" y="75096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" y="2590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ultiOff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00" y="21924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6320" y="5257800"/>
            <a:ext cx="173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45788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257800"/>
            <a:ext cx="4952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dici di Medicina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0080" y="48769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B809-7313-4D48-BE8C-C3760BE27039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costituita da varie unità operative con forti interdipendenze tecnico-funzionali che perseguono, in maniera coordinata,  finalità co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to da regole chiare, formali, condivise e conosciute dai partecip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può definire in diverse tipolog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– coordinamento tecnico funzionale, non gerarchizz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– gerarchizzante, gestione delle risorse centralizzata con allocazione sulle U.O. di tipo budget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– funzionale nei confronti delle U.O. extraaziendale e Strutturale VS U.O. intraaziend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137B-4BF6-42A7-903B-6C3016E27095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CONSIGL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VS U.O. extraazien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VS U.O. intra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3E98-5641-40D0-9196-EB273654A35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delle dipenden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tità nosografica auton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inglobato in altre realtà organizzative (es. dip. Psichia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ggior speci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sabilità chi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corsi di carriera non intersec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ordinato con distretti e altri dipart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6502-532A-4C4E-A980-D056E52BE14B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258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6 Finalità principali de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 allineare le U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 i processi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 e Tr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ment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accessibilità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tempestività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46640" y="1666800"/>
            <a:ext cx="266724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1440" y="341964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ar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imizz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p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5960" y="3419640"/>
            <a:ext cx="266688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rantir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qualità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t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dei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36760" y="514836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re in 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rtato le 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l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7F16-5E50-4DEC-86A5-0FD9AD27C78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3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856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>
            <a:off x="1369800" y="17143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1"/>
          </p:cNvCxnSpPr>
          <p:nvPr/>
        </p:nvCxnSpPr>
        <p:spPr>
          <a:xfrm>
            <a:off x="29016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74336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3"/>
            <a:endCxn id="191" idx="1"/>
          </p:cNvCxnSpPr>
          <p:nvPr/>
        </p:nvCxnSpPr>
        <p:spPr>
          <a:xfrm>
            <a:off x="44064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4852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1" idx="3"/>
            <a:endCxn id="193" idx="1"/>
          </p:cNvCxnSpPr>
          <p:nvPr/>
        </p:nvCxnSpPr>
        <p:spPr>
          <a:xfrm>
            <a:off x="591156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7772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5" idx="1"/>
          </p:cNvCxnSpPr>
          <p:nvPr/>
        </p:nvCxnSpPr>
        <p:spPr>
          <a:xfrm>
            <a:off x="7416720" y="17143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133720" y="2327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1717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7400" y="42552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343400" y="-102564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16200" y="10761"/>
                  <a:pt x="21600" y="10761"/>
                </a:cubicBezTo>
                <a:cubicBezTo>
                  <a:pt x="162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774960"/>
            <a:ext cx="228600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6720" y="3971880"/>
            <a:ext cx="82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RARC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PONS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CESSITA’ DI CONCER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CC88-99E1-4842-8DEC-B81AE030BEC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Aree di concertazione e defini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3860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st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8156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444760"/>
            <a:ext cx="0" cy="328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244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308772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740040"/>
            <a:ext cx="708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25840"/>
            <a:ext cx="71010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11640"/>
            <a:ext cx="7086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1337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" y="2903400"/>
            <a:ext cx="1451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Pronta acc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560" y="3546360"/>
            <a:ext cx="13100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ert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20" y="4232160"/>
            <a:ext cx="1429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unità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40" y="4917960"/>
            <a:ext cx="15692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ins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46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76560" y="2384280"/>
            <a:ext cx="304920" cy="6858000"/>
          </a:xfrm>
          <a:custGeom>
            <a:avLst/>
            <a:gdLst>
              <a:gd name="textAreaLeft" fmla="*/ 0 w 304920"/>
              <a:gd name="textAreaRight" fmla="*/ 110160 w 304920"/>
              <a:gd name="textAreaTop" fmla="*/ 178560 h 6858000"/>
              <a:gd name="textAreaBottom" fmla="*/ 667944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5053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191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8526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8769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88280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Criteridiagnost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18448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87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dic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184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u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270080"/>
            <a:ext cx="152424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nanz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1879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ità e qu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2176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sabil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44944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286380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3516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2022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4888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720" y="5838840"/>
            <a:ext cx="1364760" cy="946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stema d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sponsabi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se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ganizz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685440" y="480708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1879560"/>
            <a:ext cx="13716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81360"/>
            <a:ext cx="1447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9B4E-82B1-4DE1-8302-D154D7568A3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reditamento: principi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artimento delle Dipendenze e rapporti con il Distre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7B19-64AA-40D9-AE43-32BBBB2EFFE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ziazione degli ambienti di erogazione e dei processi assisten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4648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nnabi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xst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o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892600"/>
            <a:ext cx="12600" cy="343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520960" y="2901960"/>
            <a:ext cx="11160" cy="35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80400" y="290196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32160" y="3349440"/>
            <a:ext cx="53416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2160" y="4341960"/>
            <a:ext cx="53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432160" y="5297400"/>
            <a:ext cx="53416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32160" y="6296040"/>
            <a:ext cx="533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538360"/>
            <a:ext cx="12193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84160" y="3171960"/>
            <a:ext cx="1433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3080" y="4148280"/>
            <a:ext cx="14151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08560" y="5111640"/>
            <a:ext cx="1557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xsperien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1920" y="6108840"/>
            <a:ext cx="165888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madrebam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1800" y="4113360"/>
            <a:ext cx="457200" cy="1417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17320"/>
              <a:gd name="textAreaBottom" fmla="*/ 1395000 h 1417320"/>
            </a:gdLst>
            <a:ahLst/>
            <a:rect l="textAreaLeft" t="textAreaTop" r="textAreaRight" b="textAreaBottom"/>
            <a:pathLst>
              <a:path w="21600" h="66924">
                <a:moveTo>
                  <a:pt x="3600" y="0"/>
                </a:moveTo>
                <a:arcTo wR="3600" hR="3600" stAng="16200000" swAng="-5400000"/>
                <a:lnTo>
                  <a:pt x="0" y="63324"/>
                </a:lnTo>
                <a:arcTo wR="3600" hR="3600" stAng="10800000" swAng="-5400000"/>
                <a:lnTo>
                  <a:pt x="18000" y="66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7680" y="3127320"/>
            <a:ext cx="2003400" cy="1443240"/>
            <a:chOff x="3757680" y="3127320"/>
            <a:chExt cx="2003400" cy="1443240"/>
          </a:xfrm>
        </p:grpSpPr>
        <p:sp>
          <p:nvSpPr>
            <p:cNvPr id="280" name=""/>
            <p:cNvSpPr/>
            <p:nvPr/>
          </p:nvSpPr>
          <p:spPr>
            <a:xfrm>
              <a:off x="3760920" y="312732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7680" y="314172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751800" y="31212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51800" y="60674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1522440"/>
            <a:ext cx="1447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stanz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65240" y="4068360"/>
            <a:ext cx="2003400" cy="1443240"/>
            <a:chOff x="3765240" y="4068360"/>
            <a:chExt cx="2003400" cy="1443240"/>
          </a:xfrm>
        </p:grpSpPr>
        <p:sp>
          <p:nvSpPr>
            <p:cNvPr id="286" name=""/>
            <p:cNvSpPr/>
            <p:nvPr/>
          </p:nvSpPr>
          <p:spPr>
            <a:xfrm flipH="1" flipV="1">
              <a:off x="3765240" y="505440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5311440" y="406800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03760" y="6095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5450040" y="-304560"/>
            <a:ext cx="149040" cy="4648320"/>
          </a:xfrm>
          <a:custGeom>
            <a:avLst/>
            <a:gdLst>
              <a:gd name="textAreaLeft" fmla="*/ 0 w 149040"/>
              <a:gd name="textAreaRight" fmla="*/ 53640 w 1490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4B45-0E67-4326-BBC3-2F8AEA71DDA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struttura organizzativa diparti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66680" y="1143000"/>
            <a:ext cx="8001000" cy="5676480"/>
            <a:chOff x="1066680" y="1143000"/>
            <a:chExt cx="8001000" cy="5676480"/>
          </a:xfrm>
        </p:grpSpPr>
        <p:grpSp>
          <p:nvGrpSpPr>
            <p:cNvPr id="292" name=""/>
            <p:cNvGrpSpPr/>
            <p:nvPr/>
          </p:nvGrpSpPr>
          <p:grpSpPr>
            <a:xfrm>
              <a:off x="1066680" y="1143000"/>
              <a:ext cx="8001000" cy="1523880"/>
              <a:chOff x="1066680" y="1143000"/>
              <a:chExt cx="8001000" cy="15238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1066680" y="1143000"/>
                <a:ext cx="6705720" cy="1523880"/>
                <a:chOff x="1066680" y="1143000"/>
                <a:chExt cx="6705720" cy="1523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6680" y="1143000"/>
                  <a:ext cx="6705720" cy="15238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038480" y="129528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Gener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19920" y="160020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Sanita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57400" y="163512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Tahoma"/>
                    </a:rPr>
                    <a:t>Direzione Serv. Social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66680" y="1143000"/>
                  <a:ext cx="221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PROGRAMMAZIONE STRATEG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57600" y="17524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38680" y="17524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7772400" y="1219320"/>
                <a:ext cx="12952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llineamento con gli obiettivi Regional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066680" y="2819520"/>
              <a:ext cx="7848720" cy="1828800"/>
              <a:chOff x="1066680" y="2819520"/>
              <a:chExt cx="7848720" cy="1828800"/>
            </a:xfrm>
          </p:grpSpPr>
          <p:sp>
            <p:nvSpPr>
              <p:cNvPr id="303" name=""/>
              <p:cNvSpPr/>
              <p:nvPr/>
            </p:nvSpPr>
            <p:spPr>
              <a:xfrm>
                <a:off x="1066680" y="2819520"/>
                <a:ext cx="5181840" cy="182880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57600" y="36576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Oper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124080"/>
                <a:ext cx="0" cy="533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520" y="3657600"/>
                <a:ext cx="266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specialistiche TD  con attività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66680" y="2835360"/>
                <a:ext cx="221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PROGRAMMAZIONE OPERATIVA  E COORDIN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066680" y="4419720"/>
              <a:ext cx="7925040" cy="1590840"/>
              <a:chOff x="1066680" y="4419720"/>
              <a:chExt cx="7925040" cy="1590840"/>
            </a:xfrm>
          </p:grpSpPr>
          <p:sp>
            <p:nvSpPr>
              <p:cNvPr id="309" name=""/>
              <p:cNvSpPr/>
              <p:nvPr/>
            </p:nvSpPr>
            <p:spPr>
              <a:xfrm>
                <a:off x="1066680" y="4724280"/>
                <a:ext cx="5181840" cy="121932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0022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Allarga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4419720"/>
                <a:ext cx="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24480" y="4952880"/>
                <a:ext cx="266724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non specialistiche o   con attività non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olontaria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6680" y="4740120"/>
                <a:ext cx="221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CONSULTAZIONE E CONCERT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66880" y="5791320"/>
              <a:ext cx="4419720" cy="1028160"/>
              <a:chOff x="2666880" y="5791320"/>
              <a:chExt cx="4419720" cy="1028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6880" y="6176880"/>
                <a:ext cx="4419720" cy="642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79132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19520" y="2286000"/>
              <a:ext cx="5790960" cy="840600"/>
              <a:chOff x="2819520" y="2286000"/>
              <a:chExt cx="5790960" cy="8406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819520" y="2286000"/>
                <a:ext cx="4038480" cy="829800"/>
                <a:chOff x="2819520" y="2286000"/>
                <a:chExt cx="4038480" cy="829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657600" y="2473200"/>
                  <a:ext cx="2362320" cy="6426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Ufficio di Direzione   e Coordinamen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1952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5800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195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324480" y="281952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ret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9292-6A87-4819-80FE-BBB74157E909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i Compone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4920" y="1371600"/>
            <a:ext cx="8305560" cy="5617800"/>
            <a:chOff x="304920" y="1371600"/>
            <a:chExt cx="8305560" cy="5617800"/>
          </a:xfrm>
        </p:grpSpPr>
        <p:grpSp>
          <p:nvGrpSpPr>
            <p:cNvPr id="327" name=""/>
            <p:cNvGrpSpPr/>
            <p:nvPr/>
          </p:nvGrpSpPr>
          <p:grpSpPr>
            <a:xfrm>
              <a:off x="457200" y="1371600"/>
              <a:ext cx="8152920" cy="2216160"/>
              <a:chOff x="457200" y="1371600"/>
              <a:chExt cx="8152920" cy="2216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495680" y="2597040"/>
                <a:ext cx="0" cy="990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57200" y="1371600"/>
                <a:ext cx="8152920" cy="1380600"/>
                <a:chOff x="457200" y="1371600"/>
                <a:chExt cx="8152920" cy="1380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352680" y="1758960"/>
                  <a:ext cx="2361600" cy="825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Comitato Operativ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Ser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57200" y="22827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Alcologi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4816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ffffff"/>
                      </a:solidFill>
                      <a:latin typeface="Tahoma"/>
                    </a:rPr>
                    <a:t>Comunità Ter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48160" y="229248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Enti local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16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464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1464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1916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124080" y="1371600"/>
                  <a:ext cx="1066320" cy="33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 livel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304920" y="4425840"/>
              <a:ext cx="8305560" cy="2563560"/>
              <a:chOff x="304920" y="4425840"/>
              <a:chExt cx="8305560" cy="2563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352680" y="5432400"/>
                <a:ext cx="2361600" cy="155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6840" y="54165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Prefettura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6840" y="593424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Tribunale - CSSA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48160" y="542592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arcere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48160" y="595008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Forze dell’Ordine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5680" y="4425840"/>
                <a:ext cx="0" cy="99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1916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464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9160" y="61023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4640" y="61786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24080" y="50292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II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920" y="4876920"/>
                <a:ext cx="83055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57200" y="3200400"/>
              <a:ext cx="8152920" cy="1395720"/>
              <a:chOff x="457200" y="3200400"/>
              <a:chExt cx="8152920" cy="1395720"/>
            </a:xfrm>
          </p:grpSpPr>
          <p:sp>
            <p:nvSpPr>
              <p:cNvPr id="354" name=""/>
              <p:cNvSpPr/>
              <p:nvPr/>
            </p:nvSpPr>
            <p:spPr>
              <a:xfrm>
                <a:off x="3352680" y="3594240"/>
                <a:ext cx="2361600" cy="825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omitato Allarga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7200" y="3587760"/>
                <a:ext cx="2361960" cy="1008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spedale: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reparti               unità di emergen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160" y="35877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Scuo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1464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1916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24080" y="32004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I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48160" y="4114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Volontari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14640" y="42670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9A24-C67A-48E2-9C7F-A711955780E3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0880" y="1940040"/>
          <a:ext cx="8382240" cy="4824360"/>
        </p:xfrm>
        <a:graphic>
          <a:graphicData uri="http://schemas.openxmlformats.org/drawingml/2006/table">
            <a:tbl>
              <a:tblPr/>
              <a:tblGrid>
                <a:gridCol w="2887920"/>
                <a:gridCol w="549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iti princip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4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tà terapeu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. di Alcolo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…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concertata delle attività territoriali nelle aree: prevenzione, cura e riabilit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sura del piano di intervento loc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 dell’uso delle ris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delle attività di formazione perma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D8F7-1469-43AE-9B38-471B262A53B7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tre Component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 Comitato allarga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1752480"/>
            <a:ext cx="8153280" cy="4703040"/>
            <a:chOff x="533520" y="1752480"/>
            <a:chExt cx="8153280" cy="4703040"/>
          </a:xfrm>
        </p:grpSpPr>
        <p:sp>
          <p:nvSpPr>
            <p:cNvPr id="366" name=""/>
            <p:cNvSpPr/>
            <p:nvPr/>
          </p:nvSpPr>
          <p:spPr>
            <a:xfrm>
              <a:off x="3429000" y="2146320"/>
              <a:ext cx="236232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mitato Allarga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139840"/>
              <a:ext cx="2361960" cy="1008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Ospedale:  </a:t>
              </a:r>
              <a:r>
                <a:rPr b="0" lang="en-US" sz="1800" spc="-1" strike="noStrike">
                  <a:solidFill>
                    <a:srgbClr val="dddddd"/>
                  </a:solidFill>
                  <a:latin typeface="Tahoma"/>
                </a:rPr>
                <a:t>reparti            pronto soc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213984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Scu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1320" y="25210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95480" y="25210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0400" y="1752480"/>
              <a:ext cx="10666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I live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266688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Volontari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143000" y="2819520"/>
              <a:ext cx="6933960" cy="3636000"/>
              <a:chOff x="1143000" y="2819520"/>
              <a:chExt cx="6933960" cy="3636000"/>
            </a:xfrm>
          </p:grpSpPr>
          <p:sp>
            <p:nvSpPr>
              <p:cNvPr id="374" name=""/>
              <p:cNvSpPr/>
              <p:nvPr/>
            </p:nvSpPr>
            <p:spPr>
              <a:xfrm>
                <a:off x="5790960" y="28195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15000" y="36036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15000" y="4289400"/>
                <a:ext cx="2361960" cy="8254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Dip. Salute Ment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43000" y="3613320"/>
                <a:ext cx="2361960" cy="764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ahoma"/>
                  </a:rPr>
                  <a:t>Ordine dei Medic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43000" y="5264280"/>
                <a:ext cx="2361960" cy="11912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Uff. educazione alla salu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38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0496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0496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8148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8148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81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3000" y="4334040"/>
                <a:ext cx="2361960" cy="10695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dici di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Medicina Gener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15000" y="5257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             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496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AB97-A9A7-45A9-879C-29BA3D5790F0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"/>
          <p:cNvCxnSpPr/>
          <p:nvPr/>
        </p:nvCxnSpPr>
        <p:spPr>
          <a:xfrm rot="5400000">
            <a:off x="2202840" y="2568240"/>
            <a:ext cx="3963240" cy="1283400"/>
          </a:xfrm>
          <a:prstGeom prst="bentConnector3">
            <a:avLst>
              <a:gd name="adj1" fmla="val 9073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30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FF di Dire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0160" y="820800"/>
            <a:ext cx="6913440" cy="4167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4680" y="1030320"/>
            <a:ext cx="6248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zione di Dipar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7280" y="5211720"/>
            <a:ext cx="3657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Dir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146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08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36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98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4" idx="2"/>
            <a:endCxn id="395" idx="0"/>
          </p:cNvCxnSpPr>
          <p:nvPr/>
        </p:nvCxnSpPr>
        <p:spPr>
          <a:xfrm rot="5400000">
            <a:off x="2698200" y="5256000"/>
            <a:ext cx="445320" cy="1270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2"/>
            <a:endCxn id="399" idx="0"/>
          </p:cNvCxnSpPr>
          <p:nvPr/>
        </p:nvCxnSpPr>
        <p:spPr>
          <a:xfrm flipH="1" rot="16200000">
            <a:off x="5251320" y="3972960"/>
            <a:ext cx="445320" cy="3836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2"/>
            <a:endCxn id="396" idx="0"/>
          </p:cNvCxnSpPr>
          <p:nvPr/>
        </p:nvCxnSpPr>
        <p:spPr>
          <a:xfrm flipH="1" rot="16200000">
            <a:off x="3335760" y="5887800"/>
            <a:ext cx="4453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2"/>
            <a:endCxn id="398" idx="0"/>
          </p:cNvCxnSpPr>
          <p:nvPr/>
        </p:nvCxnSpPr>
        <p:spPr>
          <a:xfrm flipH="1" rot="16200000">
            <a:off x="4613040" y="4611240"/>
            <a:ext cx="445320" cy="25596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17146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fficio di dire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 coord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146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sservat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pidem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o bu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46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ano di Form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94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WEB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94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 Coordina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fess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7" idx="1"/>
          </p:cNvCxnSpPr>
          <p:nvPr/>
        </p:nvCxnSpPr>
        <p:spPr>
          <a:xfrm>
            <a:off x="3848040" y="207612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8" idx="1"/>
          </p:cNvCxnSpPr>
          <p:nvPr/>
        </p:nvCxnSpPr>
        <p:spPr>
          <a:xfrm>
            <a:off x="3848040" y="3142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2" name=""/>
          <p:cNvCxnSpPr>
            <a:stCxn id="406" idx="3"/>
            <a:endCxn id="409" idx="1"/>
          </p:cNvCxnSpPr>
          <p:nvPr/>
        </p:nvCxnSpPr>
        <p:spPr>
          <a:xfrm>
            <a:off x="3848040" y="4285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981760" y="5211720"/>
            <a:ext cx="19987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Allar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4" idx="2"/>
            <a:endCxn id="397" idx="0"/>
          </p:cNvCxnSpPr>
          <p:nvPr/>
        </p:nvCxnSpPr>
        <p:spPr>
          <a:xfrm flipH="1" rot="16200000">
            <a:off x="3974040" y="5249520"/>
            <a:ext cx="445320" cy="12834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4" idx="3"/>
            <a:endCxn id="413" idx="1"/>
          </p:cNvCxnSpPr>
          <p:nvPr/>
        </p:nvCxnSpPr>
        <p:spPr>
          <a:xfrm>
            <a:off x="5384880" y="5439960"/>
            <a:ext cx="597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4ED9-C6BC-47A3-8CF6-4CB492135AC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400" y="283536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447920"/>
            <a:ext cx="4419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o diretto e li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7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55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0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196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358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8" idx="2"/>
            <a:endCxn id="419" idx="0"/>
          </p:cNvCxnSpPr>
          <p:nvPr/>
        </p:nvCxnSpPr>
        <p:spPr>
          <a:xfrm rot="5400000">
            <a:off x="2070360" y="69912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2"/>
            <a:endCxn id="424" idx="0"/>
          </p:cNvCxnSpPr>
          <p:nvPr/>
        </p:nvCxnSpPr>
        <p:spPr>
          <a:xfrm flipH="1" rot="16200000">
            <a:off x="5853600" y="69876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0" idx="0"/>
            <a:endCxn id="421" idx="0"/>
          </p:cNvCxnSpPr>
          <p:nvPr/>
        </p:nvCxnSpPr>
        <p:spPr>
          <a:xfrm flipH="1" rot="16200000">
            <a:off x="3068640" y="2455560"/>
            <a:ext cx="2160" cy="149148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22" idx="0"/>
            <a:endCxn id="423" idx="0"/>
          </p:cNvCxnSpPr>
          <p:nvPr/>
        </p:nvCxnSpPr>
        <p:spPr>
          <a:xfrm flipH="1" rot="16200000">
            <a:off x="6079320" y="2449800"/>
            <a:ext cx="2160" cy="150264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016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3856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9" idx="3"/>
            <a:endCxn id="430" idx="1"/>
          </p:cNvCxnSpPr>
          <p:nvPr/>
        </p:nvCxnSpPr>
        <p:spPr>
          <a:xfrm>
            <a:off x="1369800" y="47970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9016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74336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1" idx="3"/>
            <a:endCxn id="434" idx="1"/>
          </p:cNvCxnSpPr>
          <p:nvPr/>
        </p:nvCxnSpPr>
        <p:spPr>
          <a:xfrm>
            <a:off x="44064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1"/>
          </p:cNvCxnSpPr>
          <p:nvPr/>
        </p:nvCxnSpPr>
        <p:spPr>
          <a:xfrm>
            <a:off x="591156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772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3"/>
            <a:endCxn id="438" idx="1"/>
          </p:cNvCxnSpPr>
          <p:nvPr/>
        </p:nvCxnSpPr>
        <p:spPr>
          <a:xfrm>
            <a:off x="7416720" y="47970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133720" y="5410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481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32800" y="42552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l Dipartimento “permeabi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9" idx="2"/>
            <a:endCxn id="429" idx="0"/>
          </p:cNvCxnSpPr>
          <p:nvPr/>
        </p:nvCxnSpPr>
        <p:spPr>
          <a:xfrm flipH="1">
            <a:off x="785160" y="3919680"/>
            <a:ext cx="39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20" idx="2"/>
            <a:endCxn id="430" idx="0"/>
          </p:cNvCxnSpPr>
          <p:nvPr/>
        </p:nvCxnSpPr>
        <p:spPr>
          <a:xfrm flipH="1">
            <a:off x="2317320" y="3919680"/>
            <a:ext cx="720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21" idx="2"/>
            <a:endCxn id="431" idx="0"/>
          </p:cNvCxnSpPr>
          <p:nvPr/>
        </p:nvCxnSpPr>
        <p:spPr>
          <a:xfrm>
            <a:off x="3814920" y="3919680"/>
            <a:ext cx="864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22" idx="2"/>
            <a:endCxn id="434" idx="0"/>
          </p:cNvCxnSpPr>
          <p:nvPr/>
        </p:nvCxnSpPr>
        <p:spPr>
          <a:xfrm flipH="1">
            <a:off x="532728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23" idx="2"/>
            <a:endCxn id="436" idx="0"/>
          </p:cNvCxnSpPr>
          <p:nvPr/>
        </p:nvCxnSpPr>
        <p:spPr>
          <a:xfrm>
            <a:off x="683100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4" idx="2"/>
            <a:endCxn id="438" idx="0"/>
          </p:cNvCxnSpPr>
          <p:nvPr/>
        </p:nvCxnSpPr>
        <p:spPr>
          <a:xfrm>
            <a:off x="8354520" y="3919680"/>
            <a:ext cx="25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733480" y="282096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381200" y="1638000"/>
            <a:ext cx="304920" cy="8763120"/>
          </a:xfrm>
          <a:custGeom>
            <a:avLst/>
            <a:gdLst>
              <a:gd name="textAreaLeft" fmla="*/ 0 w 304920"/>
              <a:gd name="textAreaRight" fmla="*/ 110160 w 30492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20240" y="627048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I BUDGET per singola 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B131-0CF8-41AC-B341-5CE2D21114E3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9400" y="233532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1295280"/>
            <a:ext cx="4419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97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955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100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1196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58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4" idx="2"/>
            <a:endCxn id="460" idx="0"/>
          </p:cNvCxnSpPr>
          <p:nvPr/>
        </p:nvCxnSpPr>
        <p:spPr>
          <a:xfrm flipH="1" rot="16200000">
            <a:off x="6027480" y="372600"/>
            <a:ext cx="872280" cy="3783600"/>
          </a:xfrm>
          <a:prstGeom prst="bentConnector3">
            <a:avLst>
              <a:gd name="adj1" fmla="val 4987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2016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34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3856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3"/>
            <a:endCxn id="463" idx="1"/>
          </p:cNvCxnSpPr>
          <p:nvPr/>
        </p:nvCxnSpPr>
        <p:spPr>
          <a:xfrm>
            <a:off x="1369800" y="57114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3"/>
            <a:endCxn id="464" idx="1"/>
          </p:cNvCxnSpPr>
          <p:nvPr/>
        </p:nvCxnSpPr>
        <p:spPr>
          <a:xfrm>
            <a:off x="29016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4743360" y="5292720"/>
            <a:ext cx="1168560" cy="838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67" idx="1"/>
          </p:cNvCxnSpPr>
          <p:nvPr/>
        </p:nvCxnSpPr>
        <p:spPr>
          <a:xfrm>
            <a:off x="44064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24852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7" idx="3"/>
            <a:endCxn id="469" idx="1"/>
          </p:cNvCxnSpPr>
          <p:nvPr/>
        </p:nvCxnSpPr>
        <p:spPr>
          <a:xfrm>
            <a:off x="591156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72400" y="5292720"/>
            <a:ext cx="11685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9" idx="3"/>
            <a:endCxn id="471" idx="1"/>
          </p:cNvCxnSpPr>
          <p:nvPr/>
        </p:nvCxnSpPr>
        <p:spPr>
          <a:xfrm>
            <a:off x="7416720" y="57114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2133720" y="6324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048120" y="5714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120" y="3808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 Dipartimento “permeabile”: 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5" idx="2"/>
            <a:endCxn id="462" idx="0"/>
          </p:cNvCxnSpPr>
          <p:nvPr/>
        </p:nvCxnSpPr>
        <p:spPr>
          <a:xfrm flipH="1">
            <a:off x="785160" y="3419280"/>
            <a:ext cx="39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56" idx="2"/>
            <a:endCxn id="463" idx="0"/>
          </p:cNvCxnSpPr>
          <p:nvPr/>
        </p:nvCxnSpPr>
        <p:spPr>
          <a:xfrm flipH="1">
            <a:off x="2317320" y="3419280"/>
            <a:ext cx="720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57" idx="2"/>
            <a:endCxn id="464" idx="0"/>
          </p:cNvCxnSpPr>
          <p:nvPr/>
        </p:nvCxnSpPr>
        <p:spPr>
          <a:xfrm>
            <a:off x="3814920" y="3419280"/>
            <a:ext cx="864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58" idx="2"/>
            <a:endCxn id="467" idx="0"/>
          </p:cNvCxnSpPr>
          <p:nvPr/>
        </p:nvCxnSpPr>
        <p:spPr>
          <a:xfrm flipH="1">
            <a:off x="5327280" y="3419280"/>
            <a:ext cx="2160" cy="18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59" idx="2"/>
            <a:endCxn id="469" idx="0"/>
          </p:cNvCxnSpPr>
          <p:nvPr/>
        </p:nvCxnSpPr>
        <p:spPr>
          <a:xfrm>
            <a:off x="6831000" y="3419280"/>
            <a:ext cx="21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0" idx="2"/>
            <a:endCxn id="482" idx="0"/>
          </p:cNvCxnSpPr>
          <p:nvPr/>
        </p:nvCxnSpPr>
        <p:spPr>
          <a:xfrm>
            <a:off x="8354520" y="3419280"/>
            <a:ext cx="1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733480" y="232092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35840" y="3733920"/>
            <a:ext cx="83844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2640" y="4216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408636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2" idx="1"/>
            <a:endCxn id="458" idx="3"/>
          </p:cNvCxnSpPr>
          <p:nvPr/>
        </p:nvCxnSpPr>
        <p:spPr>
          <a:xfrm rot="10800000">
            <a:off x="5747760" y="3080520"/>
            <a:ext cx="2188080" cy="920160"/>
          </a:xfrm>
          <a:prstGeom prst="bentConnector3">
            <a:avLst>
              <a:gd name="adj1" fmla="val 8293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923160" y="384480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8600" y="3733920"/>
            <a:ext cx="83808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280" y="4216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8600" y="463068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2" idx="2"/>
            <a:endCxn id="471" idx="0"/>
          </p:cNvCxnSpPr>
          <p:nvPr/>
        </p:nvCxnSpPr>
        <p:spPr>
          <a:xfrm>
            <a:off x="8354520" y="4266720"/>
            <a:ext cx="2520" cy="102636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7935840" y="4630680"/>
            <a:ext cx="838440" cy="27144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C640-3E65-49FD-B6FD-88E892AE38A9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cessità per il funzionamen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formalmente  e concertare i criteri di ingresso e invio per singol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STD per la valutazione all’intake, utilizzabile da tutte le U.O. del dipart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F2D1-A953-49C9-AA3D-D216EACBE14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67760" y="42552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 certificazione di tossicodipend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95360" y="1870200"/>
            <a:ext cx="6351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un atto medic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diagnos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80188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valore medico leg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11200" y="373536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za di personale medico abil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07960" y="466884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esclusiva dei Sert ma “atto specialist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5080" y="5602320"/>
            <a:ext cx="63514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a sulla base di criteri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ati sulle evidenze scient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D8C8-8648-4275-83AE-22ECD29AA430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9960" y="822240"/>
          <a:ext cx="7289640" cy="546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822240"/>
                    <a:ext cx="72896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33680" y="1093680"/>
            <a:ext cx="5886360" cy="21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 collaborazione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Executive Master in General Management in Sanità Pub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F47A-00B9-4FAE-9728-190CC6C0DAE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56520" y="4255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RT pubblici o priva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creditati)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nda improp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zi di QUA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pendentemente dall’ente g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i a criteri di qualità predef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 sistema di accreditamento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9C25-1E1F-485F-B3FF-569A6133341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42200" y="3808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 DIRIG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irettore di dipartiment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PERSONA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e a criteri predefini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ità in campo manag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blico o privato (attenzione alle carriere)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B086-E9D4-402F-9E95-98707454514B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90120" y="1916280"/>
            <a:ext cx="59385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incipali Are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a standardizz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09BF-D995-4A79-BB1E-B4CE8B27EAA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54080" y="2187360"/>
            <a:ext cx="69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di ingresso e di i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per la valutazione all’in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BBA8-19ED-4F87-B508-1FAB4F2FE37B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55160" y="1916280"/>
            <a:ext cx="69717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ccredit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le unità operativ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 siste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873-B08D-4C7E-B117-0B191D81D6D2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33520" y="4648320"/>
            <a:ext cx="8076960" cy="7617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riterio di bas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ità nella richiesta dei requisi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riteri di accreditamento devono valere per tut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zioni e Cooperative che vogliono svolgere attività sulla perso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34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47CB-533B-4E24-8B70-C96DCDE8D90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57200" y="1981080"/>
            <a:ext cx="79246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enze ed integrazion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295280"/>
            <a:ext cx="8217000" cy="457200"/>
          </a:xfrm>
          <a:prstGeom prst="rightArrow">
            <a:avLst>
              <a:gd name="adj1" fmla="val 55556"/>
              <a:gd name="adj2" fmla="val 167826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6560" y="134604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2011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zione prim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Contatto precoc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20113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333440" y="17748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4343040" y="-320400"/>
            <a:ext cx="304560" cy="6095880"/>
          </a:xfrm>
          <a:custGeom>
            <a:avLst/>
            <a:gdLst>
              <a:gd name="textAreaLeft" fmla="*/ 0 w 304560"/>
              <a:gd name="textAreaRight" fmla="*/ 109800 w 304560"/>
              <a:gd name="textAreaTop" fmla="*/ 158760 h 6095880"/>
              <a:gd name="textAreaBottom" fmla="*/ 593712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7353000" y="18511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955960"/>
            <a:ext cx="28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enze UL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4479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e di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4343040" y="1279440"/>
            <a:ext cx="304920" cy="7772400"/>
          </a:xfrm>
          <a:custGeom>
            <a:avLst/>
            <a:gdLst>
              <a:gd name="textAreaLeft" fmla="*/ 0 w 304920"/>
              <a:gd name="textAreaRight" fmla="*/ 110160 w 30492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548496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e un unico sistema di accreditam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6" idx="1"/>
            <a:endCxn id="524" idx="2"/>
          </p:cNvCxnSpPr>
          <p:nvPr/>
        </p:nvCxnSpPr>
        <p:spPr>
          <a:xfrm rot="10800000">
            <a:off x="1904400" y="4403160"/>
            <a:ext cx="152460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6" idx="3"/>
            <a:endCxn id="523" idx="2"/>
          </p:cNvCxnSpPr>
          <p:nvPr/>
        </p:nvCxnSpPr>
        <p:spPr>
          <a:xfrm flipV="1">
            <a:off x="5638680" y="4403160"/>
            <a:ext cx="144864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173F-A360-482B-AEC9-C81704148E1D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057320" y="2735280"/>
            <a:ext cx="696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 sis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77C1-FE0B-4340-B7C7-E47A233BB105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529320" y="3987720"/>
            <a:ext cx="0" cy="117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70480" y="1965240"/>
            <a:ext cx="12448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ultati ot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71760" y="1965240"/>
            <a:ext cx="17524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alità di produzion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 e protoco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54440" y="1965240"/>
            <a:ext cx="118584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tazioni r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1965240"/>
            <a:ext cx="189072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zi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zi e b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orse um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9760" y="3110040"/>
            <a:ext cx="171936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64440" y="3112920"/>
            <a:ext cx="1004760" cy="88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41600" y="3110040"/>
            <a:ext cx="159228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41560" y="3448080"/>
            <a:ext cx="430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27680" y="3443400"/>
            <a:ext cx="44280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74520" y="5167440"/>
            <a:ext cx="4654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79560" y="4101840"/>
            <a:ext cx="1800" cy="106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37000" y="4113360"/>
            <a:ext cx="0" cy="10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54520" y="3100320"/>
            <a:ext cx="95904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49800" y="3443400"/>
            <a:ext cx="404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895320"/>
            <a:ext cx="3048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- Economic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8360" y="1312920"/>
            <a:ext cx="14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z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3240" y="1339920"/>
            <a:ext cx="1463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aci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3847680" y="-1581120"/>
            <a:ext cx="228600" cy="5791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2912760" y="-177840"/>
            <a:ext cx="183960" cy="3886200"/>
          </a:xfrm>
          <a:custGeom>
            <a:avLst/>
            <a:gdLst>
              <a:gd name="textAreaLeft" fmla="*/ 117720 w 183960"/>
              <a:gd name="textAreaRight" fmla="*/ 184320 w 1839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5946840" y="1296000"/>
            <a:ext cx="184320" cy="957240"/>
          </a:xfrm>
          <a:custGeom>
            <a:avLst/>
            <a:gdLst>
              <a:gd name="textAreaLeft" fmla="*/ 117720 w 184320"/>
              <a:gd name="textAreaRight" fmla="*/ 184680 w 18432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6240" y="4970520"/>
            <a:ext cx="989280" cy="34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148520" y="4102200"/>
            <a:ext cx="0" cy="698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51720" y="4495680"/>
            <a:ext cx="1501560" cy="1428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TTOR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DIZION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non controllabil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3640" y="5086440"/>
            <a:ext cx="139680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13640" y="5467320"/>
            <a:ext cx="139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rtam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51600" y="29811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51600" y="363852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 insi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48" idx="3"/>
            <a:endCxn id="568" idx="1"/>
          </p:cNvCxnSpPr>
          <p:nvPr/>
        </p:nvCxnSpPr>
        <p:spPr>
          <a:xfrm flipV="1">
            <a:off x="7369200" y="3271320"/>
            <a:ext cx="480240" cy="286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48" idx="3"/>
            <a:endCxn id="569" idx="1"/>
          </p:cNvCxnSpPr>
          <p:nvPr/>
        </p:nvCxnSpPr>
        <p:spPr>
          <a:xfrm>
            <a:off x="7369200" y="3557520"/>
            <a:ext cx="480240" cy="372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 rot="5400000">
            <a:off x="4304880" y="1847520"/>
            <a:ext cx="304560" cy="8610840"/>
          </a:xfrm>
          <a:custGeom>
            <a:avLst/>
            <a:gdLst>
              <a:gd name="textAreaLeft" fmla="*/ 0 w 304560"/>
              <a:gd name="textAreaRight" fmla="*/ 109800 w 304560"/>
              <a:gd name="textAreaTop" fmla="*/ 224280 h 8610840"/>
              <a:gd name="textAreaBottom" fmla="*/ 8386560 h 861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62560" y="641520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di PROGRAMMAZIONE &amp; CONT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73200" y="4324320"/>
            <a:ext cx="3394080" cy="380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00" y="5442120"/>
            <a:ext cx="36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di GESTIONE DEL PERS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5" idx="0"/>
            <a:endCxn id="574" idx="1"/>
          </p:cNvCxnSpPr>
          <p:nvPr/>
        </p:nvCxnSpPr>
        <p:spPr>
          <a:xfrm flipH="1" flipV="1" rot="5400000">
            <a:off x="1702080" y="4690080"/>
            <a:ext cx="928080" cy="57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5800" y="22212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SISTEMA ASSIST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0666-F58D-4112-A783-F9A78956ACE2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ro aree da valut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68580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FFIC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risult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1911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8560" y="2743200"/>
            <a:ext cx="2666880" cy="2209680"/>
          </a:xfrm>
          <a:custGeom>
            <a:avLst/>
            <a:gdLst>
              <a:gd name="textAreaLeft" fmla="*/ 869760 w 2666880"/>
              <a:gd name="textAreaRight" fmla="*/ 1797120 w 2666880"/>
              <a:gd name="textAreaTop" fmla="*/ 720720 h 2209680"/>
              <a:gd name="textAreaBottom" fmla="*/ 1488960 h 2209680"/>
            </a:gdLst>
            <a:ahLst/>
            <a:rect l="textAreaLeft" t="textAreaTop" r="textAreaRight" b="textAreaBottom"/>
            <a:pathLst>
              <a:path w="21600" h="21600">
                <a:moveTo>
                  <a:pt x="7045" y="7045"/>
                </a:moveTo>
                <a:lnTo>
                  <a:pt x="9400" y="7045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7045"/>
                </a:lnTo>
                <a:lnTo>
                  <a:pt x="14555" y="7045"/>
                </a:lnTo>
                <a:lnTo>
                  <a:pt x="14555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4555" y="12200"/>
                </a:lnTo>
                <a:lnTo>
                  <a:pt x="14555" y="14555"/>
                </a:lnTo>
                <a:lnTo>
                  <a:pt x="12200" y="14555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4555"/>
                </a:lnTo>
                <a:lnTo>
                  <a:pt x="7045" y="14555"/>
                </a:lnTo>
                <a:lnTo>
                  <a:pt x="7045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7045" y="9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06C2-D682-4295-A893-66EC3DA0DE9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36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problemi in ambito organizzativo nel Dipartimento delle Dipende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076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te integrazione tr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a conflittualità tra Pubblico e Privato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e burocratizzazione e gerarch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non definiti e poco forma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za sistemi di valutazione dei risultati e dei c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quinamenti” ideologici nelle attività preventive ed assist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stema poco orientato alla risposta verso nuove forme di abuso e dipend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29A9-ED1E-4EEB-B907-D1AE5C64CC00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ggetti di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finali (outc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intermedi (outp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 uti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i di erog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i compar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ddisfazione d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4757760" y="3581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MPORA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A451-FAF0-4B46-A352-32912327B6B8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per la modalità della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ante (day by d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a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vas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it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itativa (il sistema dei criteri exante e l’aderenz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real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093B-3FE8-43A0-94F2-7C7FE4FD177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863280" y="2930400"/>
            <a:ext cx="735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FBB3-AD3A-44C2-ADDA-1E85E867B71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092560" y="1092240"/>
            <a:ext cx="3594240" cy="91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MACROINDICATORE DI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99040" y="2098800"/>
            <a:ext cx="40968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78560" y="2098800"/>
            <a:ext cx="3108240" cy="100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USO DI SOSTANZE PSICOA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99040" y="3102120"/>
            <a:ext cx="409680" cy="10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78560" y="3102120"/>
            <a:ext cx="3108240" cy="100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FORMANCE PSICO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9040" y="4103640"/>
            <a:ext cx="40968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4103640"/>
            <a:ext cx="3108240" cy="100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QUALITÀ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5108400"/>
            <a:ext cx="40968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560" y="5108400"/>
            <a:ext cx="3108240" cy="113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CIDENZA DI PATOLOGIE E SITUAZIONI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ORRELATE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8040" y="1095480"/>
            <a:ext cx="3594240" cy="91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4520" y="2101680"/>
            <a:ext cx="40932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93680" y="2101680"/>
            <a:ext cx="3108600" cy="100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RIDURRE O SOSPENDERE L’USO DI SOSTA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4520" y="3105000"/>
            <a:ext cx="409320" cy="10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3680" y="3105000"/>
            <a:ext cx="3108600" cy="100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ORTARE LA PERFORMANCE GLOBALE DEL PAZ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4106880"/>
            <a:ext cx="40932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93680" y="4106880"/>
            <a:ext cx="3108600" cy="1004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AR RAGGIUNGERE UNA QUALITA’ DI VI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4520" y="5111640"/>
            <a:ext cx="40932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93680" y="5111640"/>
            <a:ext cx="3108600" cy="1136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ITARE LE PATOLOGIE CORRELAT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E ATTIVITA’ CRIMINALI E LA PROSTIT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7480" y="23511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227480" y="333684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27480" y="43275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27480" y="53229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243000"/>
            <a:ext cx="87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ED INDICATORI DI OUT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81480" y="6200640"/>
            <a:ext cx="358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malattie diffusive,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l’overdose, le attività criminose e la prostitu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AA13-9004-4DC7-BFF9-944ACD62907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579600" y="1941480"/>
          <a:ext cx="29145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4148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5594400" y="1949400"/>
          <a:ext cx="2914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94940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391760" y="25002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4128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6600" y="3473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34240" y="34732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97200" y="253836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46720" y="2538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040" y="35114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39320" y="35114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22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698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4571640" y="20570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 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62800" y="6350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01360" y="54864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/>
          <p:nvPr/>
        </p:nvCxnSpPr>
        <p:spPr>
          <a:xfrm>
            <a:off x="3494160" y="3351240"/>
            <a:ext cx="210096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F64E-D066-463B-BFB4-C930D576839F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1225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0000" y="3835440"/>
            <a:ext cx="4700520" cy="79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8896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264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7120" y="777960"/>
            <a:ext cx="1386000" cy="388800"/>
          </a:xfrm>
          <a:custGeom>
            <a:avLst/>
            <a:gdLst>
              <a:gd name="textAreaLeft" fmla="*/ 0 w 1386000"/>
              <a:gd name="textAreaRight" fmla="*/ 1386360 w 13860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54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83440" y="247680"/>
            <a:ext cx="2182680" cy="639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51560" y="515880"/>
            <a:ext cx="1871640" cy="571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51560" y="1571760"/>
            <a:ext cx="1871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prestazion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og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24560" y="5535720"/>
            <a:ext cx="1925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risultati ottenut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42960" y="619200"/>
            <a:ext cx="1155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1320" y="979560"/>
            <a:ext cx="335916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20880" y="21463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33640" y="228744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6040" y="24289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60600" y="257004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68600" y="21463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2800" y="22874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97360" y="24289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9760" y="25700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83200" y="2128680"/>
            <a:ext cx="10508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95960" y="226836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11600" y="241128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24360" y="255276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9880" y="1111320"/>
            <a:ext cx="1800" cy="453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99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831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1504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488960" y="1887480"/>
            <a:ext cx="477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57360" y="4694400"/>
            <a:ext cx="1103400" cy="541080"/>
          </a:xfrm>
          <a:prstGeom prst="downArrowCallout">
            <a:avLst>
              <a:gd name="adj1" fmla="val 50986"/>
              <a:gd name="adj2" fmla="val 50981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42960" y="4716360"/>
            <a:ext cx="100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30560" y="4694400"/>
            <a:ext cx="1104840" cy="541080"/>
          </a:xfrm>
          <a:prstGeom prst="downArrowCallout">
            <a:avLst>
              <a:gd name="adj1" fmla="val 51052"/>
              <a:gd name="adj2" fmla="val 5104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9760" y="4716360"/>
            <a:ext cx="100512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73600" y="4694400"/>
            <a:ext cx="1101600" cy="541080"/>
          </a:xfrm>
          <a:prstGeom prst="downArrowCallout">
            <a:avLst>
              <a:gd name="adj1" fmla="val 50903"/>
              <a:gd name="adj2" fmla="val 5089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53160" y="4716360"/>
            <a:ext cx="10029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r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09960" y="3835440"/>
            <a:ext cx="0" cy="853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31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1504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2280" y="5643720"/>
            <a:ext cx="74160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83200" y="5635800"/>
            <a:ext cx="74124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0492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04920" y="5786280"/>
            <a:ext cx="38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24160" y="5786280"/>
            <a:ext cx="95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8316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24440" y="5778360"/>
            <a:ext cx="13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5040" y="5222880"/>
            <a:ext cx="0" cy="56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17840" y="6262560"/>
            <a:ext cx="4554360" cy="44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ado di salute aggiunta e patologia evit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056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5940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670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57520" y="3732120"/>
            <a:ext cx="2779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7212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60600" y="3090960"/>
            <a:ext cx="4314600" cy="44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ogazione e registrazione delle prest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ASSISTENZIAL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9960" y="4137120"/>
            <a:ext cx="4314960" cy="45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 clinica periodica standa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DIAGNOSTI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21680" y="2384280"/>
            <a:ext cx="0" cy="313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21240" y="1801800"/>
            <a:ext cx="0" cy="8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884560" y="3249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884560" y="43498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35720" y="2955960"/>
            <a:ext cx="1871640" cy="16603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207040" y="4356000"/>
            <a:ext cx="3504960" cy="2436840"/>
            <a:chOff x="5207040" y="4356000"/>
            <a:chExt cx="3504960" cy="2436840"/>
          </a:xfrm>
        </p:grpSpPr>
        <p:sp>
          <p:nvSpPr>
            <p:cNvPr id="697" name=""/>
            <p:cNvSpPr/>
            <p:nvPr/>
          </p:nvSpPr>
          <p:spPr>
            <a:xfrm>
              <a:off x="5892840" y="5041800"/>
              <a:ext cx="2819160" cy="1751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7040" y="4356000"/>
              <a:ext cx="99036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380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2360" y="3605040"/>
            <a:ext cx="1590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796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9159-11ED-48E9-8DC6-4A1ECE6A375E}" type="slidenum">
              <a:t>4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04920" y="1366920"/>
            <a:ext cx="831204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Europei p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istema Informativo Tossicodipend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ziamento delle dotazioni informatiche dei Sert e implem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un sistema di monitoraggio dell’utenza dei servizi basato sull’utiliz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standard europe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do nazionale per la lotta alla dr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GETTO DI COORDINAMENTO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la Sal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 Wel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mento delle Regioni sulle Tossicodipenden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laborazione con C.N.R. e O.E.D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1571760"/>
            <a:ext cx="8763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18252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7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486560" y="271440"/>
            <a:ext cx="889200" cy="8938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80880" y="475128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80E7-8F11-423F-A452-77D7D34076DF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1007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5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ocolli concordati a livello nazion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7400" y="326376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alità di raccolta dati epidemiologici secondo STD Europei-OED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Unica delle Prest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Movimento Cl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pologie dei tratta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per la Valutazione dei risultati (principi ed indicatori di succes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04080" y="565200"/>
            <a:ext cx="66204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B871-0725-4016-AA2D-5F132F6AB39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zione ai sistemi assistenzial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l Dipartimen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lle Dipenden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Serpell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3733920"/>
            <a:ext cx="784836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BD96-9934-4AD2-A813-53FFE60E8A8B}" type="slidenum">
              <a:t>48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819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ECE8-CF82-44DF-9A5E-EA3C17A38C4A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0600"/>
            <a:ext cx="9144000" cy="556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oncetto di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7391520" cy="48006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449938"/>
                <a:lnTo>
                  <a:pt x="17374" y="19368"/>
                </a:lnTo>
                <a:arcTo wR="10800" hR="10800" stAng="3150062" swAng="1844993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6002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13372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572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6320" y="3413160"/>
            <a:ext cx="361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Tahoma"/>
              </a:rPr>
              <a:t>Dipart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429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tre U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o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3848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143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DEE3-F8CD-4E51-BB99-91171E6FBA5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di base per il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223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insieme unitario di U.O. correlate e coordinate nelle finalità e nelle modalità operative, con processi espliciti e regole condi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liente/perso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ha un problema che deve trovare risposte unitarie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liente = “colui che scegl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terdipendenz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 U.O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Pari Dign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e dei “pianeti isolati”, dell’autarchia, dell’autoreferenzi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facile accesso e la multioffert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“permeabil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2D0C-8E50-4000-B867-ED0FCF7357C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sistema delle dipendenz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 interventi in diversi ambienti di erog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venti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17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mbulato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nza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18792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3"/>
            <a:endCxn id="68" idx="1"/>
          </p:cNvCxnSpPr>
          <p:nvPr/>
        </p:nvCxnSpPr>
        <p:spPr>
          <a:xfrm>
            <a:off x="3581280" y="3349440"/>
            <a:ext cx="33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6134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71" idx="1"/>
          </p:cNvCxnSpPr>
          <p:nvPr/>
        </p:nvCxnSpPr>
        <p:spPr>
          <a:xfrm>
            <a:off x="52830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31520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1" idx="3"/>
            <a:endCxn id="73" idx="1"/>
          </p:cNvCxnSpPr>
          <p:nvPr/>
        </p:nvCxnSpPr>
        <p:spPr>
          <a:xfrm>
            <a:off x="698472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025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1764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4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080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732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31840" y="1587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920" y="160020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 Ambiente struttur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mbulatorio, residenza protet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9320" y="15876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e n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tu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87720"/>
            <a:ext cx="152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ratori di s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vent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0160" y="3987720"/>
            <a:ext cx="112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condi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urg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0920" y="3987720"/>
            <a:ext cx="1584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mbulatori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vato Soc. Acc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o s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omministr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 meta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6600" y="398772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e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1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560" y="5943600"/>
            <a:ext cx="8077320" cy="457200"/>
          </a:xfrm>
          <a:prstGeom prst="rightArrow">
            <a:avLst>
              <a:gd name="adj1" fmla="val 55556"/>
              <a:gd name="adj2" fmla="val 164973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8360" y="59943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562720"/>
            <a:ext cx="14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atto prec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4760" y="5668920"/>
            <a:ext cx="65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4520" y="518148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i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3052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7320" y="38862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15620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7320" y="11430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585E-A6D2-4C00-ABD3-166087AF209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00" y="2362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ettazione e realizzazione di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partimento delle Dipend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F855-7A8C-4061-8E65-0B6AB1ABA5F8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7:32:38Z</dcterms:created>
  <dc:creator>Giovanni</dc:creator>
  <dc:description/>
  <dc:language>en-US</dc:language>
  <cp:lastModifiedBy>gioser</cp:lastModifiedBy>
  <dcterms:modified xsi:type="dcterms:W3CDTF">2004-10-21T10:25:40Z</dcterms:modified>
  <cp:revision>95</cp:revision>
  <dc:subject/>
  <dc:title>Introduzione  ai sistemi azzistenziali orientati al TQM</dc:title>
</cp:coreProperties>
</file>