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Click to move the slide</a:t>
            </a:r>
            <a:endParaRPr b="0" lang="en-US" sz="4800" spc="-1" strike="noStrike">
              <a:solidFill>
                <a:srgbClr val="cc0000"/>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04D2-BC05-43E9-9B5E-655C7A977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anno partecipato alla ricerca 36 Ser.T.. su 38 esistenti nel Territorio del Veneto, mancano il Ser.T..1 di Verona ed il Ser.T. di Valdagno Vicenza, che erano stati interpellati ma che non hanno dato nessuna risposta. Del resto non vi era nessun obbligo a partecipar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mia ricerca è nata dall'esigenza personale di conoscere le realtà dei Ser.T.. che in qualche modo mi affiancano nel lavoro con utenti che hanno come problema fondamentale la "DIPEND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vorando nel piccolo Ser.T.. 2 di Camposampiero ed essendo spesso unico referente infermieristico sentivo l'esigenza di un confronto con pari ruolo di altri Ser.T.. del veneto, per imparare da alt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perienze, e perché no per aprire un dialogo all'interno dell'area Infermieristica, area che come  vedremo da altre ricerche, attualmente sta rivestendo enorme importanza all'interno del sistema 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a ricerca è stata fatta attraverso un questionario con domande a risposta chiusa ed alcune domande a risposta aperta, al questionario doveva rispondere la figura infermieristica che rispondeva per il Ser.T.. in cui lavora o lavorava, e poteva rispondere assieme ad altri colleghi infermie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 ogni Ser.T.. corrisponde un unico questionario, che si può ritenere un sunto del sentire anche emotivo dell'infermieristica in quel preciso 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n si richiedeva una precisione "numerica" a certi quesiti, in quanto queste risposte non dovevano essere lette solo da un punto di vista numerico, vi sono tra l'altro molte altre ricerche a livello Regionale e Nazionale che possono rispondere in maniera signific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ricerca infermieristica con fatica sta nascendo in Italia, e a volte rischia di non seguire i crismi della ricerca scientifica con la "S" maius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sicuramente questa ricerca non può essere annoverata fra le ricerche con la "S" maiuscola e non se lo poneva come  obbiet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no del resto convinto che la fantasia sia la base per qualsiasi ricerca e se la fantasia fa perno sull'esperienza potrebbe aprire almeno nuove strade di confronto e questo è il mio obbiettivo, se poi da questo nasce dell'altro non sarò Io ad oppor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ricerca infermieristica a mio avviso non sta facendo molta strada un pò per la solita carenza di risorse sia economiche che umane ma anche probabilmente per mancanza di idee e di parametri che possano misurare la fase assistenziale ed in particolare la quotidianità del rapporto che l'infermiere svolge a contatto con l'utenza sia come risposta ai bisogni fisici che come risposta ai bisogni psicologici,sanitari e social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F797D-8620-4D78-8924-6D6BAD1D2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C85FD-3DE0-47FE-92C8-882855B12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9575B-C306-48BD-AAAB-26004E812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55008-E1B7-430E-B35B-B74A402AC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EFEEE-DE55-4547-83B2-4235FB950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76A9F-6AEB-45AC-B49D-488C0FDEF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1A537-3B4E-4993-A774-D0D78DCF9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3958F-C376-434D-BB56-D4B1246EB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0E7FE-49A4-4F97-8C35-C02C292F9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0E5AD-3DC5-4995-B07E-DA13036A2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9F946-B6DA-44D1-A3EF-120BA8B48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DFB2A-6AC7-4A2D-9870-C75A1F382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C6083-6124-49CF-9BE5-93F0BC6C5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5A509-9F71-4CAE-BF3F-61C0CF3FD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A0884-FEFD-4689-8A74-4A95CF6C9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05E9D-6A26-40DE-B28F-DA17CDA66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C0E66-3800-4534-8DFE-8CF7D7744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54A0F-A496-4300-BE90-E6E2FA1AD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A99B7-F212-42FC-978C-8107392B3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2EC47-45F3-4A9C-95B9-BB8815AC5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E5A1E-A83F-4CB8-A902-D948ECA6D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00809-2AD5-4A7A-9676-06949BE4E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531FD-129B-4CB8-81E2-B38719FF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559A3-26A9-4698-844B-36B6A019C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rPr>
              <a:t>Click to edit the title text format</a:t>
            </a:r>
            <a:endParaRPr b="0" lang="en-US" sz="4200" spc="-1" strike="noStrike">
              <a:solidFill>
                <a:srgbClr val="cc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203280" y="6473520"/>
            <a:ext cx="2971800" cy="268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oberto Nalon  dicembre 2003</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F4B0-007D-48E9-BBE4-C6BDAFEEFF7D}"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99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Click to edit the title text format</a:t>
            </a:r>
            <a:endParaRPr b="0" lang="en-US" sz="4800" spc="-1" strike="noStrike">
              <a:solidFill>
                <a:srgbClr val="cc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9A24-DB5C-4260-8BEE-14C3D6DD5650}"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cccc99"/>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0000"/>
                </a:solidFill>
                <a:latin typeface="Times New Roman"/>
              </a:rPr>
              <a:t>La gestione dei conflitti nei Ser.T.</a:t>
            </a:r>
            <a:endParaRPr b="0" lang="en-US" sz="4400" spc="-1" strike="noStrike">
              <a:solidFill>
                <a:srgbClr val="cc0000"/>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oberto Nalo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erona, dicembre 2003</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E5F30FB6-79C5-4CA1-A9C4-AF11D6A6A8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a base per la sicurezza</a:t>
            </a:r>
            <a:endParaRPr b="0" lang="en-US" sz="4200" spc="-1" strike="noStrike">
              <a:solidFill>
                <a:srgbClr val="cc0000"/>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vere delle protezioni anche strutturali (legge 626 sicurezza negli ambienti di lavoro)</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ilizzare le risorse del territorio </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ilizzare le risorse  del proprio servizio</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Creare un clima empatico positivo con utenti e colleghi</a:t>
            </a:r>
            <a:endParaRPr b="0" lang="en-US" sz="3200" spc="-1" strike="noStrike">
              <a:solidFill>
                <a:srgbClr val="000000"/>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6A70391-FC09-44C1-B616-7660831637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Rabbia</a:t>
            </a:r>
            <a:endParaRPr b="0" lang="en-US" sz="4200" spc="-1" strike="noStrike">
              <a:solidFill>
                <a:srgbClr val="cc0000"/>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Emozione a carattere  esplosivo e temporaneo</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rabbia di per sé non implica l’entrare in relazione. A volte la rabbia vuole eliminare la relazione. Attaccando bruscamente l’altro si esprime la propria intemperanza e la propria indisponibilità a ogni forma di contat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niele Nova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708336-D75E-41EC-AE2D-3E1ABEDD79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Rabbia: la gestione</a:t>
            </a:r>
            <a:endParaRPr b="0" lang="en-US" sz="4200" spc="-1" strike="noStrike">
              <a:solidFill>
                <a:srgbClr val="cc0000"/>
              </a:solidFill>
              <a:latin typeface="Times New Roman"/>
            </a:endParaRPr>
          </a:p>
        </p:txBody>
      </p:sp>
      <p:sp>
        <p:nvSpPr>
          <p:cNvPr id="134"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a rabbia va accettata, </a:t>
            </a:r>
            <a:r>
              <a:rPr b="0" lang="it-IT" sz="3200" spc="-1" strike="noStrike">
                <a:solidFill>
                  <a:srgbClr val="000000"/>
                </a:solidFill>
                <a:latin typeface="Arial"/>
              </a:rPr>
              <a:t>è un modo di conoscere se stessi, “non bisogna avere sensi di colpa nei confronti della propria rabbia”, “scarichiamo la rabbia”, ec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a rabbia è comunque un’energia positiva, </a:t>
            </a:r>
            <a:r>
              <a:rPr b="0" lang="it-IT" sz="3200" spc="-1" strike="noStrike">
                <a:solidFill>
                  <a:srgbClr val="000000"/>
                </a:solidFill>
                <a:latin typeface="Arial"/>
              </a:rPr>
              <a:t>energia che si può trasformare, incanalare e reinvestire in attività più utili.</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3F07FE3-E4A1-4609-9E1F-1468497975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Rabbia: terzo approccio</a:t>
            </a:r>
            <a:endParaRPr b="0" lang="en-US" sz="4200" spc="-1" strike="noStrike">
              <a:solidFill>
                <a:srgbClr val="cc0000"/>
              </a:solidFill>
              <a:latin typeface="Times New Roman"/>
            </a:endParaRPr>
          </a:p>
        </p:txBody>
      </p:sp>
      <p:sp>
        <p:nvSpPr>
          <p:cNvPr id="136"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Queste </a:t>
            </a:r>
            <a:r>
              <a:rPr b="1" lang="it-IT" sz="3600" spc="-1" strike="noStrike">
                <a:solidFill>
                  <a:srgbClr val="000000"/>
                </a:solidFill>
                <a:latin typeface="Arial"/>
              </a:rPr>
              <a:t>due strategie</a:t>
            </a:r>
            <a:r>
              <a:rPr b="0" lang="it-IT" sz="3600" spc="-1" strike="noStrike">
                <a:solidFill>
                  <a:srgbClr val="000000"/>
                </a:solidFill>
                <a:latin typeface="Arial"/>
              </a:rPr>
              <a:t> a volte appaiono piuttosto deboli, se non inconsistenti, nella loro natura pratica, in particolare nel nostro lavoro quotidiano (infermieri in un Ser.T..).</a:t>
            </a:r>
            <a:endParaRPr b="0" lang="en-US" sz="3600" spc="-1" strike="noStrike">
              <a:solidFill>
                <a:srgbClr val="000000"/>
              </a:solidFill>
              <a:latin typeface="Arial"/>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B1EE922C-FFB5-446D-861F-95A4F4169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Violenza</a:t>
            </a:r>
            <a:endParaRPr b="0" lang="en-US" sz="4200" spc="-1" strike="noStrike">
              <a:solidFill>
                <a:srgbClr val="cc0000"/>
              </a:solidFill>
              <a:latin typeface="Times New Roman"/>
            </a:endParaRPr>
          </a:p>
        </p:txBody>
      </p:sp>
      <p:sp>
        <p:nvSpPr>
          <p:cNvPr id="138"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533520" indent="-533520">
              <a:spcBef>
                <a:spcPts val="11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tto o situazione fondate sull’intenzione di danneggiare l’altro per eliminare le componenti perturbanti</a:t>
            </a:r>
            <a:endParaRPr b="0" lang="en-US" sz="4400" spc="-1" strike="noStrike">
              <a:solidFill>
                <a:srgbClr val="000000"/>
              </a:solidFill>
              <a:latin typeface="Arial"/>
            </a:endParaRPr>
          </a:p>
          <a:p>
            <a:pPr marL="533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D0FA5B6B-ADB7-4431-8D46-2734B8C4FA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a:t>
            </a:r>
            <a:endParaRPr b="0" lang="en-US" sz="4200" spc="-1" strike="noStrike">
              <a:solidFill>
                <a:srgbClr val="cc0000"/>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11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al latino “conflictu”</a:t>
            </a:r>
            <a:endParaRPr b="0" lang="en-US" sz="4400" spc="-1" strike="noStrike">
              <a:solidFill>
                <a:srgbClr val="000000"/>
              </a:solidFill>
              <a:latin typeface="Arial"/>
            </a:endParaRPr>
          </a:p>
          <a:p>
            <a:pPr marL="533520" indent="-533520">
              <a:spcBef>
                <a:spcPts val="11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a confliggere “combattere”</a:t>
            </a:r>
            <a:endParaRPr b="0" lang="en-US" sz="4400" spc="-1" strike="noStrike">
              <a:solidFill>
                <a:srgbClr val="000000"/>
              </a:solidFill>
              <a:latin typeface="Arial"/>
            </a:endParaRPr>
          </a:p>
          <a:p>
            <a:pPr marL="533520" indent="-533520">
              <a:spcBef>
                <a:spcPts val="11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ntrasto, Scontro, Urto, aspro e prolungato di idee, opinioni </a:t>
            </a:r>
            <a:endParaRPr b="0" lang="en-US" sz="4400" spc="-1" strike="noStrike">
              <a:solidFill>
                <a:srgbClr val="000000"/>
              </a:solidFill>
              <a:latin typeface="Arial"/>
            </a:endParaRPr>
          </a:p>
          <a:p>
            <a:pPr marL="533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A05D6CB6-B7B7-441F-859C-6372768F92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a:t>
            </a:r>
            <a:endParaRPr b="0" lang="en-US" sz="4200" spc="-1" strike="noStrike">
              <a:solidFill>
                <a:srgbClr val="cc0000"/>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952560" indent="-495360">
              <a:spcBef>
                <a:spcPts val="1151"/>
              </a:spcBef>
              <a:buClr>
                <a:srgbClr val="cc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4600" spc="-1" strike="noStrike">
                <a:solidFill>
                  <a:srgbClr val="000000"/>
                </a:solidFill>
                <a:latin typeface="Arial"/>
              </a:rPr>
              <a:t>Situazione relazionale dove due o più persone o gruppi si oppongono tra di loro</a:t>
            </a:r>
            <a:endParaRPr b="0" lang="en-US" sz="4600" spc="-1" strike="noStrike">
              <a:solidFill>
                <a:srgbClr val="000000"/>
              </a:solidFill>
              <a:latin typeface="Arial"/>
            </a:endParaRPr>
          </a:p>
          <a:p>
            <a:pPr marL="533520"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4" name="PlaceHolder 3"/>
          <p:cNvSpPr>
            <a:spLocks noGrp="1"/>
          </p:cNvSpPr>
          <p:nvPr>
            <p:ph type="sldNum" idx="3"/>
          </p:nvPr>
        </p:nvSpPr>
        <p:spPr/>
        <p:txBody>
          <a:bodyPr/>
          <a:p>
            <a:fld id="{1840B455-6127-4C3C-A8C4-658C9AED24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a:t>
            </a:r>
            <a:endParaRPr b="0" lang="en-US" sz="4200" spc="-1" strike="noStrike">
              <a:solidFill>
                <a:srgbClr val="cc0000"/>
              </a:solidFill>
              <a:latin typeface="Times New Roman"/>
            </a:endParaRPr>
          </a:p>
        </p:txBody>
      </p:sp>
      <p:sp>
        <p:nvSpPr>
          <p:cNvPr id="144"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533520" indent="-53352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Psicologia il conflitto fa parte del conflitto di interessi</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trapposizione manifesta o latente di impulsi, desideri o tendenze opposte che si escludono a vicenda.</a:t>
            </a:r>
            <a:r>
              <a:rPr b="0" lang="it-IT"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A3C7942-0348-4F0C-B0A7-7617A39274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a:t>
            </a:r>
            <a:endParaRPr b="0" lang="en-US" sz="4200" spc="-1" strike="noStrike">
              <a:solidFill>
                <a:srgbClr val="cc0000"/>
              </a:solidFill>
              <a:latin typeface="Times New Roman"/>
            </a:endParaRPr>
          </a:p>
        </p:txBody>
      </p:sp>
      <p:sp>
        <p:nvSpPr>
          <p:cNvPr id="146" name="PlaceHolder 2"/>
          <p:cNvSpPr>
            <a:spLocks noGrp="1"/>
          </p:cNvSpPr>
          <p:nvPr>
            <p:ph/>
          </p:nvPr>
        </p:nvSpPr>
        <p:spPr>
          <a:xfrm>
            <a:off x="914400" y="1599840"/>
            <a:ext cx="6019920" cy="4530600"/>
          </a:xfrm>
          <a:prstGeom prst="rect">
            <a:avLst/>
          </a:prstGeom>
          <a:noFill/>
          <a:ln w="0">
            <a:noFill/>
          </a:ln>
        </p:spPr>
        <p:txBody>
          <a:bodyPr lIns="90000" rIns="90000" tIns="46800" bIns="46800" anchor="t">
            <a:normAutofit/>
          </a:bodyPr>
          <a:p>
            <a:pPr marL="533520" indent="-53352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conflitto, la diversità di opinioni, le differenze tra noi, sono benefiche e feconde, ma diventano malefiche e sterili se si irrigidiscono in sorda contrapposizione di muro contro muro.</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ulvio Scaparr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024DEF6-9B0F-4C49-BC22-A0541B9FD9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a:t>
            </a:r>
            <a:endParaRPr b="0" lang="en-US" sz="4200" spc="-1" strike="noStrike">
              <a:solidFill>
                <a:srgbClr val="cc0000"/>
              </a:solidFill>
              <a:latin typeface="Times New Roman"/>
            </a:endParaRPr>
          </a:p>
        </p:txBody>
      </p:sp>
      <p:sp>
        <p:nvSpPr>
          <p:cNvPr id="148"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crisi costituiscono momenti alti della nostra vita, quelli nei quali siamo chiamati a misurarci con noi stessi senza infingimenti alla ricerca di uno sbocco favorevole e di un nuovo equilibrio.</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ulvio Scaparr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3A016BB-F581-4AB5-A866-28C36918EF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 numeri</a:t>
            </a:r>
            <a:endParaRPr b="0" lang="en-US" sz="4200" spc="-1" strike="noStrike">
              <a:solidFill>
                <a:srgbClr val="cc0000"/>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Ricerca sui "nodi problematici" dell'area Infermieristica nei Ser.T. del Veneto</a:t>
            </a:r>
            <a:endParaRPr b="0" lang="en-US" sz="3600" spc="-1" strike="noStrike">
              <a:solidFill>
                <a:srgbClr val="000000"/>
              </a:solidFill>
              <a:latin typeface="Arial"/>
            </a:endParaRPr>
          </a:p>
          <a:p>
            <a:pPr marL="343080" indent="-34308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volta nel novembre 2001</a:t>
            </a:r>
            <a:endParaRPr b="0" lang="en-US" sz="3600" spc="-1" strike="noStrike">
              <a:solidFill>
                <a:srgbClr val="000000"/>
              </a:solidFill>
              <a:latin typeface="Arial"/>
            </a:endParaRPr>
          </a:p>
          <a:p>
            <a:pPr marL="343080" indent="-34308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Hanno partecipato alla ricerca 36 Ser.T.. su 38 esistenti nel Territorio del Veneto</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92BCD46-48F5-47BA-9BC1-AB837689E6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a:t>
            </a:r>
            <a:endParaRPr b="0" lang="en-US" sz="4200" spc="-1" strike="noStrike">
              <a:solidFill>
                <a:srgbClr val="cc0000"/>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parliamo di conflitto parliamo di un’esperienza molto diversa dalla violenza, intendendo per violenza un danneggiamento intenzionale con carattere di irreversibilità. La violenza è nell’area della distruttività, invece il conflitto è nell’area della contrarietà, del contrasto relazional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niele Nova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9440F3-3026-401F-8ADA-EE7B85355F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infermiere vs. utente</a:t>
            </a:r>
            <a:endParaRPr b="0" lang="en-US" sz="4200" spc="-1" strike="noStrike">
              <a:solidFill>
                <a:srgbClr val="cc00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uò essere determinato da:</a:t>
            </a:r>
            <a:endParaRPr b="0" lang="en-US" sz="28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ifferenti letture dei bisogni;</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zioni di regole del servizio</a:t>
            </a:r>
            <a:endParaRPr b="0" lang="en-US" sz="3600" spc="-1" strike="noStrike">
              <a:solidFill>
                <a:srgbClr val="000000"/>
              </a:solidFill>
              <a:latin typeface="Arial"/>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Esempi:</a:t>
            </a:r>
            <a:endParaRPr b="0" lang="en-US" sz="3600" spc="-1" strike="noStrike">
              <a:solidFill>
                <a:srgbClr val="000000"/>
              </a:solidFill>
              <a:latin typeface="Arial"/>
            </a:endParaRPr>
          </a:p>
          <a:p>
            <a:pPr lvl="1" marL="952560" indent="-495360">
              <a:spcBef>
                <a:spcPts val="850"/>
              </a:spcBef>
              <a:buClr>
                <a:srgbClr val="cc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Orari</a:t>
            </a:r>
            <a:endParaRPr b="0" lang="en-US" sz="3400" spc="-1" strike="noStrike">
              <a:solidFill>
                <a:srgbClr val="000000"/>
              </a:solidFill>
              <a:latin typeface="Arial"/>
            </a:endParaRPr>
          </a:p>
          <a:p>
            <a:pPr lvl="1" marL="952560" indent="-495360">
              <a:spcBef>
                <a:spcPts val="850"/>
              </a:spcBef>
              <a:buClr>
                <a:srgbClr val="cc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Affidi</a:t>
            </a:r>
            <a:endParaRPr b="0" lang="en-US" sz="3400" spc="-1" strike="noStrike">
              <a:solidFill>
                <a:srgbClr val="000000"/>
              </a:solidFill>
              <a:latin typeface="Arial"/>
            </a:endParaRPr>
          </a:p>
          <a:p>
            <a:pPr lvl="1" marL="952560" indent="-495360">
              <a:spcBef>
                <a:spcPts val="850"/>
              </a:spcBef>
              <a:buClr>
                <a:srgbClr val="cc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Controlli….</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A5A4282-F159-415A-823B-28F61FE08F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infermiere vs. equipe</a:t>
            </a:r>
            <a:endParaRPr b="0" lang="en-US" sz="4200" spc="-1" strike="noStrike">
              <a:solidFill>
                <a:srgbClr val="cc0000"/>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Arial"/>
              </a:rPr>
              <a:t>Contrasto di idee:</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ontrasto prolungato di idee e opinioni </a:t>
            </a:r>
            <a:endParaRPr b="0" lang="en-US" sz="3600" spc="-1" strike="noStrike">
              <a:solidFill>
                <a:srgbClr val="000000"/>
              </a:solidFill>
              <a:latin typeface="Arial"/>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o</a:t>
            </a:r>
            <a:endParaRPr b="0" lang="en-US" sz="3600" spc="-1" strike="noStrike">
              <a:solidFill>
                <a:srgbClr val="000000"/>
              </a:solidFill>
              <a:latin typeface="Arial"/>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3600" spc="-1" strike="noStrike" u="sng">
                <a:solidFill>
                  <a:srgbClr val="000000"/>
                </a:solidFill>
                <a:uFillTx/>
                <a:latin typeface="Arial"/>
              </a:rPr>
              <a:t>Contrasto di Competenze:</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ontrasto tra professioni diverse che lavorano nello stesso settor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98B0F1B-57D5-4B2D-80F5-1619A62EF3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infermiere vs. equipe</a:t>
            </a:r>
            <a:endParaRPr b="0" lang="en-US" sz="4200" spc="-1" strike="noStrike">
              <a:solidFill>
                <a:srgbClr val="cc0000"/>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 filosofia dell’equipe</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inea teorica del servizio</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Metodologie o protocolli applicati</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734A97FA-7E95-4FA3-B032-21C9CA4D2E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Il conflitto: infermiere vs. infermiere</a:t>
            </a:r>
            <a:endParaRPr b="0" lang="en-US" sz="3800" spc="-1" strike="noStrike">
              <a:solidFill>
                <a:srgbClr val="cc0000"/>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Gelosie professionali</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Rivendicare la propria identità</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deologie ed utopie differenti</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isogni di affermazione</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ifficoltà nella comunicazion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432E00D1-52B7-45E5-B3DC-159AC4525C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Il conflitto: infermiere vs. altri professionisti</a:t>
            </a:r>
            <a:endParaRPr b="0" lang="en-US" sz="3800" spc="-1" strike="noStrike">
              <a:solidFill>
                <a:srgbClr val="cc0000"/>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fficoltà a trovare confini chiari tra professioni diverse</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ncanza di protocolli che definiscano l’area d’intervento di ogni professionista </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ncanza di una linea d’intervento chiara all’interno del servizi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38DD9B3-B80A-4710-AE02-29897406B7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Competenza sociale</a:t>
            </a:r>
            <a:endParaRPr b="0" lang="en-US" sz="4200" spc="-1" strike="noStrike">
              <a:solidFill>
                <a:srgbClr val="cc0000"/>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personale;</a:t>
            </a: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l proprio ruolo;</a:t>
            </a: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i nostri utenti;</a:t>
            </a: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ll’ambiente in cui vivono;</a:t>
            </a: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ll’ambiente in cui operiamo</a:t>
            </a:r>
            <a:endParaRPr b="0" lang="en-US" sz="24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mbiente fisico (architettonico)</a:t>
            </a:r>
            <a:endParaRPr b="0" lang="en-US" sz="22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mbiente legislativo ( leggi, linee guida, protocolli…..);</a:t>
            </a:r>
            <a:endParaRPr b="0" lang="en-US" sz="22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l gruppo di lavoro</a:t>
            </a:r>
            <a:endParaRPr b="0" lang="en-US" sz="24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Responsabile (la sua filosofia sul servizio, i suoi obiettivi…)</a:t>
            </a:r>
            <a:endParaRPr b="0" lang="en-US" sz="22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ltre figure professionali (Medici, Psicologi, Assistenti Sociali, Educatori…)</a:t>
            </a:r>
            <a:endParaRPr b="0" lang="en-US" sz="22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 propri colleghi Assistenti Sanitari Infermieri, OS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4E553A5-0F1D-454F-B443-A3B982633D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e strategie, per gestire i conflitti</a:t>
            </a:r>
            <a:endParaRPr b="0" lang="en-US" sz="4200" spc="-1" strike="noStrike">
              <a:solidFill>
                <a:srgbClr val="cc0000"/>
              </a:solidFill>
              <a:latin typeface="Times New Roman"/>
            </a:endParaRPr>
          </a:p>
        </p:txBody>
      </p:sp>
      <p:sp>
        <p:nvSpPr>
          <p:cNvPr id="164" name="PlaceHolder 2"/>
          <p:cNvSpPr>
            <a:spLocks noGrp="1"/>
          </p:cNvSpPr>
          <p:nvPr>
            <p:ph/>
          </p:nvPr>
        </p:nvSpPr>
        <p:spPr>
          <a:xfrm>
            <a:off x="914040" y="1599840"/>
            <a:ext cx="6172200" cy="45306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ssere assertivi</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L’idea dell’assertività nasce nel ‘49 da Salter e nel ’50 da Wolpe, vi è stato poi un lavoro di altri autori che l’hanno utilizzata nel </a:t>
            </a:r>
            <a:r>
              <a:rPr b="1" i="1" lang="it-IT" sz="2400" spc="-1" strike="noStrike">
                <a:solidFill>
                  <a:srgbClr val="000000"/>
                </a:solidFill>
                <a:latin typeface="Arial"/>
              </a:rPr>
              <a:t>filone Clinico </a:t>
            </a:r>
            <a:r>
              <a:rPr b="0" i="1" lang="it-IT" sz="2400" spc="-1" strike="noStrike">
                <a:solidFill>
                  <a:srgbClr val="000000"/>
                </a:solidFill>
                <a:latin typeface="Arial"/>
              </a:rPr>
              <a:t>(nella pratica psicoterapeutica) e nel </a:t>
            </a:r>
            <a:r>
              <a:rPr b="1" i="1" lang="it-IT" sz="2400" spc="-1" strike="noStrike">
                <a:solidFill>
                  <a:srgbClr val="000000"/>
                </a:solidFill>
                <a:latin typeface="Arial"/>
              </a:rPr>
              <a:t>filone Educativo </a:t>
            </a:r>
            <a:r>
              <a:rPr b="0" i="1" lang="it-IT" sz="2400" spc="-1" strike="noStrike">
                <a:solidFill>
                  <a:srgbClr val="000000"/>
                </a:solidFill>
                <a:latin typeface="Arial"/>
              </a:rPr>
              <a:t>(scuola, mondo del lavoro).</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Solo in questi ultimi anni è arrivata in Italia, ed è usata nel mondo della scuola per nuovi modelli educativi, e nel mondo del lavoro per la formazione di équipe sul lavoro collaborativ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94BA047-14C0-4C58-8EA0-B982354F87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assertività</a:t>
            </a:r>
            <a:endParaRPr b="0" lang="en-US" sz="4200" spc="-1" strike="noStrike">
              <a:solidFill>
                <a:srgbClr val="cc0000"/>
              </a:solidFill>
              <a:latin typeface="Times New Roman"/>
            </a:endParaRPr>
          </a:p>
        </p:txBody>
      </p:sp>
      <p:sp>
        <p:nvSpPr>
          <p:cNvPr id="166"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ssertività può essere definita come lo stile comunicativo che caratterizza un individuo </a:t>
            </a:r>
            <a:r>
              <a:rPr b="1" lang="it-IT" sz="2800" spc="-1" strike="noStrike">
                <a:solidFill>
                  <a:srgbClr val="000000"/>
                </a:solidFill>
                <a:latin typeface="Arial"/>
              </a:rPr>
              <a:t>socievole, sicuro di sé e aperto al confronto.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ondotta assertiva rimuove gli ostacoli che impediscono il contatto con gli altri e minimizza i rischi di incomprension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D057802-1F21-4A2D-8F57-309D898E08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assertività</a:t>
            </a:r>
            <a:endParaRPr b="0" lang="en-US" sz="4200" spc="-1" strike="noStrike">
              <a:solidFill>
                <a:srgbClr val="cc0000"/>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persona assertiva sa</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mprendere gli altri e rispettarli;</a:t>
            </a:r>
            <a:endParaRPr b="0" lang="en-US" sz="2200" spc="-1" strike="noStrike">
              <a:solidFill>
                <a:srgbClr val="000000"/>
              </a:solidFill>
              <a:latin typeface="Arial"/>
            </a:endParaRPr>
          </a:p>
          <a:p>
            <a:pPr lvl="1" marL="743040" indent="-285840">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E’ in grado di salvaguardare i propri diritti.</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Un comportamento assertivo promuove l’uguaglianza nei rapporti umani, mettendoci in grado di agire nel nostro migliore interesse, di difenderci senza ansia, di esprimere con facilità e onestà le nostre sensazioni, di esercitare i nostri diritti senza negare quelli degli altr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berti ed Emmons 1999)</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FA58D0-F72D-4F84-A12C-9620C6A9AF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 numeri</a:t>
            </a:r>
            <a:endParaRPr b="0" lang="en-US" sz="4200" spc="-1" strike="noStrike">
              <a:solidFill>
                <a:srgbClr val="cc0000"/>
              </a:solidFill>
              <a:latin typeface="Times New Roman"/>
            </a:endParaRPr>
          </a:p>
        </p:txBody>
      </p:sp>
      <p:graphicFrame>
        <p:nvGraphicFramePr>
          <p:cNvPr id="109" name=""/>
          <p:cNvGraphicFramePr/>
          <p:nvPr/>
        </p:nvGraphicFramePr>
        <p:xfrm>
          <a:off x="706320" y="1600200"/>
          <a:ext cx="8437680" cy="4594320"/>
        </p:xfrm>
        <a:graphic>
          <a:graphicData uri="http://schemas.openxmlformats.org/presentationml/2006/ole">
            <p:oleObj progId="Excel.Sheet.12" r:id="rId1" spid="">
              <p:embed/>
              <p:pic>
                <p:nvPicPr>
                  <p:cNvPr id="110" name="" descr=""/>
                  <p:cNvPicPr/>
                  <p:nvPr/>
                </p:nvPicPr>
                <p:blipFill>
                  <a:blip r:embed="rId2"/>
                  <a:stretch/>
                </p:blipFill>
                <p:spPr>
                  <a:xfrm>
                    <a:off x="706320" y="1600200"/>
                    <a:ext cx="8437680" cy="4594320"/>
                  </a:xfrm>
                  <a:prstGeom prst="rect">
                    <a:avLst/>
                  </a:prstGeom>
                  <a:ln w="0">
                    <a:noFill/>
                  </a:ln>
                </p:spPr>
              </p:pic>
            </p:oleObj>
          </a:graphicData>
        </a:graphic>
      </p:graphicFrame>
      <p:sp>
        <p:nvSpPr>
          <p:cNvPr id="3" name="PlaceHolder 2"/>
          <p:cNvSpPr>
            <a:spLocks noGrp="1"/>
          </p:cNvSpPr>
          <p:nvPr>
            <p:ph type="sldNum" idx="3"/>
          </p:nvPr>
        </p:nvSpPr>
        <p:spPr/>
        <p:txBody>
          <a:bodyPr/>
          <a:p>
            <a:fld id="{83D338C5-3C91-4FB8-A84D-96A2C94772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assertività</a:t>
            </a:r>
            <a:endParaRPr b="0" lang="en-US" sz="4200" spc="-1" strike="noStrike">
              <a:solidFill>
                <a:srgbClr val="cc0000"/>
              </a:solidFill>
              <a:latin typeface="Times New Roman"/>
            </a:endParaRPr>
          </a:p>
        </p:txBody>
      </p:sp>
      <p:sp>
        <p:nvSpPr>
          <p:cNvPr id="170" name="PlaceHolder 2"/>
          <p:cNvSpPr>
            <a:spLocks noGrp="1"/>
          </p:cNvSpPr>
          <p:nvPr>
            <p:ph/>
          </p:nvPr>
        </p:nvSpPr>
        <p:spPr>
          <a:xfrm>
            <a:off x="914040" y="1599840"/>
            <a:ext cx="7467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ove si pone la persona assertiva?</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persona assertiva si pone tra due tipologie di stili comunicativi e relazional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Fra la persona </a:t>
            </a:r>
            <a:r>
              <a:rPr b="1" lang="it-IT" sz="3600" spc="-1" strike="noStrike">
                <a:solidFill>
                  <a:srgbClr val="000000"/>
                </a:solidFill>
                <a:latin typeface="Arial"/>
              </a:rPr>
              <a:t>passiva</a:t>
            </a:r>
            <a:r>
              <a:rPr b="0" lang="it-IT" sz="3600" spc="-1" strike="noStrike">
                <a:solidFill>
                  <a:srgbClr val="000000"/>
                </a:solidFill>
                <a:latin typeface="Arial"/>
              </a:rPr>
              <a:t> e la persona </a:t>
            </a:r>
            <a:r>
              <a:rPr b="1" lang="it-IT" sz="3600" spc="-1" strike="noStrike">
                <a:solidFill>
                  <a:srgbClr val="000000"/>
                </a:solidFill>
                <a:latin typeface="Arial"/>
              </a:rPr>
              <a:t>aggressiv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1A9260CB-5EF4-44FB-8CA0-C7F1F6594C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Persona passiva:</a:t>
            </a:r>
            <a:endParaRPr b="0" lang="en-US" sz="4200" spc="-1" strike="noStrike">
              <a:solidFill>
                <a:srgbClr val="cc0000"/>
              </a:solidFill>
              <a:latin typeface="Times New Roman"/>
            </a:endParaRPr>
          </a:p>
        </p:txBody>
      </p:sp>
      <p:graphicFrame>
        <p:nvGraphicFramePr>
          <p:cNvPr id="172" name=""/>
          <p:cNvGraphicFramePr/>
          <p:nvPr/>
        </p:nvGraphicFramePr>
        <p:xfrm>
          <a:off x="900000" y="2060640"/>
          <a:ext cx="7772400" cy="4010040"/>
        </p:xfrm>
        <a:graphic>
          <a:graphicData uri="http://schemas.openxmlformats.org/drawingml/2006/table">
            <a:tbl>
              <a:tblPr/>
              <a:tblGrid>
                <a:gridCol w="3370320"/>
                <a:gridCol w="4402080"/>
              </a:tblGrid>
              <a:tr h="82548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Emozion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sso prova rabbia “repressa”. Ha paura.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264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mportament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ga, scarso coinvolgimento. A volte manipola gli altri.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192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ensier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nsieri di colpa e di svalutazione. Si autoesamina duramente e collega il suo valore di essere umano alla qualità delle sue prestazion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6864121-949A-46BF-B62C-961B14F389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Persona aggressiva:</a:t>
            </a:r>
            <a:endParaRPr b="0" lang="en-US" sz="4200" spc="-1" strike="noStrike">
              <a:solidFill>
                <a:srgbClr val="cc0000"/>
              </a:solidFill>
              <a:latin typeface="Times New Roman"/>
            </a:endParaRPr>
          </a:p>
        </p:txBody>
      </p:sp>
      <p:graphicFrame>
        <p:nvGraphicFramePr>
          <p:cNvPr id="174" name=""/>
          <p:cNvGraphicFramePr/>
          <p:nvPr/>
        </p:nvGraphicFramePr>
        <p:xfrm>
          <a:off x="900000" y="2060640"/>
          <a:ext cx="7772400" cy="4295880"/>
        </p:xfrm>
        <a:graphic>
          <a:graphicData uri="http://schemas.openxmlformats.org/drawingml/2006/table">
            <a:tbl>
              <a:tblPr/>
              <a:tblGrid>
                <a:gridCol w="3370320"/>
                <a:gridCol w="4402080"/>
              </a:tblGrid>
              <a:tr h="82548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Emozion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va spesso rabbia “esplosiva” e risentimento.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mportament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acca verbalmente e fisicamente l’interlocutore, è esageratamente competitivo. Invade lo spazio altrui.</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2348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ensier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nsa che “o si attacca o si viene attaccati”. A volte Si sente in colpa dopo essere stato aggressivo. Collega il suo valore di essere umano ai risultati che riesce ad ottener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DC1EB75-38FC-4731-B459-076DAFD527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Persona assertiva:</a:t>
            </a:r>
            <a:endParaRPr b="0" lang="en-US" sz="4200" spc="-1" strike="noStrike">
              <a:solidFill>
                <a:srgbClr val="cc0000"/>
              </a:solidFill>
              <a:latin typeface="Times New Roman"/>
            </a:endParaRPr>
          </a:p>
        </p:txBody>
      </p:sp>
      <p:graphicFrame>
        <p:nvGraphicFramePr>
          <p:cNvPr id="176" name=""/>
          <p:cNvGraphicFramePr/>
          <p:nvPr/>
        </p:nvGraphicFramePr>
        <p:xfrm>
          <a:off x="914400" y="1752480"/>
          <a:ext cx="7772400" cy="4573440"/>
        </p:xfrm>
        <a:graphic>
          <a:graphicData uri="http://schemas.openxmlformats.org/drawingml/2006/table">
            <a:tbl>
              <a:tblPr/>
              <a:tblGrid>
                <a:gridCol w="3370320"/>
                <a:gridCol w="4402080"/>
              </a:tblGrid>
              <a:tr h="155700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Emozion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va emozioni in modo misurato ed è in grado di controllarle attraverso i pensieri e i comportamenti.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12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mportament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erca il contatto con l’altro, ma sempre in modo da rispettare lo spazio altrui.</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732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ensier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nsieri di autostima. E’ consapevole che ogni essere vivente va rispettato in quanto tale e non sulla base delle sue prestazioni.</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47C4E64-D350-481C-AED9-B8D27FDAFA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Persona assertiva: livello cognitivo-verbale</a:t>
            </a:r>
            <a:endParaRPr b="0" lang="en-US" sz="3800" spc="-1" strike="noStrike">
              <a:solidFill>
                <a:srgbClr val="cc0000"/>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unicazione chiara e diretta.</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prime onestamente le sue opinioni e sensazioni.</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manipolativo.</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erca di comprendere il messaggio dell’interlocutore.</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non comprende chiede chiariment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050B0F1-6195-455A-B1B8-DDC8BDD082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Persona assertiva: livello comportamentale</a:t>
            </a:r>
            <a:endParaRPr b="0" lang="en-US" sz="3800" spc="-1" strike="noStrike">
              <a:solidFill>
                <a:srgbClr val="cc0000"/>
              </a:solidFill>
              <a:latin typeface="Times New Roman"/>
            </a:endParaRPr>
          </a:p>
        </p:txBody>
      </p:sp>
      <p:sp>
        <p:nvSpPr>
          <p:cNvPr id="180" name="PlaceHolder 2"/>
          <p:cNvSpPr>
            <a:spLocks noGrp="1"/>
          </p:cNvSpPr>
          <p:nvPr>
            <p:ph/>
          </p:nvPr>
        </p:nvSpPr>
        <p:spPr>
          <a:xfrm>
            <a:off x="761760" y="1904760"/>
            <a:ext cx="7924680" cy="4530600"/>
          </a:xfrm>
          <a:prstGeom prst="rect">
            <a:avLst/>
          </a:prstGeom>
          <a:noFill/>
          <a:ln w="0">
            <a:noFill/>
          </a:ln>
        </p:spPr>
        <p:txBody>
          <a:bodyPr lIns="90000" rIns="90000" tIns="46800" bIns="46800" anchor="t">
            <a:normAutofit/>
          </a:bodyPr>
          <a:p>
            <a:pPr marL="343080" indent="-343080">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Postura eretta.</a:t>
            </a:r>
            <a:endParaRPr b="0" lang="en-US" sz="4000" spc="-1" strike="noStrike">
              <a:solidFill>
                <a:srgbClr val="000000"/>
              </a:solidFill>
              <a:latin typeface="Arial"/>
            </a:endParaRPr>
          </a:p>
          <a:p>
            <a:pPr marL="343080" indent="-343080">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l corpo è rivolto verso l’interlocutore.</a:t>
            </a:r>
            <a:endParaRPr b="0" lang="en-US" sz="4000" spc="-1" strike="noStrike">
              <a:solidFill>
                <a:srgbClr val="000000"/>
              </a:solidFill>
              <a:latin typeface="Arial"/>
            </a:endParaRPr>
          </a:p>
          <a:p>
            <a:pPr marL="343080" indent="-343080">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 comporta in modo da rispettare l’altro.</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4E5FCF80-262B-4C5D-A870-A8AD43BAE4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Persona assertiva: livello fisiologico</a:t>
            </a:r>
            <a:endParaRPr b="0" lang="en-US" sz="3800" spc="-1" strike="noStrike">
              <a:solidFill>
                <a:srgbClr val="cc0000"/>
              </a:solidFill>
              <a:latin typeface="Times New Roman"/>
            </a:endParaRPr>
          </a:p>
        </p:txBody>
      </p:sp>
      <p:sp>
        <p:nvSpPr>
          <p:cNvPr id="182"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enza di segnali d’ansia, quali battito cardiaco accelerato, sudorazione, tremori ecc.</a:t>
            </a:r>
            <a:endParaRPr b="0" lang="en-US" sz="3200" spc="-1" strike="noStrike">
              <a:solidFill>
                <a:srgbClr val="000000"/>
              </a:solidFill>
              <a:latin typeface="Arial"/>
            </a:endParaRPr>
          </a:p>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n teme di esprimere dubbi e di fare richieste.</a:t>
            </a:r>
            <a:endParaRPr b="0" lang="en-US" sz="3200" spc="-1" strike="noStrike">
              <a:solidFill>
                <a:srgbClr val="000000"/>
              </a:solidFill>
              <a:latin typeface="Arial"/>
            </a:endParaRPr>
          </a:p>
          <a:p>
            <a:pPr marL="343080" indent="-343080">
              <a:spcBef>
                <a:spcPts val="75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imane tranquillo anche in situazioni ansiogene</a:t>
            </a:r>
            <a:r>
              <a:rPr b="0" lang="it-IT"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DE586A5-8A9F-456E-82A9-A229252F1A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avoro per gestire lo stress</a:t>
            </a:r>
            <a:endParaRPr b="0" lang="en-US" sz="4200" spc="-1" strike="noStrike">
              <a:solidFill>
                <a:srgbClr val="cc0000"/>
              </a:solidFill>
              <a:latin typeface="Times New Roman"/>
            </a:endParaRPr>
          </a:p>
        </p:txBody>
      </p:sp>
      <p:sp>
        <p:nvSpPr>
          <p:cNvPr id="18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conosci e analizza le cause</a:t>
            </a:r>
            <a:endParaRPr b="0" lang="en-US" sz="28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sidera le cause dello stress in una prospettiva corretta  e proficua</a:t>
            </a:r>
            <a:endParaRPr b="0" lang="en-US" sz="2800" spc="-1" strike="noStrike">
              <a:solidFill>
                <a:srgbClr val="000000"/>
              </a:solidFill>
              <a:latin typeface="Arial"/>
            </a:endParaRPr>
          </a:p>
          <a:p>
            <a:pPr lvl="1" marL="743040" indent="-285840">
              <a:lnSpc>
                <a:spcPct val="90000"/>
              </a:lnSpc>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ause per le quali c’è rimedio</a:t>
            </a:r>
            <a:endParaRPr b="0" lang="en-US" sz="2600" spc="-1" strike="noStrike">
              <a:solidFill>
                <a:srgbClr val="000000"/>
              </a:solidFill>
              <a:latin typeface="Arial"/>
            </a:endParaRPr>
          </a:p>
          <a:p>
            <a:pPr lvl="1" marL="743040" indent="-285840">
              <a:lnSpc>
                <a:spcPct val="90000"/>
              </a:lnSpc>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ause senza rimedio</a:t>
            </a:r>
            <a:endParaRPr b="0" lang="en-US" sz="2600" spc="-1" strike="noStrike">
              <a:solidFill>
                <a:srgbClr val="000000"/>
              </a:solidFill>
              <a:latin typeface="Arial"/>
            </a:endParaRPr>
          </a:p>
          <a:p>
            <a:pPr lvl="1" marL="743040" indent="-285840">
              <a:lnSpc>
                <a:spcPct val="90000"/>
              </a:lnSpc>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ause per le quali c’è bisogno dell’aiuto di un altro;</a:t>
            </a:r>
            <a:endParaRPr b="0" lang="en-US" sz="26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vitare di coltivare pensieri e fantasie negative (dubbi, preoccupazioni, paure)</a:t>
            </a:r>
            <a:endParaRPr b="0" lang="en-US" sz="28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ercare il lato costruttivo di tutte le co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B162C7-16FF-4ACE-ADE7-5508135240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avoro per gestire lo stress</a:t>
            </a:r>
            <a:endParaRPr b="0" lang="en-US" sz="4200" spc="-1" strike="noStrike">
              <a:solidFill>
                <a:srgbClr val="cc0000"/>
              </a:solidFill>
              <a:latin typeface="Times New Roman"/>
            </a:endParaRPr>
          </a:p>
        </p:txBody>
      </p:sp>
      <p:sp>
        <p:nvSpPr>
          <p:cNvPr id="1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tenere una buona condizione fisica:</a:t>
            </a:r>
            <a:endParaRPr b="0" lang="en-US" sz="28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Un adeguato riposo</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limentazione sana e regolar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Tecniche di rilassamento</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ntrollo della respirazion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Recupero del contatto e dell’ascolto del proprio corpo</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essualità gratificant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ncedersi un breve intervallo di ripos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AAD26A6-FB8E-4032-9BB3-ADE0419244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avoro per gestire lo stress</a:t>
            </a:r>
            <a:endParaRPr b="0" lang="en-US" sz="4200" spc="-1" strike="noStrike">
              <a:solidFill>
                <a:srgbClr val="cc0000"/>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apporti interpersonali nutrienti</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uona organizzazione personale:</a:t>
            </a:r>
            <a:endParaRPr b="0" lang="en-US" sz="28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tabilisci obiettivi e fissa priorità</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mpila tutti i giorni una lista di cose da far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mincia da A e non da C</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hiediti spesso. “Qual è l’uso del mio tempo in questo momento?”</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e cominci una cosa, portala a termin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Non procrastinar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75B084E-B275-41BD-98E3-5F98A78DC3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Rapporto utenti in terapia/infermieri</a:t>
            </a:r>
            <a:endParaRPr b="0" lang="en-US" sz="3800" spc="-1" strike="noStrike">
              <a:solidFill>
                <a:srgbClr val="cc0000"/>
              </a:solidFill>
              <a:latin typeface="Times New Roman"/>
            </a:endParaRPr>
          </a:p>
        </p:txBody>
      </p:sp>
      <p:graphicFrame>
        <p:nvGraphicFramePr>
          <p:cNvPr id="112" name=""/>
          <p:cNvGraphicFramePr/>
          <p:nvPr/>
        </p:nvGraphicFramePr>
        <p:xfrm>
          <a:off x="609480" y="1600200"/>
          <a:ext cx="8534520" cy="4583160"/>
        </p:xfrm>
        <a:graphic>
          <a:graphicData uri="http://schemas.openxmlformats.org/presentationml/2006/ole">
            <p:oleObj progId="Excel.Sheet.12" r:id="rId1" spid="">
              <p:embed/>
              <p:pic>
                <p:nvPicPr>
                  <p:cNvPr id="113" name="" descr=""/>
                  <p:cNvPicPr/>
                  <p:nvPr/>
                </p:nvPicPr>
                <p:blipFill>
                  <a:blip r:embed="rId2"/>
                  <a:stretch/>
                </p:blipFill>
                <p:spPr>
                  <a:xfrm>
                    <a:off x="609480" y="1600200"/>
                    <a:ext cx="8534520" cy="4583160"/>
                  </a:xfrm>
                  <a:prstGeom prst="rect">
                    <a:avLst/>
                  </a:prstGeom>
                  <a:ln w="0">
                    <a:noFill/>
                  </a:ln>
                </p:spPr>
              </p:pic>
            </p:oleObj>
          </a:graphicData>
        </a:graphic>
      </p:graphicFrame>
      <p:sp>
        <p:nvSpPr>
          <p:cNvPr id="3" name="PlaceHolder 2"/>
          <p:cNvSpPr>
            <a:spLocks noGrp="1"/>
          </p:cNvSpPr>
          <p:nvPr>
            <p:ph type="sldNum" idx="3"/>
          </p:nvPr>
        </p:nvSpPr>
        <p:spPr/>
        <p:txBody>
          <a:bodyPr/>
          <a:p>
            <a:fld id="{23868494-AFC8-4E39-A8D7-48C5E6B51AA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Ascolto attivo</a:t>
            </a:r>
            <a:endParaRPr b="0" lang="en-US" sz="4200" spc="-1" strike="noStrike">
              <a:solidFill>
                <a:srgbClr val="cc0000"/>
              </a:solidFill>
              <a:latin typeface="Times New Roman"/>
            </a:endParaRPr>
          </a:p>
        </p:txBody>
      </p:sp>
      <p:sp>
        <p:nvSpPr>
          <p:cNvPr id="190"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Formulare domande apert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domande alle quali non si può rispondere sbrigativamente o con un si/no e, quindi, incoraggiano l’interlocutore a parlare e a rappresentare la propria situazion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aticare l’ascolto riflessivo</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scolto riflessivo è la comunicazione di una ragionevole supposizione sul significato delle parole del cliente, restituita dall’operatore </a:t>
            </a:r>
            <a:r>
              <a:rPr b="1" lang="it-IT" sz="2400" spc="-1" strike="noStrike" u="sng">
                <a:solidFill>
                  <a:srgbClr val="000000"/>
                </a:solidFill>
                <a:uFillTx/>
                <a:latin typeface="Arial"/>
              </a:rPr>
              <a:t>sotto forma di affermazio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839FB5-7028-4DAC-8B83-44C66B8A8B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Fare una critica</a:t>
            </a:r>
            <a:endParaRPr b="0" lang="en-US" sz="4200" spc="-1" strike="noStrike">
              <a:solidFill>
                <a:srgbClr val="cc0000"/>
              </a:solidFill>
              <a:latin typeface="Times New Roman"/>
            </a:endParaRPr>
          </a:p>
        </p:txBody>
      </p:sp>
      <p:sp>
        <p:nvSpPr>
          <p:cNvPr id="19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volgersi alla persona giusta.</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egliere se agire in privato o in pubblico.</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testare verbalmente o con la mimica.</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vitare umorismo di bassa lega e ironia.</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lasciare che il problema si consolidi.</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uovere una critica alla volta.</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domandare scu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AEDACE3-65CE-4DAB-90C7-32C42A7C41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Fare una critica</a:t>
            </a:r>
            <a:endParaRPr b="0" lang="en-US" sz="4200" spc="-1" strike="noStrike">
              <a:solidFill>
                <a:srgbClr val="cc0000"/>
              </a:solidFill>
              <a:latin typeface="Times New Roman"/>
            </a:endParaRPr>
          </a:p>
        </p:txBody>
      </p:sp>
      <p:sp>
        <p:nvSpPr>
          <p:cNvPr id="19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vitare l’uso di termini come “sempre” e “mai.”</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sere concreti e precisi.</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ttere in risalto l’aspetto positivo della cosa.</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scrivere le conseguenze negative dei problemi non risolti.</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rlare soprattutto del problema.</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pretendere l’impossibile.</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epararsi ed esercitars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FE9A1C-0007-4F9C-B771-983735D6A6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Ricevere una critica</a:t>
            </a:r>
            <a:endParaRPr b="0" lang="en-US" sz="4200" spc="-1" strike="noStrike">
              <a:solidFill>
                <a:srgbClr val="cc0000"/>
              </a:solidFill>
              <a:latin typeface="Times New Roman"/>
            </a:endParaRPr>
          </a:p>
        </p:txBody>
      </p:sp>
      <p:sp>
        <p:nvSpPr>
          <p:cNvPr id="19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evenir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scoltare con attenzion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fiutare le etichett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iedere spiegazioni concret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re ai fatti la giusta dimension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ettare l’inevitabil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dividuare il vero problema.</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B4E3B7-97DB-482C-9A70-5E25B25AEE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Bibliografia utilizzata e consigliata</a:t>
            </a:r>
            <a:endParaRPr b="0" lang="en-US" sz="4200" spc="-1" strike="noStrike">
              <a:solidFill>
                <a:srgbClr val="cc0000"/>
              </a:solidFill>
              <a:latin typeface="Times New Roman"/>
            </a:endParaRPr>
          </a:p>
        </p:txBody>
      </p:sp>
      <p:sp>
        <p:nvSpPr>
          <p:cNvPr id="198" name="PlaceHolder 2"/>
          <p:cNvSpPr>
            <a:spLocks noGrp="1"/>
          </p:cNvSpPr>
          <p:nvPr>
            <p:ph/>
          </p:nvPr>
        </p:nvSpPr>
        <p:spPr>
          <a:xfrm>
            <a:off x="914400" y="1557000"/>
            <a:ext cx="7772400" cy="482436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berti R., Emmons M. (1999), ne hai il diritto, Calderini Ed, Bologna</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essio Folcarelli “Educare all’assertività”art Psicologia e Scuola n°101 (2000); </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essio Folcarelli “Educare all’assertività”art Psicologia e Scuola n°102 (2000);</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niele Novara, “Conflitti”, rivista Italiana di ricerca e formazione psicopedagogica, Piacenza www.cppp.it</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ian Paolo G. e aavv art. CMC(Centre for Motivation &amp; Change)italia http.//digilander.iol/cmcitalia </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ller W. R., Rollnick S. “Il colloquio motivazionale” (1991) Ed EricKson, Trento</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trizia Rosso e AAVV. Appunti del  Corso LOGICOL S.R.L., Trieste</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uby L. Wesley, Rn, Ph D. “Modelli e teorie infermieristiche” (1993) Ed Summa, Padova</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homas Gordon, “Genitori Efficaci”,(1994) Ed La Meridiana, Bari</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ww.dronet.or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321645B-76B1-4943-B94E-69B270BE9EF0}"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Rapporto utenti in terapia/infermieri</a:t>
            </a:r>
            <a:endParaRPr b="0" lang="en-US" sz="3800" spc="-1" strike="noStrike">
              <a:solidFill>
                <a:srgbClr val="cc0000"/>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infermiere segue in media 32 utenti in terapia sostitutiva,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questi si aggiungono tutti gli utenti in carico per controlli urinari (art. 75 e 121) ed esami ematochimici, e tutti gli utenti in fase riabilitativa o in terapia antagonista, o pazienti con patologie correlate alla tossicodipendenza, Patent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8EC8041-B8A8-4766-BE77-78ADF6F562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Sensazione di sicurezza nei Ser.T. del Veneto</a:t>
            </a:r>
            <a:endParaRPr b="0" lang="en-US" sz="3800" spc="-1" strike="noStrike">
              <a:solidFill>
                <a:srgbClr val="cc0000"/>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i sono 5 Ser.T. del Veneto in cui non vi sono sistemi di sicurezza dove l’infermiere si sente sicuro, mentre vi sono dei Ser.T. in cui vi è il sistema di sicurezza ma l’infermiere che vi lavora percepisce insicurezz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4373039-6E8E-49B5-8C52-3E12F7C7E5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Sensazione di sicurezza nei Ser.T. del Veneto</a:t>
            </a:r>
            <a:endParaRPr b="0" lang="en-US" sz="3800" spc="-1" strike="noStrike">
              <a:solidFill>
                <a:srgbClr val="cc0000"/>
              </a:solidFill>
              <a:latin typeface="Times New Roman"/>
            </a:endParaRPr>
          </a:p>
        </p:txBody>
      </p:sp>
      <p:graphicFrame>
        <p:nvGraphicFramePr>
          <p:cNvPr id="119" name=""/>
          <p:cNvGraphicFramePr/>
          <p:nvPr/>
        </p:nvGraphicFramePr>
        <p:xfrm>
          <a:off x="914400" y="1936800"/>
          <a:ext cx="7772400" cy="3855960"/>
        </p:xfrm>
        <a:graphic>
          <a:graphicData uri="http://schemas.openxmlformats.org/presentationml/2006/ole">
            <p:oleObj progId="Excel.Sheet.12" r:id="rId1" spid="">
              <p:embed/>
              <p:pic>
                <p:nvPicPr>
                  <p:cNvPr id="120" name="" descr=""/>
                  <p:cNvPicPr/>
                  <p:nvPr/>
                </p:nvPicPr>
                <p:blipFill>
                  <a:blip r:embed="rId2"/>
                  <a:stretch/>
                </p:blipFill>
                <p:spPr>
                  <a:xfrm>
                    <a:off x="914400" y="1936800"/>
                    <a:ext cx="7772400" cy="3855960"/>
                  </a:xfrm>
                  <a:prstGeom prst="rect">
                    <a:avLst/>
                  </a:prstGeom>
                  <a:ln w="0">
                    <a:noFill/>
                  </a:ln>
                </p:spPr>
              </p:pic>
            </p:oleObj>
          </a:graphicData>
        </a:graphic>
      </p:graphicFrame>
      <p:sp>
        <p:nvSpPr>
          <p:cNvPr id="3" name="PlaceHolder 2"/>
          <p:cNvSpPr>
            <a:spLocks noGrp="1"/>
          </p:cNvSpPr>
          <p:nvPr>
            <p:ph type="sldNum" idx="3"/>
          </p:nvPr>
        </p:nvSpPr>
        <p:spPr/>
        <p:txBody>
          <a:bodyPr/>
          <a:p>
            <a:fld id="{51E4E4BB-E5AE-4163-9713-4A719316BF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Sensazione di sicurezza nei Ser.T. del Veneto</a:t>
            </a:r>
            <a:endParaRPr b="0" lang="en-US" sz="3800" spc="-1" strike="noStrike">
              <a:solidFill>
                <a:srgbClr val="cc0000"/>
              </a:solidFill>
              <a:latin typeface="Times New Roman"/>
            </a:endParaRPr>
          </a:p>
        </p:txBody>
      </p:sp>
      <p:graphicFrame>
        <p:nvGraphicFramePr>
          <p:cNvPr id="122" name=""/>
          <p:cNvGraphicFramePr/>
          <p:nvPr/>
        </p:nvGraphicFramePr>
        <p:xfrm>
          <a:off x="324000" y="2077920"/>
          <a:ext cx="8820000" cy="4375440"/>
        </p:xfrm>
        <a:graphic>
          <a:graphicData uri="http://schemas.openxmlformats.org/presentationml/2006/ole">
            <p:oleObj progId="Excel.Sheet.12" r:id="rId1" spid="">
              <p:embed/>
              <p:pic>
                <p:nvPicPr>
                  <p:cNvPr id="123" name="" descr=""/>
                  <p:cNvPicPr/>
                  <p:nvPr/>
                </p:nvPicPr>
                <p:blipFill>
                  <a:blip r:embed="rId2"/>
                  <a:stretch/>
                </p:blipFill>
                <p:spPr>
                  <a:xfrm>
                    <a:off x="324000" y="2077920"/>
                    <a:ext cx="8820000" cy="4375440"/>
                  </a:xfrm>
                  <a:prstGeom prst="rect">
                    <a:avLst/>
                  </a:prstGeom>
                  <a:ln w="0">
                    <a:noFill/>
                  </a:ln>
                </p:spPr>
              </p:pic>
            </p:oleObj>
          </a:graphicData>
        </a:graphic>
      </p:graphicFrame>
      <p:sp>
        <p:nvSpPr>
          <p:cNvPr id="124" name=""/>
          <p:cNvSpPr/>
          <p:nvPr/>
        </p:nvSpPr>
        <p:spPr>
          <a:xfrm>
            <a:off x="900000" y="1557360"/>
            <a:ext cx="756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Arial"/>
              </a:rPr>
              <a:t>Locali dotati di sistemi di sicurezz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88EF7C8-8046-4990-91EA-0C2D2B078E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Sensazione di sicurezza nei Ser.T. del Veneto</a:t>
            </a:r>
            <a:endParaRPr b="0" lang="en-US" sz="3800" spc="-1" strike="noStrike">
              <a:solidFill>
                <a:srgbClr val="cc0000"/>
              </a:solidFill>
              <a:latin typeface="Times New Roman"/>
            </a:endParaRPr>
          </a:p>
        </p:txBody>
      </p:sp>
      <p:graphicFrame>
        <p:nvGraphicFramePr>
          <p:cNvPr id="126" name=""/>
          <p:cNvGraphicFramePr/>
          <p:nvPr/>
        </p:nvGraphicFramePr>
        <p:xfrm>
          <a:off x="324000" y="2205000"/>
          <a:ext cx="8640720" cy="4286160"/>
        </p:xfrm>
        <a:graphic>
          <a:graphicData uri="http://schemas.openxmlformats.org/presentationml/2006/ole">
            <p:oleObj progId="Excel.Sheet.12" r:id="rId1" spid="">
              <p:embed/>
              <p:pic>
                <p:nvPicPr>
                  <p:cNvPr id="127" name="" descr=""/>
                  <p:cNvPicPr/>
                  <p:nvPr/>
                </p:nvPicPr>
                <p:blipFill>
                  <a:blip r:embed="rId2"/>
                  <a:stretch/>
                </p:blipFill>
                <p:spPr>
                  <a:xfrm>
                    <a:off x="324000" y="2205000"/>
                    <a:ext cx="8640720" cy="4286160"/>
                  </a:xfrm>
                  <a:prstGeom prst="rect">
                    <a:avLst/>
                  </a:prstGeom>
                  <a:ln w="0">
                    <a:noFill/>
                  </a:ln>
                </p:spPr>
              </p:pic>
            </p:oleObj>
          </a:graphicData>
        </a:graphic>
      </p:graphicFrame>
      <p:sp>
        <p:nvSpPr>
          <p:cNvPr id="128" name=""/>
          <p:cNvSpPr/>
          <p:nvPr/>
        </p:nvSpPr>
        <p:spPr>
          <a:xfrm>
            <a:off x="900000" y="1557360"/>
            <a:ext cx="756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Arial"/>
              </a:rPr>
              <a:t>Locali non dotati di sistemi di sicurezz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C200D29-0E4D-4E27-AA7D-CF78E3EACD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2T13:02:48Z</dcterms:created>
  <dc:creator>roby</dc:creator>
  <dc:description/>
  <dc:language>en-US</dc:language>
  <cp:lastModifiedBy>roby</cp:lastModifiedBy>
  <dcterms:modified xsi:type="dcterms:W3CDTF">2003-11-27T17:44:39Z</dcterms:modified>
  <cp:revision>37</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